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257-BF8B-4BA9-BE8F-8924A08F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C84-609D-492A-A61B-635342CD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0F6-BFD5-4ABB-A2A0-4C122118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F15-5393-4231-BA0B-DED34004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629-03BF-4C51-B58E-36647363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7C2-A93E-4393-8C4B-FAF38ED8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D42E-2AD7-4323-A1D6-61FB7C24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7DB1-17D8-4036-BD63-A14F4BB9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7F8-F107-472C-B71A-B6D54FAF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E46-D826-4B6B-98DE-6CC030E7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E46-D3C9-4DFF-8994-CC747972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814-51AB-4975-A930-8D58E2C7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4FDC-A583-4E6E-A3F5-90EBF4879DA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quirksmode.org/css/contents.html" TargetMode="External"/><Relationship Id="rId2" Type="http://schemas.openxmlformats.org/officeDocument/2006/relationships/hyperlink" Target="http://css-tricks.com/how-to-create-an-ie-only-stylesheet/" TargetMode="Externa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B467-0D90-43A1-A50A-E4048695631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tr B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10.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ss"/>
          <p:cNvPicPr/>
          <p:nvPr/>
        </p:nvPicPr>
        <p:blipFill>
          <a:blip r:embed="rId1"/>
          <a:stretch/>
        </p:blipFill>
        <p:spPr>
          <a:xfrm>
            <a:off x="2484360" y="1700280"/>
            <a:ext cx="40006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6AFA-2CC1-4BCC-80CE-3C8453D5163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šší přístupnost dokumen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důsledném dodržení zásad tvorby CSS dokumentů a oddělení obsahu a formy, je možné dosáhnout vysoké úrovně přístupnosti stráne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5962-8BC8-465D-BFC6-AC3F60AED81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ozdílné formátování pro různá výstupní mé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ribut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žnost vytvořit rozdílné formy prezentace dokumentu pro různá výstupní média, jakými jsou např. tiskárna, monitor počítače, screen reader, PDA, aj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94E1-BC0A-4F84-989D-F82F6EE4CD6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výhody 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lišná interpretace stylů v různých internetových prohlížečí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obtížné vytvořit kód kaskádových stylů tak, aby se v majoritních prohlížečích výsledek zobrazil shodn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to situace se poslední dobou zlepšuje zejména s nástupem nových verzí MS Internet Explor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790B-0E5F-49C3-8672-C2AF4EB4F06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pojení CSS a (X)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 4 způsoby, jak lze kaskádové styly na HTML dokument aplikov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to rozdílné způsoby zápisu mají také rozdílnou prioritu při jejich zobrazování prohlížečem (klien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yly, ovlivňující HTML dokument, mohou pocházet ze tří různých zdrojů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 auto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 uživat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 výchozího nastavení klien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06F3-838C-4F7B-9D81-9B11C5B9EAE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pojení CSS a (X)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utor (tvůrce dokumentu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pecifikuje kaskádové styly několika způsoby přímo na HTML doku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Uživate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i v některých prohlížečích může zvolit své vlastní styly. Je možné připojit vlastní soubor se styly nebo nastavit některé vlastnosti internetového prohlížeč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ždý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rnetový prohlížeč (tzv. klient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á definovánu vlastní výchozí tabulku sty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F243-27A7-49F7-8087-58C3DFDD2B1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pojení CSS a (X)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yly autora mají, kromě některých výjimek, větší váhu než styly uživate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yly autora i uživatele mají vždy větší váhu než je výchozí styl klienta, tedy internetového prohlížeč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18ED-1EF9-4704-896A-B435D2A1D1C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ožnosti aplikace stylů na HTML dok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xterní šablony sty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link rel=”stylesheet” type=”text/css” href=”style.css” media=“all“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@import url(style.cs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ablony stylů na úrovni doku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yl definovaný v hlavičce HTML doku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ádkový sty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C703-B3AC-4F20-BC8F-55D224F0080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xterní šablony sty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ssconcepts"/>
          <p:cNvPicPr/>
          <p:nvPr/>
        </p:nvPicPr>
        <p:blipFill>
          <a:blip r:embed="rId1"/>
          <a:stretch/>
        </p:blipFill>
        <p:spPr>
          <a:xfrm>
            <a:off x="1763640" y="1197000"/>
            <a:ext cx="573084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8E79-750B-4CD5-8247-59425574A26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xterní šablony sty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title&gt;Stránka s externím stylopisem&lt;/title&gt;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&lt;link rel=”stylesheet” type=”text/css” href=”style.css” media=“all“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h1&gt;Nadpis webové stránky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p&gt;Odstavec webové strá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td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5057-4589-4031-8881-6A46C195ACB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tributy &lt;link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ref – určuje adresu URL externího souboru *.c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e – určuje typ obsahu (content-type) odkazovaného souboru a v tomto případě musí mít vždy hodnotu text/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l – určuje typ vazby dokumentu k externímu zdroji. V tomto případě musí mít hodnotu style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dia – určuje médium, pro které je stylový předpis určen. Tento atribut není povinný a jeho hodnotou je řetězec obsahující jeden či více deskriptorů mé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930F-9AA1-4949-A3E9-EDE0EFD715A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ožňují snadnější a přehlednější ovládání celkového vzhledu web 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skádové šablony (Style Sheets) zajišťují konzistenci a řád ve stylech prvků v celé kolekci dokumen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jišťují nejen běžné formátování (které se dříve zajišťovalo např. pomocí značky &lt;font&gt;), ale i celou řadu dalších ef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eší problémy při použití rozdílných druhů med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3448-DD7E-4B8C-AD6C-CE38B536D05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xterní šablony sty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ruhá metoda zavedení externí šablony stylů do dokumentu využívá speciální příkaz   (respektive tzv. „zavináčové“ anglicky „at-rule“) pravidlo import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&lt;style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&lt;!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@import url(style.c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--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oto pravidlo pro zavedení externí šablony musí být zapsáno před případným ostatním obsahem značky style, jak je popsáno dále, tedy například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tyle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!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import: url (http://kit.pef.czu.cz/styly/style.cs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dy {color: white; background-color: black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1 { color: green; font-size: 160%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97DC-4F5E-4BB4-B939-ECB5C42D208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Šablony stylů na úrovni doku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ička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&lt;style type="text/cs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/*styl psaný v jazyce CSS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1, h2, h3 { font-family:sans-serif; color:blue; border-bottom: 1px solid blue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3 { border-bottom-style: none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&lt;/sty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476E-E67C-4602-81C5-9165428BCDD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Šablony stylů na úrovni doku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ádkový sty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h1 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style=“color: green; font-size: 180%;“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ficiální stránky ČZU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45E5-29E0-4F58-8E3C-3F3A73B72BD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ntaxe 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vidlo definující styl se skládá ze tří základních část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elektor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rozhoduje o tom, ke kterým prvkům se pravidlo stylu vztah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vlastnost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– definuje, co je u selektoru nastavová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hodnota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– definuje, na jakou hodnotu je nastavena vlastnost daného selek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83B7-D4DF-40B0-AA7E-1CF9153F754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pis 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elekto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{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astnost1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hodnota1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lastnost2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hodnota2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td…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2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{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green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background-color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yellow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2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{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green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background-color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yellow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}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2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{</a:t>
            </a:r>
            <a:br>
              <a:rPr sz="2400"/>
            </a:b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green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background-color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yellow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}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obrazek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{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ckground-color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green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border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olid black 3px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AFEB-10AC-49DE-BA4A-36EBD567A1D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pis 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jednoduchost lze uvedenou syntaxi zapsat např. tak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elektor {barva pozadí: modrá; styl rámečku: plný; barva rámečku: červená; šířka rámečku: 2px; šířka: 200px; výška: 200px}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CSS by  tento příklad zapsán tak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urier New"/>
              </a:rPr>
              <a:t>selector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{background-color: blue; border-style: solid; border-color: red; border-width: 2px; width: 200px; height: 200px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C203-AAA1-49AE-A2A4-3AE7708B939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pis 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 případě, že by byl v části nazývané selektor uveden např. div, vypadal by výsledek zobrazený v internetovém prohlížeči zhruba tak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203640" y="2924280"/>
            <a:ext cx="2808360" cy="28083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E0B5-1E6C-44CB-85A9-AEA2C3114F1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to ale vlastně je selekto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lektor rozhoduje o tom, kterého či kterých HTML prvků se dotyčné CSS pravidlo týká a v důsledku jaká pravidla na tyto prvky budou uplatně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chází (až na výjimky) ze struktury HTML doku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8B71-916B-418B-91B5-118964670AD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elektor typu prvek (Typový selekto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á se o zřejmě nejjednodušší typ selektoru. Pravidlo CSS se vztahuje na všechny výskyty uvedeného prvku v HTM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h1 {color: blue; font-style: italic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01F3-16FC-40B6-8690-B27A7E76808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elektor typu prvek (Typový selekto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h1 {color: blue; font-style: italic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h2 {color: blue; font-style: italic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h3 {color: blue; font-style: italic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zkrá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h1, h2, h3 {color: blue; font-style: italic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1EA6-0B47-48E2-8F41-8DAF753822F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eb site bez 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SZL_noCSS"/>
          <p:cNvPicPr/>
          <p:nvPr/>
        </p:nvPicPr>
        <p:blipFill>
          <a:blip r:embed="rId1"/>
          <a:stretch/>
        </p:blipFill>
        <p:spPr>
          <a:xfrm>
            <a:off x="1116000" y="1197000"/>
            <a:ext cx="7202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489F-865B-4C7C-8F31-09991FD4A97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elektor typu prvek (Typový selekto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láštním druhem typového selektoru je tzv. univerzální selektor, který je uveden pomocí znaku *. Tento selektor se vztahuje na úplně všechny elementy HT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* {color: blue;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rva písma v celém dokumentu bude formátována na modr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D6D7-DBBD-47D1-A75D-DCC2E1E0568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lektor typu tř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ek na stránce je možné zařadit do určité tří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ívání tříd vyžaduje specifické formátování v HTML či XHTML a zároveň také v C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zdrojovém kódu HTML stránky lze zařadit prvek do třídy pomocí atribut class, jemuž je přiřazena hodnota “jméno třídy“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BFAF-B063-409E-9F81-F7A8F57D1AC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img 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class="obr_main"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src="images/rose_QE_small.jpg" alt="Queen Elisabet - detail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p 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class="tex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Rozárium ČZU je vybudováno ve stylu přírodního parku a slouží   především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praktickou výuku studentů všech studijních oborů České zemědělské univerzity v Praz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V průběhu času se rozárium stalo nejen důležitý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daktickým objektem, ale také oblíbeným místem pro návštěvníky, studenty i zaměstnance Č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V současnosti je zde umístěno více než 30 kultivarů a celkový počet rostlin přesahuje počtem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p 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class="nadpis_obr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Pohled na Rosárium ČZU z ptačí perspekti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img 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class="obr_main"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src="images/bird_view_small.jpg" alt="Rozárium z ptačí perspektivy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9812-1484-4E17-A676-0AB426E460F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lektor typu tř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isy tříd v CSS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ždy začínají tečk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za tečkou je uveden název tří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 jednotlivým HTML elementům (tagům) se připojují pomocí atributu cla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řídy se dále dělí na tzv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ické a regulárn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erická třída se může vtahovat k více HTML elementům a zapisuje se ve zdrojovém kódu CSS např. tak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.nadpis_ob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našem příkladu bude tato definice provedena u třídy s názvem “text“ a  “nadpis_obr“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roti tomu regulární třída je již vztažena k jednotlivému HTML elementu, který je uveden před tečkou, tedy např. tak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h2.nadpis_obr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A36E-55B2-43D0-8604-C1D7561EB6F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/* CSS Documen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.text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text-align: justif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width: 50%; /*šířka odstavce je nastavena na 50% šířky      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BODY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.nadpis_obr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font-size: 120%; /*zvětšení písma oproti běžnému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dstavci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olor: bla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rgin-bottom: 0px; /*snížení odsazení řádku*/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img.obr_main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width: 50%; /*změna šířky obrázku – stejně jako u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textu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eight: auto; /*výška je nastavena na automatické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opočítání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border: solid #8b4513 4px; /*nastavení ohraničení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rázku, aby byl blíže obrázku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A95B-4D81-42DD-A35D-9A2862E9323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lektor typu identifiká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1341360"/>
            <a:ext cx="914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div id=“header”&gt;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Toto je hlavička (záhlaví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div id=“main”&gt;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Hlavní DIV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div id=“footer”&gt;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Zápatí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3357720"/>
            <a:ext cx="89647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SS dokument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ody { padding-left: 11em; font-family: Georgia, "Times New Roman", Times, serif; color: purple; background-color: #d8da3d 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#header  {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ckground-col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26a45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#main  {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ition: absolute; top: 2em; left: 1em; width: 9e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#footer  {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ckground-color: whit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F009-903E-41E6-9476-CF0D5AF026E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Formátování HTML pomocí C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1341360"/>
            <a:ext cx="914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div id=“header”&gt;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Toto je hlavička (záhlaví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div id=“main”&gt;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Hlavní DIV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1&gt;Invitation to CSS, text is red&lt;/h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 class=“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modr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”&gt;This is main article about CSS, text is blue.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div id=“footer”&gt;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Zápatí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3645000"/>
            <a:ext cx="89647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SS dokument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ody { padding-left: 11em; font-family: Georgia, "Times New Roman", Times, serif; color: purple; background-color: #d8da3d 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#header  {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ol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26a45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#main  {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ition: absolute; top: 2em; left: 1em; width: 9e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1 {color: r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font-style: italic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d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color: blue} /*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drý 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#footer  {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ckground-color: whit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5C1D-38F7-4737-98B6-F76B0F529FB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sledník, potomek, sourozen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dard CSS umožňuje definovat styly i tak, aby se vztahovaly pouze ke značkám v určitém kontextu – např. pokud jsou vnořeny v jiných značká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extový selektor se vytváří tak, že je uveden seznam značek v pořadí, v jakém jsou v HTML dokumentu vnoře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livé značky jsou mezi sebou oddělovány mezer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ul li a  {font-family: arial;}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bude odkaz umístěn na jiném místě, než je tomu ve výše použité struktuře, bude formátován standardním způsob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45D8-6546-4050-ABC8-93DA53933D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seudotří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seudotřídy (s výjimkou :first-child) umožňují formátovat informace nad rámec HTML dokumen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příklad žádný prvek v HTML 4.01 ani XHTML 1.1 neodpovídá prvnímu řádku odstavce. Z toho důvodu na něj nelze aplikovat žádný z dříve uvedených selektorů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seudotříd je na výběr hned několik. Jsou to např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vis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ynamické pseudotřídy, které se mění v závislosti na akci uživa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h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a:link {color: red;} /*nenavštívený odkaz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a:visited {color: blue;} /*navštívený odkaz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a:hover {color: lime; text-decoration: none;} /*změna odkazu při přechodu myši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a:active {color: white; text-decoration: none;} /*aktivovaný odkaz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ímto zápisem je docíleno určité interaktivity dokumenty, kdy se např. při najetí myši na odkaz, tento odkaz přebarví na červenou barvu, bude tučný a nebude podtrž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120C-A86A-4017-8CA1-160D06C8146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seudoprv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ejně jako pseudotřídy, umožňují i pseudoprvky formátování dokumentu nad rámec struktury HTM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eudoprvky umožňují specifikovat některé prvky podrobněji, jedná se například o první znak či první řádek nějakého HTML prv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 některých případech dokonce umožňují přidávat text, který se ve zdrojovém dokumentu neviskytu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rozdíl od pseudotříd, které mohou být v selektorech uvedeny kdekoliv, pseudoprvky mohou být uvedeny pouze za subjektem selektor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 CSS2 zavádí čtyři speciální pseudoprvky, pomocí nichž lze definovat vztahy a styly pro jejich zobraz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first-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fist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924E-81C6-433E-BF16-3FBD3704FE1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eb site se sty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SZL_CSS"/>
          <p:cNvPicPr/>
          <p:nvPr/>
        </p:nvPicPr>
        <p:blipFill>
          <a:blip r:embed="rId1"/>
          <a:stretch/>
        </p:blipFill>
        <p:spPr>
          <a:xfrm>
            <a:off x="1116000" y="1197000"/>
            <a:ext cx="67914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4447-E0E9-4623-B62B-E052165EBD2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seudoprv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seudoprvky :before a :after umožňují vložit generovaný obsah pře a případně za uvedený obsah prv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seudoprvky :first-letter a :first-line umožňují, jak již název napovídá, formátování prvního písmene, respektive první řádky nějakého HTML prv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p.text:first-letter {font-size: 250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olor: #14008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nt-style: ital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nt-weight: bo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text-transform: upperc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6469-8740-488C-9138-33A6B743B52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dič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dičnost je při tvorbě kaskádových stylů často využívána, ale je definována pomocí 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řízený element přejímá formátování svého nadřazeného elemen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vlastnosti a jejich hodnoty se nedědí. Ve specifikaci CSS je tato skutečnost u každé vlastnosti definová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prohlížeče v dědičnosti chybují, kdy např. obsah tabulky nedědí nastavení body (těla dokumentu)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dičnost je velmi důležitá a její efektivní využívání může ušetřit mnoho práce při tvorbě a formátování webových strá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83E4-7314-44AC-A7DF-F86DD120391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zicování prv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ocí této vlastnosti lze určit jak se bude box (blok) chovat ke svému okolí nebo vzhledem k vlastnímu obsahu při umístění na strá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o základní pozice bez použití stylu je brán normální tok dokumentu. Normálním tokem se rozumí pozice, kterou určuje prohlížeč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spojení s vlastnostmi top, bottom, left a right a pomocí klíčových slov absolute, relative a fixed  lze měnit pozici box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9C7C-ACA4-4952-A338-A5F312103C3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zicování prv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tato možnost nemění umístění vzhledem k normálnímu toku dokumentu. Vše tedy zůstává stejné jako v  dokumentu, který nepoužívá css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bsolu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box je umístěn vzhledem ke svému bloku, pokud není v žádném bloku, tak je umisťován vzhledem k tělu dokumentu (body)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- box je umístěn relativně k pozici, kterou by získal, pokud byl formátován podle normálního toku. Každý další box je pak umisťován podle normálního toku, jako by nebyla pozice předešlého měněna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je obdobou absolute, s tím rozdílem, že při posunutí stránky v okně prohlížeče se neposouvá a zůstává na pozici, kde byl zobrazen při načtení dokumen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lastnost z-inde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- překrývání bloků – “třetí rozmě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rčuje úroveň v jaké vrstvě bude daný blok Hodnotou je kladné celé čí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ím vyšší číslo, tím je vrstva umístěna výše a tím spíš je viditelná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vrstva má označení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3E00-F29D-4169-B93A-EBBE881D0E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ravidla priority sty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yl definovaný blíže ke značce má přednost před vzdálenějším (největší váhu má atribut STYLE u elementu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osti definované jako třída mají větší váhu než obecné vlastnosti určitého element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osti konkrétnějších kontextových stylů mají přednost před méně konkrétním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e-li definováno více stylů, uplatní se pouze naposledy definovaný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Zástupný symbol pro číslo snímk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F8A3-947B-4308-9A20-DB3DF607263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tibilita v prohlížeč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quirksmode.org/css/conten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ss-tricks.com/how-to-create-an-ie-only-styleshe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&lt;!--[if IE 7]&gt;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elector { </a:t>
            </a: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property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}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&lt;![endif]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&lt;!--[if lt IE 6]&gt;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elector { </a:t>
            </a: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property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}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&lt;![endif]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&lt;!--[if gt IE 6]&gt;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elector { </a:t>
            </a: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property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}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&lt;![endif]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lt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= lower than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gt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= greater 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lte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= lower than or equal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gte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= greater than or eq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elector {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property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 IE&lt;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html selector { </a:t>
            </a: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property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 IE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elector  { </a:t>
            </a: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property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**/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 IE&gt;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html &gt; body selector { </a:t>
            </a: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property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 IE&gt;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ástupný symbol pro číslo snímk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A17B-25C8-4619-BD16-330E0E3574A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ychlejší načítání strán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SS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keš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a href=“#” style=“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color:red:font-size:14px;font-family:Arial;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”&gt;anchor tag&lt;/a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a href=“#” style=“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color:red:font-size:14px;font-family:Arial;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”&gt;anchor tag&lt;/a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a href=“#” style=“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color:red:font-size:14px;font-family:Arial;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”&gt;anchor tag&lt;/a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a href=“#” style=“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color:red:font-size:14px;font-family:Arial;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”&gt;anchor tag&lt;/a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a href=“#” style=“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color:red:font-size:14px;font-family:Arial;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”&gt;anchor tag&lt;/a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opakování více než 100x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 (</a:t>
            </a: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: E-shop </a:t>
            </a: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list produktů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a href=“#” class=“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anchor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”&gt;anchor tag&lt;/a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 anchor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color:red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font-size:14px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font-family:Arial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ástupný symbol pro číslo snímk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C922-B7BE-49E1-BBD0-2213C1A577B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pis bar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914400" y="162396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1897-402D-4059-A2CF-17439012B3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Vlastnosti pí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ožňují změnit vzhled písma (typ, tloušťku, velikost,..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nt-family (viz /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nt-style  (normal, italic, obli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nt-variant (small-caps, n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nt-weight (normal, bold, 100,...9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nt-size (20pt, percentage (15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5C0B-8594-4632-A0E1-889B1240F6F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Font-family obecné třídy pí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Seri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tandardní patkové písmo, nejčastěji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sans-seri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standardní bezpatkové písmo, obvykle Helvetica (A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cursiv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zdobné písmo v kurzivě, typicky Zapf_Chane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fantas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ornamentální písmo, obvykle We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monosp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neproporcionální písmo obvykle Cou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A28E-F8F2-4742-8284-764D12D7061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hody 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dělení obsahu a formy (vzhled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sáhlejší formátovací mož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ý vzhled všech webových strá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é ovládání vz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ormátování XML dokum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šší přístupnost dokum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dílné formátování pro různá 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ástupný symbol pro číslo snímk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15C7-D4D6-442A-A5EC-6047BC99943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í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fonty"/>
          <p:cNvPicPr/>
          <p:nvPr/>
        </p:nvPicPr>
        <p:blipFill>
          <a:blip r:embed="rId1"/>
          <a:stretch/>
        </p:blipFill>
        <p:spPr>
          <a:xfrm>
            <a:off x="914400" y="1828800"/>
            <a:ext cx="2971800" cy="144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5"/>
          <p:cNvGraphicFramePr/>
          <p:nvPr/>
        </p:nvGraphicFramePr>
        <p:xfrm>
          <a:off x="1295280" y="4038480"/>
          <a:ext cx="5973840" cy="674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4038480"/>
                    <a:ext cx="59738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557B-16A4-4F59-906E-444E4E99C1F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Vlastnosti pro barvy a poza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rvy – c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1  {color : rgb (100%,100%,10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adí -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ckground-col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ckground-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ckground-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ckground-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i. mramor  {background-image : url(pozadí/mramor.gif) }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3BE0-AAE3-40DD-90E3-8AC9107D092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Vlastnosti pro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ožňují zarovnání textu,  zvětšit nebo zmenšit mezery mezi písmeny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xt-align (left, right, center, justi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xt-decoration (none, underline, overline,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xt-transform (none, capitalize, upper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xt-indent (lenght, percent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e-spacing (len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e-height (normal, number, lenght, percent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1B5C-46E2-4371-BD08-D62132E4403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Vlastnosti pro obdélníky (boxy) a rozvrž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66688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oblasti boxu"/>
          <p:cNvPicPr/>
          <p:nvPr/>
        </p:nvPicPr>
        <p:blipFill>
          <a:blip r:embed="rId1"/>
          <a:stretch/>
        </p:blipFill>
        <p:spPr>
          <a:xfrm>
            <a:off x="1371600" y="2057400"/>
            <a:ext cx="66294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3539-EB17-4843-BF26-C93079BDBB2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SS vlastnosti pro b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ožňují specifikovat styl, barvu a šířku hrany rámeč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rder-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rder-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rder-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rder-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rder-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rder-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rder-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19D5-C068-4BEC-BAEF-755D229BF6E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SS vlastnosti pro mar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ožňují změnit horní, pravý, dolní i levý okraj nebo všechny okraje najed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rgin-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rgin-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rgin-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rgin-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r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64CA-8908-48E8-9F8C-D22A62E1C8D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SS vlastnosti pro pa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ožňují změnit vnitřní mezery v prv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dding-bottom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dding-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dding-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dding-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0CB4-E0A2-4595-8D2B-93F2DD276C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SS vlastnosti pro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ožňují nastavit umístění prvk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ition  static, absolute, 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-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C21C-A74B-47D3-A3DA-C8AD922115F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7563-D678-4F75-8378-93F9CE0BC6C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ddělení obsahu a formy (vzhled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linkedstylesheets"/>
          <p:cNvPicPr/>
          <p:nvPr/>
        </p:nvPicPr>
        <p:blipFill>
          <a:blip r:embed="rId1"/>
          <a:stretch/>
        </p:blipFill>
        <p:spPr>
          <a:xfrm>
            <a:off x="3143160" y="1197000"/>
            <a:ext cx="3427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A45D-BBC1-4250-9225-A2E62737FDE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ozsáhlejší formátovací mož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ž při velmi základním použití CSS např. při formátování tagu &lt;hr&gt; lze vybírat z 8 různých stylů čáry o libovolné síle a barvě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DCEB-D47F-4F02-A211-82F0AE92998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ednotný vzhled všech webových strán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mi snadno lze docílit jednotného vzhledu celého web s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správném dodržení formátování se pak změny CSS projeví na všech webových stránkách, které jsou tímto dokumentem formátován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. Havlíček, P. Benda, V. Lo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315B-79B9-48EA-95C2-B6CB04689C7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é ovládání vzhle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SS v kombinaci s technologií JavaScript či přímo samostatně umožňují na straně klienta dynamické změny stylu na webové strá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ze tak docílit vytvoření např. efektních menu či formulář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3:44:00Z</dcterms:created>
  <dc:creator>a</dc:creator>
  <dc:description/>
  <dc:language>en-US</dc:language>
  <cp:lastModifiedBy>a</cp:lastModifiedBy>
  <dcterms:modified xsi:type="dcterms:W3CDTF">2010-11-04T12:56:48Z</dcterms:modified>
  <cp:revision>41</cp:revision>
  <dc:subject/>
  <dc:title>Snímek 1</dc:title>
</cp:coreProperties>
</file>