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50D0-4931-42AD-8145-1EE06ED5BE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D68F-2532-4642-9C52-B8218B100148}" type="slidenum">
              <a:rPr b="0" lang="cs-CZ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FD61-7C4F-4696-83CF-92DC88C92E87}" type="slidenum">
              <a:rPr b="0" lang="cs-CZ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97EA-A7B1-4417-9AA7-DFA60E595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E928-FCB9-43DD-96EF-311E39EAF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3206-82A4-4339-B64E-B0DA8D1DB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0EF3-173C-43B7-923E-587FD2A47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B08-A656-4D40-8E83-A79E72D8F1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115-93B1-49E3-9808-9297449009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7DA-7B4E-46FF-9C55-C883D39F0B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F18-1886-4698-975C-D83BF30135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3F7-FE56-4B0E-A6CB-C5D5906299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7C6-9C03-4610-9ECD-04384BF651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E73-EC91-41A1-98E6-33023B73A4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332A-1045-4063-88FA-0CCDBF67D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C8D-6D9C-49B8-9F9F-CD23C7AA9A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845-C851-4D16-976E-B0B60AE0F6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ED3-B19B-458F-8B67-4A7DD854C1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119-F24E-40AB-9923-10C3EB79FD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CBD-920E-4314-A3DE-E7D32437D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C164-7607-457E-9390-A8B0C97D8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5B21-0602-4D09-938E-5420F3A9B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97EF-993A-4314-9EFA-51D48212B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7C17-C9CF-4770-994F-C6AF01E50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E9A7-B3CB-43AC-BA75-7F0A39061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138E-67A1-4574-A999-5216F26D9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A87F-366A-4DC6-8CE7-2284C1E65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E630-8A20-4405-B5C6-C7EB6A6ACCB9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0" descr="logo_DIT_modre"/>
          <p:cNvPicPr/>
          <p:nvPr/>
        </p:nvPicPr>
        <p:blipFill>
          <a:blip r:embed="rId6"/>
          <a:stretch/>
        </p:blipFill>
        <p:spPr>
          <a:xfrm>
            <a:off x="179280" y="5805360"/>
            <a:ext cx="881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50" name="Picture 14" descr="logo_DIT_modre"/>
          <p:cNvPicPr/>
          <p:nvPr/>
        </p:nvPicPr>
        <p:blipFill>
          <a:blip r:embed="rId5"/>
          <a:stretch/>
        </p:blipFill>
        <p:spPr>
          <a:xfrm>
            <a:off x="826920" y="5734080"/>
            <a:ext cx="978120" cy="100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E84D-5A8F-4FFE-B442-B6EF8B926C9C}" type="slidenum"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10F9-645D-4E87-8238-74BE3AE025C9}" type="slidenum"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e9"/>
                </a:solidFill>
                <a:latin typeface="Times New Roman"/>
              </a:rPr>
              <a:t>Značky (tags) HTML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Z. Havlíček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7632-1878-4855-8B7E-CD03F8464396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odorovný oddělovač</a:t>
            </a: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Horizontal Rule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2" name="Group 2074"/>
          <p:cNvGrpSpPr/>
          <p:nvPr/>
        </p:nvGrpSpPr>
        <p:grpSpPr>
          <a:xfrm>
            <a:off x="380880" y="2362320"/>
            <a:ext cx="8229240" cy="2146320"/>
            <a:chOff x="380880" y="2362320"/>
            <a:chExt cx="8229240" cy="2146320"/>
          </a:xfrm>
        </p:grpSpPr>
        <p:grpSp>
          <p:nvGrpSpPr>
            <p:cNvPr id="333" name="Group 2072"/>
            <p:cNvGrpSpPr/>
            <p:nvPr/>
          </p:nvGrpSpPr>
          <p:grpSpPr>
            <a:xfrm>
              <a:off x="387000" y="2365200"/>
              <a:ext cx="8215920" cy="2140200"/>
              <a:chOff x="387000" y="2365200"/>
              <a:chExt cx="8215920" cy="2140200"/>
            </a:xfrm>
          </p:grpSpPr>
          <p:grpSp>
            <p:nvGrpSpPr>
              <p:cNvPr id="334" name="Group 2059"/>
              <p:cNvGrpSpPr/>
              <p:nvPr/>
            </p:nvGrpSpPr>
            <p:grpSpPr>
              <a:xfrm>
                <a:off x="387000" y="2365200"/>
                <a:ext cx="8215920" cy="416160"/>
                <a:chOff x="387000" y="2365200"/>
                <a:chExt cx="8215920" cy="416160"/>
              </a:xfrm>
            </p:grpSpPr>
            <p:sp>
              <p:nvSpPr>
                <p:cNvPr id="335" name="Rectangle 2051"/>
                <p:cNvSpPr/>
                <p:nvPr/>
              </p:nvSpPr>
              <p:spPr>
                <a:xfrm>
                  <a:off x="447120" y="2365200"/>
                  <a:ext cx="8094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hr</a:t>
                  </a:r>
                  <a:r>
                    <a:rPr b="1" lang="cs-CZ" sz="2000" spc="-1" strike="noStrike">
                      <a:solidFill>
                        <a:srgbClr val="00264c"/>
                      </a:solidFill>
                      <a:latin typeface="Arial"/>
                      <a:ea typeface="Times New Roman"/>
                    </a:rPr>
                    <a:t> /</a:t>
                  </a: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058"/>
                <p:cNvSpPr/>
                <p:nvPr/>
              </p:nvSpPr>
              <p:spPr>
                <a:xfrm>
                  <a:off x="387000" y="2365200"/>
                  <a:ext cx="821592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Group 2061"/>
              <p:cNvGrpSpPr/>
              <p:nvPr/>
            </p:nvGrpSpPr>
            <p:grpSpPr>
              <a:xfrm>
                <a:off x="387000" y="2781360"/>
                <a:ext cx="2985480" cy="416160"/>
                <a:chOff x="387000" y="2781360"/>
                <a:chExt cx="2985480" cy="416160"/>
              </a:xfrm>
            </p:grpSpPr>
            <p:sp>
              <p:nvSpPr>
                <p:cNvPr id="338" name="Rectangle 2052"/>
                <p:cNvSpPr/>
                <p:nvPr/>
              </p:nvSpPr>
              <p:spPr>
                <a:xfrm>
                  <a:off x="447120" y="2781360"/>
                  <a:ext cx="286488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: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Rectangle 2060"/>
                <p:cNvSpPr/>
                <p:nvPr/>
              </p:nvSpPr>
              <p:spPr>
                <a:xfrm>
                  <a:off x="387000" y="2781360"/>
                  <a:ext cx="298548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Group 2063"/>
              <p:cNvGrpSpPr/>
              <p:nvPr/>
            </p:nvGrpSpPr>
            <p:grpSpPr>
              <a:xfrm>
                <a:off x="3372840" y="2781360"/>
                <a:ext cx="5230080" cy="416160"/>
                <a:chOff x="3372840" y="2781360"/>
                <a:chExt cx="5230080" cy="416160"/>
              </a:xfrm>
            </p:grpSpPr>
            <p:sp>
              <p:nvSpPr>
                <p:cNvPr id="341" name="Rectangle 2053"/>
                <p:cNvSpPr/>
                <p:nvPr/>
              </p:nvSpPr>
              <p:spPr>
                <a:xfrm>
                  <a:off x="3433680" y="2781360"/>
                  <a:ext cx="51084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Zalomí tok textu a vloží vodorovný oddělovač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Rectangle 2062"/>
                <p:cNvSpPr/>
                <p:nvPr/>
              </p:nvSpPr>
              <p:spPr>
                <a:xfrm>
                  <a:off x="3372840" y="2781360"/>
                  <a:ext cx="523008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2065"/>
              <p:cNvGrpSpPr/>
              <p:nvPr/>
            </p:nvGrpSpPr>
            <p:grpSpPr>
              <a:xfrm>
                <a:off x="387000" y="3197520"/>
                <a:ext cx="2985480" cy="891360"/>
                <a:chOff x="387000" y="3197520"/>
                <a:chExt cx="2985480" cy="891360"/>
              </a:xfrm>
            </p:grpSpPr>
            <p:sp>
              <p:nvSpPr>
                <p:cNvPr id="344" name="Rectangle 2054"/>
                <p:cNvSpPr/>
                <p:nvPr/>
              </p:nvSpPr>
              <p:spPr>
                <a:xfrm>
                  <a:off x="447120" y="3197520"/>
                  <a:ext cx="2864880" cy="89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Rectangle 2064"/>
                <p:cNvSpPr/>
                <p:nvPr/>
              </p:nvSpPr>
              <p:spPr>
                <a:xfrm>
                  <a:off x="387000" y="3197520"/>
                  <a:ext cx="2985480" cy="89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Group 2067"/>
              <p:cNvGrpSpPr/>
              <p:nvPr/>
            </p:nvGrpSpPr>
            <p:grpSpPr>
              <a:xfrm>
                <a:off x="3372840" y="3197520"/>
                <a:ext cx="5230080" cy="891360"/>
                <a:chOff x="3372840" y="3197520"/>
                <a:chExt cx="5230080" cy="891360"/>
              </a:xfrm>
            </p:grpSpPr>
            <p:sp>
              <p:nvSpPr>
                <p:cNvPr id="347" name="Rectangle 2055"/>
                <p:cNvSpPr/>
                <p:nvPr/>
              </p:nvSpPr>
              <p:spPr>
                <a:xfrm>
                  <a:off x="3433680" y="3197520"/>
                  <a:ext cx="5108400" cy="89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Základních 16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 a</a:t>
                  </a: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lign,  noshade,</a:t>
                  </a:r>
                  <a:r>
                    <a:rPr b="0" lang="cs-CZ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size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2066"/>
                <p:cNvSpPr/>
                <p:nvPr/>
              </p:nvSpPr>
              <p:spPr>
                <a:xfrm>
                  <a:off x="3372840" y="3197520"/>
                  <a:ext cx="5230080" cy="89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2069"/>
              <p:cNvGrpSpPr/>
              <p:nvPr/>
            </p:nvGrpSpPr>
            <p:grpSpPr>
              <a:xfrm>
                <a:off x="387000" y="4089240"/>
                <a:ext cx="2985480" cy="416160"/>
                <a:chOff x="387000" y="4089240"/>
                <a:chExt cx="2985480" cy="416160"/>
              </a:xfrm>
            </p:grpSpPr>
            <p:sp>
              <p:nvSpPr>
                <p:cNvPr id="350" name="Rectangle 2056"/>
                <p:cNvSpPr/>
                <p:nvPr/>
              </p:nvSpPr>
              <p:spPr>
                <a:xfrm>
                  <a:off x="447120" y="4089240"/>
                  <a:ext cx="286488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Rectangle 2068"/>
                <p:cNvSpPr/>
                <p:nvPr/>
              </p:nvSpPr>
              <p:spPr>
                <a:xfrm>
                  <a:off x="387000" y="4089240"/>
                  <a:ext cx="298548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Group 2071"/>
              <p:cNvGrpSpPr/>
              <p:nvPr/>
            </p:nvGrpSpPr>
            <p:grpSpPr>
              <a:xfrm>
                <a:off x="3372840" y="4089240"/>
                <a:ext cx="5230080" cy="416160"/>
                <a:chOff x="3372840" y="4089240"/>
                <a:chExt cx="5230080" cy="416160"/>
              </a:xfrm>
            </p:grpSpPr>
            <p:sp>
              <p:nvSpPr>
                <p:cNvPr id="353" name="Rectangle 2057"/>
                <p:cNvSpPr/>
                <p:nvPr/>
              </p:nvSpPr>
              <p:spPr>
                <a:xfrm>
                  <a:off x="3433680" y="4089240"/>
                  <a:ext cx="51084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Koncová značka není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Rectangle 2070"/>
                <p:cNvSpPr/>
                <p:nvPr/>
              </p:nvSpPr>
              <p:spPr>
                <a:xfrm>
                  <a:off x="3372840" y="4089240"/>
                  <a:ext cx="523008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Rectangle 2073"/>
            <p:cNvSpPr/>
            <p:nvPr/>
          </p:nvSpPr>
          <p:spPr>
            <a:xfrm>
              <a:off x="380880" y="2362320"/>
              <a:ext cx="8229240" cy="214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56" name="Rectangle 2075"/>
          <p:cNvSpPr/>
          <p:nvPr/>
        </p:nvSpPr>
        <p:spPr>
          <a:xfrm>
            <a:off x="1107360" y="5157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&lt;hr color="#c0c0c0" size="1" width="66%" /&gt;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Zástupný symbol pro číslo snímku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D832-B011-461F-83DB-42F8383C927D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Times New Roman"/>
              </a:rPr>
              <a:t>Značky pro řádky text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826920" y="1773360"/>
          <a:ext cx="7631280" cy="2019240"/>
        </p:xfrm>
        <a:graphic>
          <a:graphicData uri="http://schemas.openxmlformats.org/drawingml/2006/table">
            <a:tbl>
              <a:tblPr/>
              <a:tblGrid>
                <a:gridCol w="2737080"/>
                <a:gridCol w="4894200"/>
              </a:tblGrid>
              <a:tr h="48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e9"/>
                        </a:buClr>
                        <a:buFont typeface="Courier Ne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264c"/>
                          </a:solidFill>
                          <a:latin typeface="Courier New"/>
                          <a:ea typeface="Times New Roman"/>
                        </a:rPr>
                        <a:t>&lt;br /&gt;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Funkce 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Vkládá zalomení řádku (line break) do toku text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Atribu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Class, clear, id, style, tit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Koncová  značka v HTML není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826920" y="4076640"/>
          <a:ext cx="7631280" cy="2019240"/>
        </p:xfrm>
        <a:graphic>
          <a:graphicData uri="http://schemas.openxmlformats.org/drawingml/2006/table">
            <a:tbl>
              <a:tblPr/>
              <a:tblGrid>
                <a:gridCol w="2741760"/>
                <a:gridCol w="4889520"/>
              </a:tblGrid>
              <a:tr h="50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&lt;span&gt;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Funkce 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Definuje část řádk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Atribu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16 základních, align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Párová značka, Využívá se CSS.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2B3F-C48A-48E8-B807-9B0E57F7366E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Změna vzhledu text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Inline presentational - </a:t>
            </a:r>
            <a:r>
              <a:rPr b="0" lang="cs-CZ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yzické označování (fyzické styly)</a:t>
            </a: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Značky &lt;font&gt; a &lt;basefont&gt;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Inline phrasal - </a:t>
            </a:r>
            <a:r>
              <a:rPr b="0" lang="cs-CZ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ogické označování (styly orientované na obsah)</a:t>
            </a: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SS</a:t>
            </a: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2371-2C2D-4EEE-96B0-84624F9AEE09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Inline presentationa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7" name="Group 1027"/>
          <p:cNvGrpSpPr/>
          <p:nvPr/>
        </p:nvGrpSpPr>
        <p:grpSpPr>
          <a:xfrm>
            <a:off x="1523880" y="2057400"/>
            <a:ext cx="6171840" cy="2895120"/>
            <a:chOff x="1523880" y="2057400"/>
            <a:chExt cx="6171840" cy="2895120"/>
          </a:xfrm>
        </p:grpSpPr>
        <p:grpSp>
          <p:nvGrpSpPr>
            <p:cNvPr id="368" name="Group 1028"/>
            <p:cNvGrpSpPr/>
            <p:nvPr/>
          </p:nvGrpSpPr>
          <p:grpSpPr>
            <a:xfrm>
              <a:off x="1528560" y="2062080"/>
              <a:ext cx="6161760" cy="2884680"/>
              <a:chOff x="1528560" y="2062080"/>
              <a:chExt cx="6161760" cy="2884680"/>
            </a:xfrm>
          </p:grpSpPr>
          <p:grpSp>
            <p:nvGrpSpPr>
              <p:cNvPr id="369" name="Group 1029"/>
              <p:cNvGrpSpPr/>
              <p:nvPr/>
            </p:nvGrpSpPr>
            <p:grpSpPr>
              <a:xfrm>
                <a:off x="1528560" y="2062080"/>
                <a:ext cx="6161760" cy="864720"/>
                <a:chOff x="1528560" y="2062080"/>
                <a:chExt cx="6161760" cy="864720"/>
              </a:xfrm>
            </p:grpSpPr>
            <p:sp>
              <p:nvSpPr>
                <p:cNvPr id="370" name="Rectangle 1030"/>
                <p:cNvSpPr/>
                <p:nvPr/>
              </p:nvSpPr>
              <p:spPr>
                <a:xfrm>
                  <a:off x="1573560" y="2062080"/>
                  <a:ext cx="6071040" cy="86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b&gt;,&lt;i&gt;,&lt;tt&gt;,&lt;u&gt;,&lt;strike&gt;,&lt;small&gt;,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big&gt;,&lt;sup&gt;,&lt;sub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031"/>
                <p:cNvSpPr/>
                <p:nvPr/>
              </p:nvSpPr>
              <p:spPr>
                <a:xfrm>
                  <a:off x="1528560" y="2062080"/>
                  <a:ext cx="6161760" cy="86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032"/>
              <p:cNvGrpSpPr/>
              <p:nvPr/>
            </p:nvGrpSpPr>
            <p:grpSpPr>
              <a:xfrm>
                <a:off x="1528560" y="2927160"/>
                <a:ext cx="2238840" cy="672840"/>
                <a:chOff x="1528560" y="2927160"/>
                <a:chExt cx="2238840" cy="672840"/>
              </a:xfrm>
            </p:grpSpPr>
            <p:sp>
              <p:nvSpPr>
                <p:cNvPr id="373" name="Rectangle 1033"/>
                <p:cNvSpPr/>
                <p:nvPr/>
              </p:nvSpPr>
              <p:spPr>
                <a:xfrm>
                  <a:off x="1573560" y="2927160"/>
                  <a:ext cx="21484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: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034"/>
                <p:cNvSpPr/>
                <p:nvPr/>
              </p:nvSpPr>
              <p:spPr>
                <a:xfrm>
                  <a:off x="1528560" y="2927160"/>
                  <a:ext cx="2238840" cy="67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035"/>
              <p:cNvGrpSpPr/>
              <p:nvPr/>
            </p:nvGrpSpPr>
            <p:grpSpPr>
              <a:xfrm>
                <a:off x="3767760" y="2927160"/>
                <a:ext cx="3922560" cy="672840"/>
                <a:chOff x="3767760" y="2927160"/>
                <a:chExt cx="3922560" cy="672840"/>
              </a:xfrm>
            </p:grpSpPr>
            <p:sp>
              <p:nvSpPr>
                <p:cNvPr id="376" name="Rectangle 1036"/>
                <p:cNvSpPr/>
                <p:nvPr/>
              </p:nvSpPr>
              <p:spPr>
                <a:xfrm>
                  <a:off x="3813120" y="2927160"/>
                  <a:ext cx="38314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Specifikuje fyzický styl daného textu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037"/>
                <p:cNvSpPr/>
                <p:nvPr/>
              </p:nvSpPr>
              <p:spPr>
                <a:xfrm>
                  <a:off x="3767760" y="2927160"/>
                  <a:ext cx="3922560" cy="67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038"/>
              <p:cNvGrpSpPr/>
              <p:nvPr/>
            </p:nvGrpSpPr>
            <p:grpSpPr>
              <a:xfrm>
                <a:off x="1528560" y="3600360"/>
                <a:ext cx="2238840" cy="672840"/>
                <a:chOff x="1528560" y="3600360"/>
                <a:chExt cx="2238840" cy="672840"/>
              </a:xfrm>
            </p:grpSpPr>
            <p:sp>
              <p:nvSpPr>
                <p:cNvPr id="379" name="Rectangle 1039"/>
                <p:cNvSpPr/>
                <p:nvPr/>
              </p:nvSpPr>
              <p:spPr>
                <a:xfrm>
                  <a:off x="1573560" y="3600360"/>
                  <a:ext cx="21484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040"/>
                <p:cNvSpPr/>
                <p:nvPr/>
              </p:nvSpPr>
              <p:spPr>
                <a:xfrm>
                  <a:off x="1528560" y="3600360"/>
                  <a:ext cx="2238840" cy="67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041"/>
              <p:cNvGrpSpPr/>
              <p:nvPr/>
            </p:nvGrpSpPr>
            <p:grpSpPr>
              <a:xfrm>
                <a:off x="3767760" y="3600360"/>
                <a:ext cx="3922560" cy="672840"/>
                <a:chOff x="3767760" y="3600360"/>
                <a:chExt cx="3922560" cy="672840"/>
              </a:xfrm>
            </p:grpSpPr>
            <p:sp>
              <p:nvSpPr>
                <p:cNvPr id="382" name="Rectangle 1042"/>
                <p:cNvSpPr/>
                <p:nvPr/>
              </p:nvSpPr>
              <p:spPr>
                <a:xfrm>
                  <a:off x="3813120" y="3600360"/>
                  <a:ext cx="38314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6 základních, ALIGN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043"/>
                <p:cNvSpPr/>
                <p:nvPr/>
              </p:nvSpPr>
              <p:spPr>
                <a:xfrm>
                  <a:off x="3767760" y="3600360"/>
                  <a:ext cx="3922560" cy="67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1044"/>
              <p:cNvGrpSpPr/>
              <p:nvPr/>
            </p:nvGrpSpPr>
            <p:grpSpPr>
              <a:xfrm>
                <a:off x="1528560" y="4273560"/>
                <a:ext cx="2238840" cy="673200"/>
                <a:chOff x="1528560" y="4273560"/>
                <a:chExt cx="2238840" cy="673200"/>
              </a:xfrm>
            </p:grpSpPr>
            <p:sp>
              <p:nvSpPr>
                <p:cNvPr id="385" name="Rectangle 1045"/>
                <p:cNvSpPr/>
                <p:nvPr/>
              </p:nvSpPr>
              <p:spPr>
                <a:xfrm>
                  <a:off x="1573560" y="4273560"/>
                  <a:ext cx="214848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1046"/>
                <p:cNvSpPr/>
                <p:nvPr/>
              </p:nvSpPr>
              <p:spPr>
                <a:xfrm>
                  <a:off x="1528560" y="4273560"/>
                  <a:ext cx="223884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1047"/>
              <p:cNvGrpSpPr/>
              <p:nvPr/>
            </p:nvGrpSpPr>
            <p:grpSpPr>
              <a:xfrm>
                <a:off x="3767760" y="4273560"/>
                <a:ext cx="3922560" cy="673200"/>
                <a:chOff x="3767760" y="4273560"/>
                <a:chExt cx="3922560" cy="673200"/>
              </a:xfrm>
            </p:grpSpPr>
            <p:sp>
              <p:nvSpPr>
                <p:cNvPr id="388" name="Rectangle 1048"/>
                <p:cNvSpPr/>
                <p:nvPr/>
              </p:nvSpPr>
              <p:spPr>
                <a:xfrm>
                  <a:off x="3813120" y="4273560"/>
                  <a:ext cx="383148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Koncové značky se nikdy nevynechávají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1049"/>
                <p:cNvSpPr/>
                <p:nvPr/>
              </p:nvSpPr>
              <p:spPr>
                <a:xfrm>
                  <a:off x="3767760" y="4273560"/>
                  <a:ext cx="392256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Rectangle 1050"/>
            <p:cNvSpPr/>
            <p:nvPr/>
          </p:nvSpPr>
          <p:spPr>
            <a:xfrm>
              <a:off x="1523880" y="2057400"/>
              <a:ext cx="6171840" cy="2895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91" name="Line 1053"/>
          <p:cNvSpPr/>
          <p:nvPr/>
        </p:nvSpPr>
        <p:spPr>
          <a:xfrm flipH="1">
            <a:off x="1258920" y="549360"/>
            <a:ext cx="6913440" cy="532764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2" name="Line 1054"/>
          <p:cNvSpPr/>
          <p:nvPr/>
        </p:nvSpPr>
        <p:spPr>
          <a:xfrm>
            <a:off x="1403280" y="333360"/>
            <a:ext cx="6624720" cy="568800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D5B4-FC97-43BB-A34F-0DD1BA0F42AC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Font a basefon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5" name="Group 1027"/>
          <p:cNvGrpSpPr/>
          <p:nvPr/>
        </p:nvGrpSpPr>
        <p:grpSpPr>
          <a:xfrm>
            <a:off x="685800" y="1981080"/>
            <a:ext cx="7238520" cy="2046240"/>
            <a:chOff x="685800" y="1981080"/>
            <a:chExt cx="7238520" cy="2046240"/>
          </a:xfrm>
        </p:grpSpPr>
        <p:grpSp>
          <p:nvGrpSpPr>
            <p:cNvPr id="396" name="Group 1028"/>
            <p:cNvGrpSpPr/>
            <p:nvPr/>
          </p:nvGrpSpPr>
          <p:grpSpPr>
            <a:xfrm>
              <a:off x="691200" y="1984680"/>
              <a:ext cx="7226640" cy="2037960"/>
              <a:chOff x="691200" y="1984680"/>
              <a:chExt cx="7226640" cy="2037960"/>
            </a:xfrm>
          </p:grpSpPr>
          <p:grpSp>
            <p:nvGrpSpPr>
              <p:cNvPr id="397" name="Group 1029"/>
              <p:cNvGrpSpPr/>
              <p:nvPr/>
            </p:nvGrpSpPr>
            <p:grpSpPr>
              <a:xfrm>
                <a:off x="691200" y="1984680"/>
                <a:ext cx="7226640" cy="509400"/>
                <a:chOff x="691200" y="1984680"/>
                <a:chExt cx="7226640" cy="509400"/>
              </a:xfrm>
            </p:grpSpPr>
            <p:sp>
              <p:nvSpPr>
                <p:cNvPr id="398" name="Rectangle 1030"/>
                <p:cNvSpPr/>
                <p:nvPr/>
              </p:nvSpPr>
              <p:spPr>
                <a:xfrm>
                  <a:off x="744120" y="1984680"/>
                  <a:ext cx="7120080" cy="5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font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Rectangle 1031"/>
                <p:cNvSpPr/>
                <p:nvPr/>
              </p:nvSpPr>
              <p:spPr>
                <a:xfrm>
                  <a:off x="691200" y="1984680"/>
                  <a:ext cx="7226640" cy="5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Group 1032"/>
              <p:cNvGrpSpPr/>
              <p:nvPr/>
            </p:nvGrpSpPr>
            <p:grpSpPr>
              <a:xfrm>
                <a:off x="691200" y="2494080"/>
                <a:ext cx="2625840" cy="509400"/>
                <a:chOff x="691200" y="2494080"/>
                <a:chExt cx="2625840" cy="509400"/>
              </a:xfrm>
            </p:grpSpPr>
            <p:sp>
              <p:nvSpPr>
                <p:cNvPr id="401" name="Rectangle 1033"/>
                <p:cNvSpPr/>
                <p:nvPr/>
              </p:nvSpPr>
              <p:spPr>
                <a:xfrm>
                  <a:off x="744120" y="2494080"/>
                  <a:ext cx="2519640" cy="5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Rectangle 1034"/>
                <p:cNvSpPr/>
                <p:nvPr/>
              </p:nvSpPr>
              <p:spPr>
                <a:xfrm>
                  <a:off x="691200" y="2494080"/>
                  <a:ext cx="2625840" cy="5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Group 1035"/>
              <p:cNvGrpSpPr/>
              <p:nvPr/>
            </p:nvGrpSpPr>
            <p:grpSpPr>
              <a:xfrm>
                <a:off x="3317400" y="2494080"/>
                <a:ext cx="4600080" cy="509400"/>
                <a:chOff x="3317400" y="2494080"/>
                <a:chExt cx="4600080" cy="509400"/>
              </a:xfrm>
            </p:grpSpPr>
            <p:sp>
              <p:nvSpPr>
                <p:cNvPr id="404" name="Rectangle 1036"/>
                <p:cNvSpPr/>
                <p:nvPr/>
              </p:nvSpPr>
              <p:spPr>
                <a:xfrm>
                  <a:off x="3370680" y="2494080"/>
                  <a:ext cx="4493160" cy="5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Nastaví velikost a další vlastnosti písma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Rectangle 1037"/>
                <p:cNvSpPr/>
                <p:nvPr/>
              </p:nvSpPr>
              <p:spPr>
                <a:xfrm>
                  <a:off x="3317400" y="2494080"/>
                  <a:ext cx="4600080" cy="5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Group 1038"/>
              <p:cNvGrpSpPr/>
              <p:nvPr/>
            </p:nvGrpSpPr>
            <p:grpSpPr>
              <a:xfrm>
                <a:off x="691200" y="3003840"/>
                <a:ext cx="2625840" cy="509400"/>
                <a:chOff x="691200" y="3003840"/>
                <a:chExt cx="2625840" cy="509400"/>
              </a:xfrm>
            </p:grpSpPr>
            <p:sp>
              <p:nvSpPr>
                <p:cNvPr id="407" name="Rectangle 1039"/>
                <p:cNvSpPr/>
                <p:nvPr/>
              </p:nvSpPr>
              <p:spPr>
                <a:xfrm>
                  <a:off x="744120" y="3003840"/>
                  <a:ext cx="2519640" cy="5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1040"/>
                <p:cNvSpPr/>
                <p:nvPr/>
              </p:nvSpPr>
              <p:spPr>
                <a:xfrm>
                  <a:off x="691200" y="3003840"/>
                  <a:ext cx="2625840" cy="5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1041"/>
              <p:cNvGrpSpPr/>
              <p:nvPr/>
            </p:nvGrpSpPr>
            <p:grpSpPr>
              <a:xfrm>
                <a:off x="3317400" y="3003840"/>
                <a:ext cx="4600080" cy="509400"/>
                <a:chOff x="3317400" y="3003840"/>
                <a:chExt cx="4600080" cy="509400"/>
              </a:xfrm>
            </p:grpSpPr>
            <p:sp>
              <p:nvSpPr>
                <p:cNvPr id="410" name="Rectangle 1042"/>
                <p:cNvSpPr/>
                <p:nvPr/>
              </p:nvSpPr>
              <p:spPr>
                <a:xfrm>
                  <a:off x="3370680" y="3003840"/>
                  <a:ext cx="4493160" cy="5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Class, color, dir, face, id, lang, size, style, titl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1043"/>
                <p:cNvSpPr/>
                <p:nvPr/>
              </p:nvSpPr>
              <p:spPr>
                <a:xfrm>
                  <a:off x="3317400" y="3003840"/>
                  <a:ext cx="4600080" cy="5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1044"/>
              <p:cNvGrpSpPr/>
              <p:nvPr/>
            </p:nvGrpSpPr>
            <p:grpSpPr>
              <a:xfrm>
                <a:off x="691200" y="3513240"/>
                <a:ext cx="2625840" cy="509400"/>
                <a:chOff x="691200" y="3513240"/>
                <a:chExt cx="2625840" cy="509400"/>
              </a:xfrm>
            </p:grpSpPr>
            <p:sp>
              <p:nvSpPr>
                <p:cNvPr id="413" name="Rectangle 1045"/>
                <p:cNvSpPr/>
                <p:nvPr/>
              </p:nvSpPr>
              <p:spPr>
                <a:xfrm>
                  <a:off x="744120" y="3513240"/>
                  <a:ext cx="2519640" cy="5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1046"/>
                <p:cNvSpPr/>
                <p:nvPr/>
              </p:nvSpPr>
              <p:spPr>
                <a:xfrm>
                  <a:off x="691200" y="3513240"/>
                  <a:ext cx="2625840" cy="5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1047"/>
              <p:cNvGrpSpPr/>
              <p:nvPr/>
            </p:nvGrpSpPr>
            <p:grpSpPr>
              <a:xfrm>
                <a:off x="3317400" y="3513240"/>
                <a:ext cx="4600080" cy="509400"/>
                <a:chOff x="3317400" y="3513240"/>
                <a:chExt cx="4600080" cy="509400"/>
              </a:xfrm>
            </p:grpSpPr>
            <p:sp>
              <p:nvSpPr>
                <p:cNvPr id="416" name="Rectangle 1048"/>
                <p:cNvSpPr/>
                <p:nvPr/>
              </p:nvSpPr>
              <p:spPr>
                <a:xfrm>
                  <a:off x="3370680" y="3513240"/>
                  <a:ext cx="4493160" cy="5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Koncová značka &lt;/font&gt;  se používá vžd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1049"/>
                <p:cNvSpPr/>
                <p:nvPr/>
              </p:nvSpPr>
              <p:spPr>
                <a:xfrm>
                  <a:off x="3317400" y="3513240"/>
                  <a:ext cx="4600080" cy="5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8" name="Rectangle 1050"/>
            <p:cNvSpPr/>
            <p:nvPr/>
          </p:nvSpPr>
          <p:spPr>
            <a:xfrm>
              <a:off x="685800" y="1981080"/>
              <a:ext cx="7238520" cy="2046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419" name="Group 1051"/>
          <p:cNvGrpSpPr/>
          <p:nvPr/>
        </p:nvGrpSpPr>
        <p:grpSpPr>
          <a:xfrm>
            <a:off x="685800" y="4191120"/>
            <a:ext cx="7238520" cy="2133360"/>
            <a:chOff x="685800" y="4191120"/>
            <a:chExt cx="7238520" cy="2133360"/>
          </a:xfrm>
        </p:grpSpPr>
        <p:grpSp>
          <p:nvGrpSpPr>
            <p:cNvPr id="420" name="Group 1052"/>
            <p:cNvGrpSpPr/>
            <p:nvPr/>
          </p:nvGrpSpPr>
          <p:grpSpPr>
            <a:xfrm>
              <a:off x="691200" y="4194720"/>
              <a:ext cx="7226640" cy="2125800"/>
              <a:chOff x="691200" y="4194720"/>
              <a:chExt cx="7226640" cy="2125800"/>
            </a:xfrm>
          </p:grpSpPr>
          <p:grpSp>
            <p:nvGrpSpPr>
              <p:cNvPr id="421" name="Group 1053"/>
              <p:cNvGrpSpPr/>
              <p:nvPr/>
            </p:nvGrpSpPr>
            <p:grpSpPr>
              <a:xfrm>
                <a:off x="691200" y="4194720"/>
                <a:ext cx="7226640" cy="496080"/>
                <a:chOff x="691200" y="4194720"/>
                <a:chExt cx="7226640" cy="496080"/>
              </a:xfrm>
            </p:grpSpPr>
            <p:sp>
              <p:nvSpPr>
                <p:cNvPr id="422" name="Rectangle 1054"/>
                <p:cNvSpPr/>
                <p:nvPr/>
              </p:nvSpPr>
              <p:spPr>
                <a:xfrm>
                  <a:off x="744120" y="4194720"/>
                  <a:ext cx="71200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basefont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055"/>
                <p:cNvSpPr/>
                <p:nvPr/>
              </p:nvSpPr>
              <p:spPr>
                <a:xfrm>
                  <a:off x="691200" y="4194720"/>
                  <a:ext cx="722664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Group 1056"/>
              <p:cNvGrpSpPr/>
              <p:nvPr/>
            </p:nvGrpSpPr>
            <p:grpSpPr>
              <a:xfrm>
                <a:off x="691200" y="4690800"/>
                <a:ext cx="2625840" cy="637560"/>
                <a:chOff x="691200" y="4690800"/>
                <a:chExt cx="2625840" cy="637560"/>
              </a:xfrm>
            </p:grpSpPr>
            <p:sp>
              <p:nvSpPr>
                <p:cNvPr id="425" name="Rectangle 1057"/>
                <p:cNvSpPr/>
                <p:nvPr/>
              </p:nvSpPr>
              <p:spPr>
                <a:xfrm>
                  <a:off x="744120" y="4690800"/>
                  <a:ext cx="251964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058"/>
                <p:cNvSpPr/>
                <p:nvPr/>
              </p:nvSpPr>
              <p:spPr>
                <a:xfrm>
                  <a:off x="691200" y="4690800"/>
                  <a:ext cx="2625840" cy="63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1059"/>
              <p:cNvGrpSpPr/>
              <p:nvPr/>
            </p:nvGrpSpPr>
            <p:grpSpPr>
              <a:xfrm>
                <a:off x="3317400" y="4690800"/>
                <a:ext cx="4600080" cy="637560"/>
                <a:chOff x="3317400" y="4690800"/>
                <a:chExt cx="4600080" cy="637560"/>
              </a:xfrm>
            </p:grpSpPr>
            <p:sp>
              <p:nvSpPr>
                <p:cNvPr id="428" name="Rectangle 1060"/>
                <p:cNvSpPr/>
                <p:nvPr/>
              </p:nvSpPr>
              <p:spPr>
                <a:xfrm>
                  <a:off x="3370680" y="4690800"/>
                  <a:ext cx="449316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základní velikost písma pro následné změny relativní velkosti písma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061"/>
                <p:cNvSpPr/>
                <p:nvPr/>
              </p:nvSpPr>
              <p:spPr>
                <a:xfrm>
                  <a:off x="3317400" y="4690800"/>
                  <a:ext cx="4600080" cy="63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Group 1062"/>
              <p:cNvGrpSpPr/>
              <p:nvPr/>
            </p:nvGrpSpPr>
            <p:grpSpPr>
              <a:xfrm>
                <a:off x="691200" y="5328360"/>
                <a:ext cx="2625840" cy="496080"/>
                <a:chOff x="691200" y="5328360"/>
                <a:chExt cx="2625840" cy="496080"/>
              </a:xfrm>
            </p:grpSpPr>
            <p:sp>
              <p:nvSpPr>
                <p:cNvPr id="431" name="Rectangle 1063"/>
                <p:cNvSpPr/>
                <p:nvPr/>
              </p:nvSpPr>
              <p:spPr>
                <a:xfrm>
                  <a:off x="744120" y="5328360"/>
                  <a:ext cx="251964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064"/>
                <p:cNvSpPr/>
                <p:nvPr/>
              </p:nvSpPr>
              <p:spPr>
                <a:xfrm>
                  <a:off x="691200" y="5328360"/>
                  <a:ext cx="262584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Group 1065"/>
              <p:cNvGrpSpPr/>
              <p:nvPr/>
            </p:nvGrpSpPr>
            <p:grpSpPr>
              <a:xfrm>
                <a:off x="3317400" y="5328360"/>
                <a:ext cx="4600080" cy="496080"/>
                <a:chOff x="3317400" y="5328360"/>
                <a:chExt cx="4600080" cy="496080"/>
              </a:xfrm>
            </p:grpSpPr>
            <p:sp>
              <p:nvSpPr>
                <p:cNvPr id="434" name="Rectangle 1066"/>
                <p:cNvSpPr/>
                <p:nvPr/>
              </p:nvSpPr>
              <p:spPr>
                <a:xfrm>
                  <a:off x="3370680" y="5328360"/>
                  <a:ext cx="44931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siz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067"/>
                <p:cNvSpPr/>
                <p:nvPr/>
              </p:nvSpPr>
              <p:spPr>
                <a:xfrm>
                  <a:off x="3317400" y="5328360"/>
                  <a:ext cx="460008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1068"/>
              <p:cNvGrpSpPr/>
              <p:nvPr/>
            </p:nvGrpSpPr>
            <p:grpSpPr>
              <a:xfrm>
                <a:off x="691200" y="5824440"/>
                <a:ext cx="2625840" cy="496080"/>
                <a:chOff x="691200" y="5824440"/>
                <a:chExt cx="2625840" cy="496080"/>
              </a:xfrm>
            </p:grpSpPr>
            <p:sp>
              <p:nvSpPr>
                <p:cNvPr id="437" name="Rectangle 1069"/>
                <p:cNvSpPr/>
                <p:nvPr/>
              </p:nvSpPr>
              <p:spPr>
                <a:xfrm>
                  <a:off x="744120" y="5824440"/>
                  <a:ext cx="251964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070"/>
                <p:cNvSpPr/>
                <p:nvPr/>
              </p:nvSpPr>
              <p:spPr>
                <a:xfrm>
                  <a:off x="691200" y="5824440"/>
                  <a:ext cx="262584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Group 1071"/>
              <p:cNvGrpSpPr/>
              <p:nvPr/>
            </p:nvGrpSpPr>
            <p:grpSpPr>
              <a:xfrm>
                <a:off x="3317400" y="5824440"/>
                <a:ext cx="4600080" cy="496080"/>
                <a:chOff x="3317400" y="5824440"/>
                <a:chExt cx="4600080" cy="496080"/>
              </a:xfrm>
            </p:grpSpPr>
            <p:sp>
              <p:nvSpPr>
                <p:cNvPr id="440" name="Rectangle 1072"/>
                <p:cNvSpPr/>
                <p:nvPr/>
              </p:nvSpPr>
              <p:spPr>
                <a:xfrm>
                  <a:off x="3370680" y="5824440"/>
                  <a:ext cx="44931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Koncová značka &lt;/basefont&gt; se často vynechává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073"/>
                <p:cNvSpPr/>
                <p:nvPr/>
              </p:nvSpPr>
              <p:spPr>
                <a:xfrm>
                  <a:off x="3317400" y="5824440"/>
                  <a:ext cx="460008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" name="Rectangle 1074"/>
            <p:cNvSpPr/>
            <p:nvPr/>
          </p:nvSpPr>
          <p:spPr>
            <a:xfrm>
              <a:off x="685800" y="4191120"/>
              <a:ext cx="7238520" cy="2133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443" name="Line 1075"/>
          <p:cNvSpPr/>
          <p:nvPr/>
        </p:nvSpPr>
        <p:spPr>
          <a:xfrm>
            <a:off x="533520" y="457200"/>
            <a:ext cx="8001000" cy="6019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4" name="Line 1076"/>
          <p:cNvSpPr/>
          <p:nvPr/>
        </p:nvSpPr>
        <p:spPr>
          <a:xfrm flipH="1">
            <a:off x="609480" y="457200"/>
            <a:ext cx="7467840" cy="6172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63B2-08D3-4FB1-ACA6-57F8D2CA478A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Značky pro fyzické označován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7" name="Group 95"/>
          <p:cNvGrpSpPr/>
          <p:nvPr/>
        </p:nvGrpSpPr>
        <p:grpSpPr>
          <a:xfrm>
            <a:off x="685800" y="1523880"/>
            <a:ext cx="7924320" cy="4572000"/>
            <a:chOff x="685800" y="1523880"/>
            <a:chExt cx="7924320" cy="4572000"/>
          </a:xfrm>
        </p:grpSpPr>
        <p:grpSp>
          <p:nvGrpSpPr>
            <p:cNvPr id="448" name="Group 93"/>
            <p:cNvGrpSpPr/>
            <p:nvPr/>
          </p:nvGrpSpPr>
          <p:grpSpPr>
            <a:xfrm>
              <a:off x="692280" y="1526760"/>
              <a:ext cx="7910640" cy="4565880"/>
              <a:chOff x="692280" y="1526760"/>
              <a:chExt cx="7910640" cy="4565880"/>
            </a:xfrm>
          </p:grpSpPr>
          <p:grpSp>
            <p:nvGrpSpPr>
              <p:cNvPr id="449" name="Group 34"/>
              <p:cNvGrpSpPr/>
              <p:nvPr/>
            </p:nvGrpSpPr>
            <p:grpSpPr>
              <a:xfrm>
                <a:off x="692280" y="1526760"/>
                <a:ext cx="2111040" cy="399240"/>
                <a:chOff x="692280" y="1526760"/>
                <a:chExt cx="2111040" cy="399240"/>
              </a:xfrm>
            </p:grpSpPr>
            <p:sp>
              <p:nvSpPr>
                <p:cNvPr id="450" name="Rectangle 3"/>
                <p:cNvSpPr/>
                <p:nvPr/>
              </p:nvSpPr>
              <p:spPr>
                <a:xfrm>
                  <a:off x="753840" y="1526760"/>
                  <a:ext cx="198756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Značka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33"/>
                <p:cNvSpPr/>
                <p:nvPr/>
              </p:nvSpPr>
              <p:spPr>
                <a:xfrm>
                  <a:off x="692280" y="1526760"/>
                  <a:ext cx="211104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36"/>
              <p:cNvGrpSpPr/>
              <p:nvPr/>
            </p:nvGrpSpPr>
            <p:grpSpPr>
              <a:xfrm>
                <a:off x="2803680" y="1526760"/>
                <a:ext cx="3150720" cy="399240"/>
                <a:chOff x="2803680" y="1526760"/>
                <a:chExt cx="3150720" cy="399240"/>
              </a:xfrm>
            </p:grpSpPr>
            <p:sp>
              <p:nvSpPr>
                <p:cNvPr id="453" name="Rectangle 4"/>
                <p:cNvSpPr/>
                <p:nvPr/>
              </p:nvSpPr>
              <p:spPr>
                <a:xfrm>
                  <a:off x="2865960" y="1526760"/>
                  <a:ext cx="302652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Význam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35"/>
                <p:cNvSpPr/>
                <p:nvPr/>
              </p:nvSpPr>
              <p:spPr>
                <a:xfrm>
                  <a:off x="2803680" y="1526760"/>
                  <a:ext cx="315072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38"/>
              <p:cNvGrpSpPr/>
              <p:nvPr/>
            </p:nvGrpSpPr>
            <p:grpSpPr>
              <a:xfrm>
                <a:off x="5955120" y="1526760"/>
                <a:ext cx="2647800" cy="399240"/>
                <a:chOff x="5955120" y="1526760"/>
                <a:chExt cx="2647800" cy="399240"/>
              </a:xfrm>
            </p:grpSpPr>
            <p:sp>
              <p:nvSpPr>
                <p:cNvPr id="456" name="Rectangle 5"/>
                <p:cNvSpPr/>
                <p:nvPr/>
              </p:nvSpPr>
              <p:spPr>
                <a:xfrm>
                  <a:off x="6017400" y="1526760"/>
                  <a:ext cx="252324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říklad zobrazení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37"/>
                <p:cNvSpPr/>
                <p:nvPr/>
              </p:nvSpPr>
              <p:spPr>
                <a:xfrm>
                  <a:off x="5955120" y="1526760"/>
                  <a:ext cx="264780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40"/>
              <p:cNvGrpSpPr/>
              <p:nvPr/>
            </p:nvGrpSpPr>
            <p:grpSpPr>
              <a:xfrm>
                <a:off x="692280" y="1926000"/>
                <a:ext cx="2111040" cy="399240"/>
                <a:chOff x="692280" y="1926000"/>
                <a:chExt cx="2111040" cy="399240"/>
              </a:xfrm>
            </p:grpSpPr>
            <p:sp>
              <p:nvSpPr>
                <p:cNvPr id="459" name="Rectangle 6"/>
                <p:cNvSpPr/>
                <p:nvPr/>
              </p:nvSpPr>
              <p:spPr>
                <a:xfrm>
                  <a:off x="753840" y="1926000"/>
                  <a:ext cx="198756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b&gt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39"/>
                <p:cNvSpPr/>
                <p:nvPr/>
              </p:nvSpPr>
              <p:spPr>
                <a:xfrm>
                  <a:off x="692280" y="1926000"/>
                  <a:ext cx="211104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Group 42"/>
              <p:cNvGrpSpPr/>
              <p:nvPr/>
            </p:nvGrpSpPr>
            <p:grpSpPr>
              <a:xfrm>
                <a:off x="2803680" y="1926000"/>
                <a:ext cx="3150720" cy="399240"/>
                <a:chOff x="2803680" y="1926000"/>
                <a:chExt cx="3150720" cy="399240"/>
              </a:xfrm>
            </p:grpSpPr>
            <p:sp>
              <p:nvSpPr>
                <p:cNvPr id="462" name="Rectangle 7"/>
                <p:cNvSpPr/>
                <p:nvPr/>
              </p:nvSpPr>
              <p:spPr>
                <a:xfrm>
                  <a:off x="2865960" y="1926000"/>
                  <a:ext cx="302652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(bold) tučné písmo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Rectangle 41"/>
                <p:cNvSpPr/>
                <p:nvPr/>
              </p:nvSpPr>
              <p:spPr>
                <a:xfrm>
                  <a:off x="2803680" y="1926000"/>
                  <a:ext cx="315072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4"/>
              <p:cNvGrpSpPr/>
              <p:nvPr/>
            </p:nvGrpSpPr>
            <p:grpSpPr>
              <a:xfrm>
                <a:off x="5955120" y="1926000"/>
                <a:ext cx="2647800" cy="399240"/>
                <a:chOff x="5955120" y="1926000"/>
                <a:chExt cx="2647800" cy="399240"/>
              </a:xfrm>
            </p:grpSpPr>
            <p:sp>
              <p:nvSpPr>
                <p:cNvPr id="465" name="Rectangle 8"/>
                <p:cNvSpPr/>
                <p:nvPr/>
              </p:nvSpPr>
              <p:spPr>
                <a:xfrm>
                  <a:off x="6017400" y="1926000"/>
                  <a:ext cx="252324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bold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43"/>
                <p:cNvSpPr/>
                <p:nvPr/>
              </p:nvSpPr>
              <p:spPr>
                <a:xfrm>
                  <a:off x="5955120" y="1926000"/>
                  <a:ext cx="264780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Group 46"/>
              <p:cNvGrpSpPr/>
              <p:nvPr/>
            </p:nvGrpSpPr>
            <p:grpSpPr>
              <a:xfrm>
                <a:off x="692280" y="2325600"/>
                <a:ext cx="2111040" cy="399240"/>
                <a:chOff x="692280" y="2325600"/>
                <a:chExt cx="2111040" cy="399240"/>
              </a:xfrm>
            </p:grpSpPr>
            <p:sp>
              <p:nvSpPr>
                <p:cNvPr id="468" name="Rectangle 9"/>
                <p:cNvSpPr/>
                <p:nvPr/>
              </p:nvSpPr>
              <p:spPr>
                <a:xfrm>
                  <a:off x="753840" y="2325600"/>
                  <a:ext cx="198756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i&gt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45"/>
                <p:cNvSpPr/>
                <p:nvPr/>
              </p:nvSpPr>
              <p:spPr>
                <a:xfrm>
                  <a:off x="692280" y="2325600"/>
                  <a:ext cx="211104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Group 48"/>
              <p:cNvGrpSpPr/>
              <p:nvPr/>
            </p:nvGrpSpPr>
            <p:grpSpPr>
              <a:xfrm>
                <a:off x="2803680" y="2325600"/>
                <a:ext cx="3150720" cy="399240"/>
                <a:chOff x="2803680" y="2325600"/>
                <a:chExt cx="3150720" cy="399240"/>
              </a:xfrm>
            </p:grpSpPr>
            <p:sp>
              <p:nvSpPr>
                <p:cNvPr id="471" name="Rectangle 10"/>
                <p:cNvSpPr/>
                <p:nvPr/>
              </p:nvSpPr>
              <p:spPr>
                <a:xfrm>
                  <a:off x="2865960" y="2325600"/>
                  <a:ext cx="302652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(italic) kurzíva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Rectangle 47"/>
                <p:cNvSpPr/>
                <p:nvPr/>
              </p:nvSpPr>
              <p:spPr>
                <a:xfrm>
                  <a:off x="2803680" y="2325600"/>
                  <a:ext cx="315072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Group 50"/>
              <p:cNvGrpSpPr/>
              <p:nvPr/>
            </p:nvGrpSpPr>
            <p:grpSpPr>
              <a:xfrm>
                <a:off x="5955120" y="2325600"/>
                <a:ext cx="2647800" cy="399240"/>
                <a:chOff x="5955120" y="2325600"/>
                <a:chExt cx="2647800" cy="399240"/>
              </a:xfrm>
            </p:grpSpPr>
            <p:sp>
              <p:nvSpPr>
                <p:cNvPr id="474" name="Rectangle 11"/>
                <p:cNvSpPr/>
                <p:nvPr/>
              </p:nvSpPr>
              <p:spPr>
                <a:xfrm>
                  <a:off x="6017400" y="2325600"/>
                  <a:ext cx="252324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kurzíva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Rectangle 49"/>
                <p:cNvSpPr/>
                <p:nvPr/>
              </p:nvSpPr>
              <p:spPr>
                <a:xfrm>
                  <a:off x="5955120" y="2325600"/>
                  <a:ext cx="264780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Group 52"/>
              <p:cNvGrpSpPr/>
              <p:nvPr/>
            </p:nvGrpSpPr>
            <p:grpSpPr>
              <a:xfrm>
                <a:off x="692280" y="2725200"/>
                <a:ext cx="2111040" cy="513720"/>
                <a:chOff x="692280" y="2725200"/>
                <a:chExt cx="2111040" cy="513720"/>
              </a:xfrm>
            </p:grpSpPr>
            <p:sp>
              <p:nvSpPr>
                <p:cNvPr id="477" name="Rectangle 12"/>
                <p:cNvSpPr/>
                <p:nvPr/>
              </p:nvSpPr>
              <p:spPr>
                <a:xfrm>
                  <a:off x="753840" y="2725200"/>
                  <a:ext cx="198756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tt&gt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Rectangle 51"/>
                <p:cNvSpPr/>
                <p:nvPr/>
              </p:nvSpPr>
              <p:spPr>
                <a:xfrm>
                  <a:off x="692280" y="2725200"/>
                  <a:ext cx="211104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Group 54"/>
              <p:cNvGrpSpPr/>
              <p:nvPr/>
            </p:nvGrpSpPr>
            <p:grpSpPr>
              <a:xfrm>
                <a:off x="2803680" y="2725200"/>
                <a:ext cx="3150720" cy="513720"/>
                <a:chOff x="2803680" y="2725200"/>
                <a:chExt cx="3150720" cy="513720"/>
              </a:xfrm>
            </p:grpSpPr>
            <p:sp>
              <p:nvSpPr>
                <p:cNvPr id="480" name="Rectangle 13"/>
                <p:cNvSpPr/>
                <p:nvPr/>
              </p:nvSpPr>
              <p:spPr>
                <a:xfrm>
                  <a:off x="2865960" y="2725200"/>
                  <a:ext cx="302652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(typewriter text) stejná šířka písma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Rectangle 53"/>
                <p:cNvSpPr/>
                <p:nvPr/>
              </p:nvSpPr>
              <p:spPr>
                <a:xfrm>
                  <a:off x="2803680" y="2725200"/>
                  <a:ext cx="315072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Group 56"/>
              <p:cNvGrpSpPr/>
              <p:nvPr/>
            </p:nvGrpSpPr>
            <p:grpSpPr>
              <a:xfrm>
                <a:off x="5955120" y="2725200"/>
                <a:ext cx="2647800" cy="513720"/>
                <a:chOff x="5955120" y="2725200"/>
                <a:chExt cx="2647800" cy="513720"/>
              </a:xfrm>
            </p:grpSpPr>
            <p:sp>
              <p:nvSpPr>
                <p:cNvPr id="483" name="Rectangle 14"/>
                <p:cNvSpPr/>
                <p:nvPr/>
              </p:nvSpPr>
              <p:spPr>
                <a:xfrm>
                  <a:off x="6017400" y="2725200"/>
                  <a:ext cx="252324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Courier New"/>
                      <a:ea typeface="Courier New"/>
                    </a:rPr>
                    <a:t>neproporcionální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Rectangle 55"/>
                <p:cNvSpPr/>
                <p:nvPr/>
              </p:nvSpPr>
              <p:spPr>
                <a:xfrm>
                  <a:off x="5955120" y="2725200"/>
                  <a:ext cx="264780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58"/>
              <p:cNvGrpSpPr/>
              <p:nvPr/>
            </p:nvGrpSpPr>
            <p:grpSpPr>
              <a:xfrm>
                <a:off x="692280" y="3239280"/>
                <a:ext cx="2111040" cy="399240"/>
                <a:chOff x="692280" y="3239280"/>
                <a:chExt cx="2111040" cy="399240"/>
              </a:xfrm>
            </p:grpSpPr>
            <p:sp>
              <p:nvSpPr>
                <p:cNvPr id="486" name="Rectangle 15"/>
                <p:cNvSpPr/>
                <p:nvPr/>
              </p:nvSpPr>
              <p:spPr>
                <a:xfrm>
                  <a:off x="753840" y="3239280"/>
                  <a:ext cx="198756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u&gt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57"/>
                <p:cNvSpPr/>
                <p:nvPr/>
              </p:nvSpPr>
              <p:spPr>
                <a:xfrm>
                  <a:off x="692280" y="3239280"/>
                  <a:ext cx="211104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Group 60"/>
              <p:cNvGrpSpPr/>
              <p:nvPr/>
            </p:nvGrpSpPr>
            <p:grpSpPr>
              <a:xfrm>
                <a:off x="2803680" y="3239280"/>
                <a:ext cx="3150720" cy="399240"/>
                <a:chOff x="2803680" y="3239280"/>
                <a:chExt cx="3150720" cy="399240"/>
              </a:xfrm>
            </p:grpSpPr>
            <p:sp>
              <p:nvSpPr>
                <p:cNvPr id="489" name="Rectangle 16"/>
                <p:cNvSpPr/>
                <p:nvPr/>
              </p:nvSpPr>
              <p:spPr>
                <a:xfrm>
                  <a:off x="2865960" y="3239280"/>
                  <a:ext cx="302652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dtržené písmo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Rectangle 59"/>
                <p:cNvSpPr/>
                <p:nvPr/>
              </p:nvSpPr>
              <p:spPr>
                <a:xfrm>
                  <a:off x="2803680" y="3239280"/>
                  <a:ext cx="315072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62"/>
              <p:cNvGrpSpPr/>
              <p:nvPr/>
            </p:nvGrpSpPr>
            <p:grpSpPr>
              <a:xfrm>
                <a:off x="5955120" y="3239280"/>
                <a:ext cx="2647800" cy="399240"/>
                <a:chOff x="5955120" y="3239280"/>
                <a:chExt cx="2647800" cy="399240"/>
              </a:xfrm>
            </p:grpSpPr>
            <p:sp>
              <p:nvSpPr>
                <p:cNvPr id="492" name="Rectangle 17"/>
                <p:cNvSpPr/>
                <p:nvPr/>
              </p:nvSpPr>
              <p:spPr>
                <a:xfrm>
                  <a:off x="6017400" y="3239280"/>
                  <a:ext cx="252324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u="sng">
                      <a:solidFill>
                        <a:srgbClr val="00264c"/>
                      </a:solidFill>
                      <a:uFillTx/>
                      <a:latin typeface="Times New Roman"/>
                      <a:ea typeface="Times New Roman"/>
                    </a:rPr>
                    <a:t>podtržené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Rectangle 61"/>
                <p:cNvSpPr/>
                <p:nvPr/>
              </p:nvSpPr>
              <p:spPr>
                <a:xfrm>
                  <a:off x="5955120" y="3239280"/>
                  <a:ext cx="264780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Group 64"/>
              <p:cNvGrpSpPr/>
              <p:nvPr/>
            </p:nvGrpSpPr>
            <p:grpSpPr>
              <a:xfrm>
                <a:off x="692280" y="3638880"/>
                <a:ext cx="2111040" cy="513360"/>
                <a:chOff x="692280" y="3638880"/>
                <a:chExt cx="2111040" cy="513360"/>
              </a:xfrm>
            </p:grpSpPr>
            <p:sp>
              <p:nvSpPr>
                <p:cNvPr id="495" name="Rectangle 18"/>
                <p:cNvSpPr/>
                <p:nvPr/>
              </p:nvSpPr>
              <p:spPr>
                <a:xfrm>
                  <a:off x="753840" y="3638880"/>
                  <a:ext cx="198756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strike&gt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Rectangle 63"/>
                <p:cNvSpPr/>
                <p:nvPr/>
              </p:nvSpPr>
              <p:spPr>
                <a:xfrm>
                  <a:off x="692280" y="3638880"/>
                  <a:ext cx="211104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Group 66"/>
              <p:cNvGrpSpPr/>
              <p:nvPr/>
            </p:nvGrpSpPr>
            <p:grpSpPr>
              <a:xfrm>
                <a:off x="2803680" y="3638880"/>
                <a:ext cx="3150720" cy="513360"/>
                <a:chOff x="2803680" y="3638880"/>
                <a:chExt cx="3150720" cy="513360"/>
              </a:xfrm>
            </p:grpSpPr>
            <p:sp>
              <p:nvSpPr>
                <p:cNvPr id="498" name="Rectangle 19"/>
                <p:cNvSpPr/>
                <p:nvPr/>
              </p:nvSpPr>
              <p:spPr>
                <a:xfrm>
                  <a:off x="2865960" y="3638880"/>
                  <a:ext cx="30265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řeškrtnuté písmo, značka se nedoporučuje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Rectangle 65"/>
                <p:cNvSpPr/>
                <p:nvPr/>
              </p:nvSpPr>
              <p:spPr>
                <a:xfrm>
                  <a:off x="2803680" y="3638880"/>
                  <a:ext cx="315072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68"/>
              <p:cNvGrpSpPr/>
              <p:nvPr/>
            </p:nvGrpSpPr>
            <p:grpSpPr>
              <a:xfrm>
                <a:off x="5955120" y="3638880"/>
                <a:ext cx="2647800" cy="513360"/>
                <a:chOff x="5955120" y="3638880"/>
                <a:chExt cx="2647800" cy="513360"/>
              </a:xfrm>
            </p:grpSpPr>
            <p:sp>
              <p:nvSpPr>
                <p:cNvPr id="501" name="Rectangle 20"/>
                <p:cNvSpPr/>
                <p:nvPr/>
              </p:nvSpPr>
              <p:spPr>
                <a:xfrm>
                  <a:off x="6017400" y="3638880"/>
                  <a:ext cx="252324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řeškrtnuté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Rectangle 67"/>
                <p:cNvSpPr/>
                <p:nvPr/>
              </p:nvSpPr>
              <p:spPr>
                <a:xfrm>
                  <a:off x="5955120" y="3638880"/>
                  <a:ext cx="26478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70"/>
              <p:cNvGrpSpPr/>
              <p:nvPr/>
            </p:nvGrpSpPr>
            <p:grpSpPr>
              <a:xfrm>
                <a:off x="692280" y="4152240"/>
                <a:ext cx="2111040" cy="513360"/>
                <a:chOff x="692280" y="4152240"/>
                <a:chExt cx="2111040" cy="513360"/>
              </a:xfrm>
            </p:grpSpPr>
            <p:sp>
              <p:nvSpPr>
                <p:cNvPr id="504" name="Rectangle 21"/>
                <p:cNvSpPr/>
                <p:nvPr/>
              </p:nvSpPr>
              <p:spPr>
                <a:xfrm>
                  <a:off x="753840" y="4152240"/>
                  <a:ext cx="198756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small&gt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Rectangle 69"/>
                <p:cNvSpPr/>
                <p:nvPr/>
              </p:nvSpPr>
              <p:spPr>
                <a:xfrm>
                  <a:off x="692280" y="4152240"/>
                  <a:ext cx="211104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Group 72"/>
              <p:cNvGrpSpPr/>
              <p:nvPr/>
            </p:nvGrpSpPr>
            <p:grpSpPr>
              <a:xfrm>
                <a:off x="2803680" y="4152240"/>
                <a:ext cx="3150720" cy="513360"/>
                <a:chOff x="2803680" y="4152240"/>
                <a:chExt cx="3150720" cy="513360"/>
              </a:xfrm>
            </p:grpSpPr>
            <p:sp>
              <p:nvSpPr>
                <p:cNvPr id="507" name="Rectangle 22"/>
                <p:cNvSpPr/>
                <p:nvPr/>
              </p:nvSpPr>
              <p:spPr>
                <a:xfrm>
                  <a:off x="2865960" y="4152240"/>
                  <a:ext cx="30265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ísmo, které bude o jeden stupeň menší než okolní text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Rectangle 71"/>
                <p:cNvSpPr/>
                <p:nvPr/>
              </p:nvSpPr>
              <p:spPr>
                <a:xfrm>
                  <a:off x="2803680" y="4152240"/>
                  <a:ext cx="315072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Group 74"/>
              <p:cNvGrpSpPr/>
              <p:nvPr/>
            </p:nvGrpSpPr>
            <p:grpSpPr>
              <a:xfrm>
                <a:off x="5955120" y="4152240"/>
                <a:ext cx="2647800" cy="513360"/>
                <a:chOff x="5955120" y="4152240"/>
                <a:chExt cx="2647800" cy="513360"/>
              </a:xfrm>
            </p:grpSpPr>
            <p:sp>
              <p:nvSpPr>
                <p:cNvPr id="510" name="Rectangle 23"/>
                <p:cNvSpPr/>
                <p:nvPr/>
              </p:nvSpPr>
              <p:spPr>
                <a:xfrm>
                  <a:off x="6017400" y="4152240"/>
                  <a:ext cx="252324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Menší </a:t>
                  </a: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text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Rectangle 73"/>
                <p:cNvSpPr/>
                <p:nvPr/>
              </p:nvSpPr>
              <p:spPr>
                <a:xfrm>
                  <a:off x="5955120" y="4152240"/>
                  <a:ext cx="26478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Group 76"/>
              <p:cNvGrpSpPr/>
              <p:nvPr/>
            </p:nvGrpSpPr>
            <p:grpSpPr>
              <a:xfrm>
                <a:off x="692280" y="4665960"/>
                <a:ext cx="2111040" cy="627480"/>
                <a:chOff x="692280" y="4665960"/>
                <a:chExt cx="2111040" cy="627480"/>
              </a:xfrm>
            </p:grpSpPr>
            <p:sp>
              <p:nvSpPr>
                <p:cNvPr id="513" name="Rectangle 24"/>
                <p:cNvSpPr/>
                <p:nvPr/>
              </p:nvSpPr>
              <p:spPr>
                <a:xfrm>
                  <a:off x="753840" y="4665960"/>
                  <a:ext cx="1987560" cy="6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big&gt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Rectangle 75"/>
                <p:cNvSpPr/>
                <p:nvPr/>
              </p:nvSpPr>
              <p:spPr>
                <a:xfrm>
                  <a:off x="692280" y="4665960"/>
                  <a:ext cx="2111040" cy="62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Group 78"/>
              <p:cNvGrpSpPr/>
              <p:nvPr/>
            </p:nvGrpSpPr>
            <p:grpSpPr>
              <a:xfrm>
                <a:off x="2803680" y="4665960"/>
                <a:ext cx="3150720" cy="627480"/>
                <a:chOff x="2803680" y="4665960"/>
                <a:chExt cx="3150720" cy="627480"/>
              </a:xfrm>
            </p:grpSpPr>
            <p:sp>
              <p:nvSpPr>
                <p:cNvPr id="516" name="Rectangle 25"/>
                <p:cNvSpPr/>
                <p:nvPr/>
              </p:nvSpPr>
              <p:spPr>
                <a:xfrm>
                  <a:off x="2865960" y="4665960"/>
                  <a:ext cx="3026520" cy="6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ísmo, které bude o jeden stupeň větší než okolní text (max 7)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Rectangle 77"/>
                <p:cNvSpPr/>
                <p:nvPr/>
              </p:nvSpPr>
              <p:spPr>
                <a:xfrm>
                  <a:off x="2803680" y="4665960"/>
                  <a:ext cx="3150720" cy="62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80"/>
              <p:cNvGrpSpPr/>
              <p:nvPr/>
            </p:nvGrpSpPr>
            <p:grpSpPr>
              <a:xfrm>
                <a:off x="5955120" y="4665960"/>
                <a:ext cx="2647800" cy="627480"/>
                <a:chOff x="5955120" y="4665960"/>
                <a:chExt cx="2647800" cy="627480"/>
              </a:xfrm>
            </p:grpSpPr>
            <p:sp>
              <p:nvSpPr>
                <p:cNvPr id="519" name="Rectangle 26"/>
                <p:cNvSpPr/>
                <p:nvPr/>
              </p:nvSpPr>
              <p:spPr>
                <a:xfrm>
                  <a:off x="6017400" y="4665960"/>
                  <a:ext cx="2523240" cy="6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Větší</a:t>
                  </a: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text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Rectangle 79"/>
                <p:cNvSpPr/>
                <p:nvPr/>
              </p:nvSpPr>
              <p:spPr>
                <a:xfrm>
                  <a:off x="5955120" y="4665960"/>
                  <a:ext cx="2647800" cy="62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Group 82"/>
              <p:cNvGrpSpPr/>
              <p:nvPr/>
            </p:nvGrpSpPr>
            <p:grpSpPr>
              <a:xfrm>
                <a:off x="692280" y="5293800"/>
                <a:ext cx="2111040" cy="399240"/>
                <a:chOff x="692280" y="5293800"/>
                <a:chExt cx="2111040" cy="399240"/>
              </a:xfrm>
            </p:grpSpPr>
            <p:sp>
              <p:nvSpPr>
                <p:cNvPr id="522" name="Rectangle 27"/>
                <p:cNvSpPr/>
                <p:nvPr/>
              </p:nvSpPr>
              <p:spPr>
                <a:xfrm>
                  <a:off x="753840" y="5293800"/>
                  <a:ext cx="198756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sup&gt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Rectangle 81"/>
                <p:cNvSpPr/>
                <p:nvPr/>
              </p:nvSpPr>
              <p:spPr>
                <a:xfrm>
                  <a:off x="692280" y="5293800"/>
                  <a:ext cx="211104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84"/>
              <p:cNvGrpSpPr/>
              <p:nvPr/>
            </p:nvGrpSpPr>
            <p:grpSpPr>
              <a:xfrm>
                <a:off x="2803680" y="5293800"/>
                <a:ext cx="3150720" cy="399240"/>
                <a:chOff x="2803680" y="5293800"/>
                <a:chExt cx="3150720" cy="399240"/>
              </a:xfrm>
            </p:grpSpPr>
            <p:sp>
              <p:nvSpPr>
                <p:cNvPr id="525" name="Rectangle 28"/>
                <p:cNvSpPr/>
                <p:nvPr/>
              </p:nvSpPr>
              <p:spPr>
                <a:xfrm>
                  <a:off x="2865960" y="5293800"/>
                  <a:ext cx="302652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horní index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Rectangle 83"/>
                <p:cNvSpPr/>
                <p:nvPr/>
              </p:nvSpPr>
              <p:spPr>
                <a:xfrm>
                  <a:off x="2803680" y="5293800"/>
                  <a:ext cx="315072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Group 86"/>
              <p:cNvGrpSpPr/>
              <p:nvPr/>
            </p:nvGrpSpPr>
            <p:grpSpPr>
              <a:xfrm>
                <a:off x="5955120" y="5293800"/>
                <a:ext cx="2647800" cy="399240"/>
                <a:chOff x="5955120" y="5293800"/>
                <a:chExt cx="2647800" cy="399240"/>
              </a:xfrm>
            </p:grpSpPr>
            <p:sp>
              <p:nvSpPr>
                <p:cNvPr id="528" name="Rectangle 29"/>
                <p:cNvSpPr/>
                <p:nvPr/>
              </p:nvSpPr>
              <p:spPr>
                <a:xfrm>
                  <a:off x="6017400" y="5293800"/>
                  <a:ext cx="252324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horní </a:t>
                  </a:r>
                  <a:r>
                    <a:rPr b="0" lang="en-US" sz="1200" spc="-1" strike="noStrike" baseline="30000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index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Rectangle 85"/>
                <p:cNvSpPr/>
                <p:nvPr/>
              </p:nvSpPr>
              <p:spPr>
                <a:xfrm>
                  <a:off x="5955120" y="5293800"/>
                  <a:ext cx="264780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Group 88"/>
              <p:cNvGrpSpPr/>
              <p:nvPr/>
            </p:nvGrpSpPr>
            <p:grpSpPr>
              <a:xfrm>
                <a:off x="692280" y="5693400"/>
                <a:ext cx="2111040" cy="399240"/>
                <a:chOff x="692280" y="5693400"/>
                <a:chExt cx="2111040" cy="399240"/>
              </a:xfrm>
            </p:grpSpPr>
            <p:sp>
              <p:nvSpPr>
                <p:cNvPr id="531" name="Rectangle 30"/>
                <p:cNvSpPr/>
                <p:nvPr/>
              </p:nvSpPr>
              <p:spPr>
                <a:xfrm>
                  <a:off x="753840" y="5693400"/>
                  <a:ext cx="198756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sub&gt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Rectangle 87"/>
                <p:cNvSpPr/>
                <p:nvPr/>
              </p:nvSpPr>
              <p:spPr>
                <a:xfrm>
                  <a:off x="692280" y="5693400"/>
                  <a:ext cx="211104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Group 90"/>
              <p:cNvGrpSpPr/>
              <p:nvPr/>
            </p:nvGrpSpPr>
            <p:grpSpPr>
              <a:xfrm>
                <a:off x="2803680" y="5693400"/>
                <a:ext cx="3150720" cy="399240"/>
                <a:chOff x="2803680" y="5693400"/>
                <a:chExt cx="3150720" cy="399240"/>
              </a:xfrm>
            </p:grpSpPr>
            <p:sp>
              <p:nvSpPr>
                <p:cNvPr id="534" name="Rectangle 31"/>
                <p:cNvSpPr/>
                <p:nvPr/>
              </p:nvSpPr>
              <p:spPr>
                <a:xfrm>
                  <a:off x="2865960" y="5693400"/>
                  <a:ext cx="302652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olní index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Rectangle 89"/>
                <p:cNvSpPr/>
                <p:nvPr/>
              </p:nvSpPr>
              <p:spPr>
                <a:xfrm>
                  <a:off x="2803680" y="5693400"/>
                  <a:ext cx="315072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Group 92"/>
              <p:cNvGrpSpPr/>
              <p:nvPr/>
            </p:nvGrpSpPr>
            <p:grpSpPr>
              <a:xfrm>
                <a:off x="5955120" y="5693400"/>
                <a:ext cx="2647800" cy="399240"/>
                <a:chOff x="5955120" y="5693400"/>
                <a:chExt cx="2647800" cy="399240"/>
              </a:xfrm>
            </p:grpSpPr>
            <p:sp>
              <p:nvSpPr>
                <p:cNvPr id="537" name="Rectangle 32"/>
                <p:cNvSpPr/>
                <p:nvPr/>
              </p:nvSpPr>
              <p:spPr>
                <a:xfrm>
                  <a:off x="6017400" y="5693400"/>
                  <a:ext cx="252324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olní </a:t>
                  </a:r>
                  <a:r>
                    <a:rPr b="0" lang="en-US" sz="1200" spc="-1" strike="noStrike" baseline="-30000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index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Rectangle 91"/>
                <p:cNvSpPr/>
                <p:nvPr/>
              </p:nvSpPr>
              <p:spPr>
                <a:xfrm>
                  <a:off x="5955120" y="5693400"/>
                  <a:ext cx="2647800" cy="39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Rectangle 94"/>
            <p:cNvSpPr/>
            <p:nvPr/>
          </p:nvSpPr>
          <p:spPr>
            <a:xfrm>
              <a:off x="685800" y="1523880"/>
              <a:ext cx="7924320" cy="4572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540" name="Line 96"/>
          <p:cNvSpPr/>
          <p:nvPr/>
        </p:nvSpPr>
        <p:spPr>
          <a:xfrm>
            <a:off x="1547640" y="333360"/>
            <a:ext cx="6624720" cy="590400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1" name="Line 97"/>
          <p:cNvSpPr/>
          <p:nvPr/>
        </p:nvSpPr>
        <p:spPr>
          <a:xfrm flipH="1">
            <a:off x="1402920" y="333360"/>
            <a:ext cx="6769080" cy="612000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AED3-C961-4838-9ED5-F9388F0EA851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Inline phrasa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44" name="Group 26"/>
          <p:cNvGrpSpPr/>
          <p:nvPr/>
        </p:nvGrpSpPr>
        <p:grpSpPr>
          <a:xfrm>
            <a:off x="1295280" y="1981080"/>
            <a:ext cx="6827760" cy="3371760"/>
            <a:chOff x="1295280" y="1981080"/>
            <a:chExt cx="6827760" cy="3371760"/>
          </a:xfrm>
        </p:grpSpPr>
        <p:grpSp>
          <p:nvGrpSpPr>
            <p:cNvPr id="545" name="Group 24"/>
            <p:cNvGrpSpPr/>
            <p:nvPr/>
          </p:nvGrpSpPr>
          <p:grpSpPr>
            <a:xfrm>
              <a:off x="1300320" y="1986120"/>
              <a:ext cx="6816600" cy="3360240"/>
              <a:chOff x="1300320" y="1986120"/>
              <a:chExt cx="6816600" cy="3360240"/>
            </a:xfrm>
          </p:grpSpPr>
          <p:grpSp>
            <p:nvGrpSpPr>
              <p:cNvPr id="546" name="Group 11"/>
              <p:cNvGrpSpPr/>
              <p:nvPr/>
            </p:nvGrpSpPr>
            <p:grpSpPr>
              <a:xfrm>
                <a:off x="1300320" y="1986120"/>
                <a:ext cx="6816600" cy="944640"/>
                <a:chOff x="1300320" y="1986120"/>
                <a:chExt cx="6816600" cy="944640"/>
              </a:xfrm>
            </p:grpSpPr>
            <p:sp>
              <p:nvSpPr>
                <p:cNvPr id="547" name="Rectangle 3"/>
                <p:cNvSpPr/>
                <p:nvPr/>
              </p:nvSpPr>
              <p:spPr>
                <a:xfrm>
                  <a:off x="1350360" y="1986120"/>
                  <a:ext cx="6716160" cy="9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abbr&gt;,&lt;acronym&gt;,&lt;cite&gt;,&lt;code&gt;,&lt;dfn&gt;,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em&gt;,&lt;kbd&gt;,&lt;samp&gt;,</a:t>
                  </a:r>
                  <a:r>
                    <a:rPr b="1" lang="cs-CZ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strong&gt;</a:t>
                  </a:r>
                  <a:r>
                    <a:rPr b="1" lang="cs-CZ" sz="2000" spc="-1" strike="noStrike">
                      <a:solidFill>
                        <a:srgbClr val="00264c"/>
                      </a:solidFill>
                      <a:latin typeface="Arial"/>
                      <a:ea typeface="Times New Roman"/>
                    </a:rPr>
                    <a:t>,</a:t>
                  </a: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var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Rectangle 10"/>
                <p:cNvSpPr/>
                <p:nvPr/>
              </p:nvSpPr>
              <p:spPr>
                <a:xfrm>
                  <a:off x="1300320" y="1986120"/>
                  <a:ext cx="6816600" cy="94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Group 13"/>
              <p:cNvGrpSpPr/>
              <p:nvPr/>
            </p:nvGrpSpPr>
            <p:grpSpPr>
              <a:xfrm>
                <a:off x="1300320" y="2931120"/>
                <a:ext cx="2476800" cy="944640"/>
                <a:chOff x="1300320" y="2931120"/>
                <a:chExt cx="2476800" cy="944640"/>
              </a:xfrm>
            </p:grpSpPr>
            <p:sp>
              <p:nvSpPr>
                <p:cNvPr id="550" name="Rectangle 4"/>
                <p:cNvSpPr/>
                <p:nvPr/>
              </p:nvSpPr>
              <p:spPr>
                <a:xfrm>
                  <a:off x="1350360" y="2931120"/>
                  <a:ext cx="2376720" cy="9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Rectangle 12"/>
                <p:cNvSpPr/>
                <p:nvPr/>
              </p:nvSpPr>
              <p:spPr>
                <a:xfrm>
                  <a:off x="1300320" y="2931120"/>
                  <a:ext cx="2476800" cy="94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Group 15"/>
              <p:cNvGrpSpPr/>
              <p:nvPr/>
            </p:nvGrpSpPr>
            <p:grpSpPr>
              <a:xfrm>
                <a:off x="3777480" y="2931120"/>
                <a:ext cx="4339080" cy="944640"/>
                <a:chOff x="3777480" y="2931120"/>
                <a:chExt cx="4339080" cy="944640"/>
              </a:xfrm>
            </p:grpSpPr>
            <p:sp>
              <p:nvSpPr>
                <p:cNvPr id="553" name="Rectangle 5"/>
                <p:cNvSpPr/>
                <p:nvPr/>
              </p:nvSpPr>
              <p:spPr>
                <a:xfrm>
                  <a:off x="3827880" y="2931120"/>
                  <a:ext cx="4238280" cy="9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Změní vzhled textu podle významu, kontextu nebo použití textu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14"/>
                <p:cNvSpPr/>
                <p:nvPr/>
              </p:nvSpPr>
              <p:spPr>
                <a:xfrm>
                  <a:off x="3777480" y="2931120"/>
                  <a:ext cx="4339080" cy="94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Group 17"/>
              <p:cNvGrpSpPr/>
              <p:nvPr/>
            </p:nvGrpSpPr>
            <p:grpSpPr>
              <a:xfrm>
                <a:off x="1300320" y="3876120"/>
                <a:ext cx="2476800" cy="735120"/>
                <a:chOff x="1300320" y="3876120"/>
                <a:chExt cx="2476800" cy="735120"/>
              </a:xfrm>
            </p:grpSpPr>
            <p:sp>
              <p:nvSpPr>
                <p:cNvPr id="556" name="Rectangle 6"/>
                <p:cNvSpPr/>
                <p:nvPr/>
              </p:nvSpPr>
              <p:spPr>
                <a:xfrm>
                  <a:off x="1350360" y="3876120"/>
                  <a:ext cx="2376720" cy="73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Rectangle 16"/>
                <p:cNvSpPr/>
                <p:nvPr/>
              </p:nvSpPr>
              <p:spPr>
                <a:xfrm>
                  <a:off x="1300320" y="3876120"/>
                  <a:ext cx="2476800" cy="73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19"/>
              <p:cNvGrpSpPr/>
              <p:nvPr/>
            </p:nvGrpSpPr>
            <p:grpSpPr>
              <a:xfrm>
                <a:off x="3777480" y="3876120"/>
                <a:ext cx="4339080" cy="735120"/>
                <a:chOff x="3777480" y="3876120"/>
                <a:chExt cx="4339080" cy="735120"/>
              </a:xfrm>
            </p:grpSpPr>
            <p:sp>
              <p:nvSpPr>
                <p:cNvPr id="559" name="Rectangle 7"/>
                <p:cNvSpPr/>
                <p:nvPr/>
              </p:nvSpPr>
              <p:spPr>
                <a:xfrm>
                  <a:off x="3827880" y="3876120"/>
                  <a:ext cx="4238280" cy="73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6 základních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Rectangle 18"/>
                <p:cNvSpPr/>
                <p:nvPr/>
              </p:nvSpPr>
              <p:spPr>
                <a:xfrm>
                  <a:off x="3777480" y="3876120"/>
                  <a:ext cx="4339080" cy="73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Group 21"/>
              <p:cNvGrpSpPr/>
              <p:nvPr/>
            </p:nvGrpSpPr>
            <p:grpSpPr>
              <a:xfrm>
                <a:off x="1300320" y="4611600"/>
                <a:ext cx="2476800" cy="734760"/>
                <a:chOff x="1300320" y="4611600"/>
                <a:chExt cx="2476800" cy="734760"/>
              </a:xfrm>
            </p:grpSpPr>
            <p:sp>
              <p:nvSpPr>
                <p:cNvPr id="562" name="Rectangle 8"/>
                <p:cNvSpPr/>
                <p:nvPr/>
              </p:nvSpPr>
              <p:spPr>
                <a:xfrm>
                  <a:off x="1350360" y="4611600"/>
                  <a:ext cx="2376720" cy="73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Rectangle 20"/>
                <p:cNvSpPr/>
                <p:nvPr/>
              </p:nvSpPr>
              <p:spPr>
                <a:xfrm>
                  <a:off x="1300320" y="4611600"/>
                  <a:ext cx="2476800" cy="73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Group 23"/>
              <p:cNvGrpSpPr/>
              <p:nvPr/>
            </p:nvGrpSpPr>
            <p:grpSpPr>
              <a:xfrm>
                <a:off x="3777480" y="4611600"/>
                <a:ext cx="4339080" cy="734760"/>
                <a:chOff x="3777480" y="4611600"/>
                <a:chExt cx="4339080" cy="734760"/>
              </a:xfrm>
            </p:grpSpPr>
            <p:sp>
              <p:nvSpPr>
                <p:cNvPr id="565" name="Rectangle 9"/>
                <p:cNvSpPr/>
                <p:nvPr/>
              </p:nvSpPr>
              <p:spPr>
                <a:xfrm>
                  <a:off x="3827880" y="4611600"/>
                  <a:ext cx="4238280" cy="73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Koncové značky se nikdy nevynechávají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Rectangle 22"/>
                <p:cNvSpPr/>
                <p:nvPr/>
              </p:nvSpPr>
              <p:spPr>
                <a:xfrm>
                  <a:off x="3777480" y="4611600"/>
                  <a:ext cx="4339080" cy="73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Rectangle 25"/>
            <p:cNvSpPr/>
            <p:nvPr/>
          </p:nvSpPr>
          <p:spPr>
            <a:xfrm>
              <a:off x="1295280" y="1981080"/>
              <a:ext cx="6827760" cy="3371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07A2-9524-4003-BF63-CB3CA9EF48C2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264c"/>
                </a:solidFill>
                <a:latin typeface="Times New Roman"/>
              </a:rPr>
              <a:t>Seznam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tři různé možnosti pro vytvoření se seznamů (výčtů) 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číslovaný seznam, seznam s odrážkami a seznam definic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&lt;OL&gt;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číslovaný seznam (Ordered List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&lt;UL&gt;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seznam s odrážkami (Unordered List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&lt;LI&gt;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položka v seznamu &lt;OL&gt; nebo &lt;UL&gt; (List Item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&lt;DL&gt;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seznam definic (Definition List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&lt;DT&gt;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pojem v &lt;DL&gt; (Definition Term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&lt;DD&gt;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vysvětlení v &lt;DL&gt; (Definition Description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C7E8-5CC7-4F40-A0D1-8FEA88C9BDD8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Times New Roman"/>
              </a:rPr>
              <a:t>Neuspořádaný seznam – seznam s odrážkami</a:t>
            </a:r>
            <a:r>
              <a:rPr b="0" lang="cs-CZ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73" name="Group 26"/>
          <p:cNvGrpSpPr/>
          <p:nvPr/>
        </p:nvGrpSpPr>
        <p:grpSpPr>
          <a:xfrm>
            <a:off x="1600200" y="1752480"/>
            <a:ext cx="5684760" cy="1970280"/>
            <a:chOff x="1600200" y="1752480"/>
            <a:chExt cx="5684760" cy="1970280"/>
          </a:xfrm>
        </p:grpSpPr>
        <p:grpSp>
          <p:nvGrpSpPr>
            <p:cNvPr id="574" name="Group 24"/>
            <p:cNvGrpSpPr/>
            <p:nvPr/>
          </p:nvGrpSpPr>
          <p:grpSpPr>
            <a:xfrm>
              <a:off x="1604520" y="1755720"/>
              <a:ext cx="5675760" cy="1962720"/>
              <a:chOff x="1604520" y="1755720"/>
              <a:chExt cx="5675760" cy="1962720"/>
            </a:xfrm>
          </p:grpSpPr>
          <p:grpSp>
            <p:nvGrpSpPr>
              <p:cNvPr id="575" name="Group 11"/>
              <p:cNvGrpSpPr/>
              <p:nvPr/>
            </p:nvGrpSpPr>
            <p:grpSpPr>
              <a:xfrm>
                <a:off x="1604520" y="1755720"/>
                <a:ext cx="5675760" cy="490680"/>
                <a:chOff x="1604520" y="1755720"/>
                <a:chExt cx="5675760" cy="490680"/>
              </a:xfrm>
            </p:grpSpPr>
            <p:sp>
              <p:nvSpPr>
                <p:cNvPr id="576" name="Rectangle 3"/>
                <p:cNvSpPr/>
                <p:nvPr/>
              </p:nvSpPr>
              <p:spPr>
                <a:xfrm>
                  <a:off x="1645920" y="1755720"/>
                  <a:ext cx="559188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ul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Rectangle 10"/>
                <p:cNvSpPr/>
                <p:nvPr/>
              </p:nvSpPr>
              <p:spPr>
                <a:xfrm>
                  <a:off x="1604520" y="1755720"/>
                  <a:ext cx="567576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Group 13"/>
              <p:cNvGrpSpPr/>
              <p:nvPr/>
            </p:nvGrpSpPr>
            <p:grpSpPr>
              <a:xfrm>
                <a:off x="1604520" y="2246400"/>
                <a:ext cx="2062440" cy="490680"/>
                <a:chOff x="1604520" y="2246400"/>
                <a:chExt cx="2062440" cy="490680"/>
              </a:xfrm>
            </p:grpSpPr>
            <p:sp>
              <p:nvSpPr>
                <p:cNvPr id="579" name="Rectangle 4"/>
                <p:cNvSpPr/>
                <p:nvPr/>
              </p:nvSpPr>
              <p:spPr>
                <a:xfrm>
                  <a:off x="1645920" y="2246400"/>
                  <a:ext cx="197892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Rectangle 12"/>
                <p:cNvSpPr/>
                <p:nvPr/>
              </p:nvSpPr>
              <p:spPr>
                <a:xfrm>
                  <a:off x="1604520" y="2246400"/>
                  <a:ext cx="206244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15"/>
              <p:cNvGrpSpPr/>
              <p:nvPr/>
            </p:nvGrpSpPr>
            <p:grpSpPr>
              <a:xfrm>
                <a:off x="3666960" y="2246400"/>
                <a:ext cx="3612960" cy="490680"/>
                <a:chOff x="3666960" y="2246400"/>
                <a:chExt cx="3612960" cy="490680"/>
              </a:xfrm>
            </p:grpSpPr>
            <p:sp>
              <p:nvSpPr>
                <p:cNvPr id="582" name="Rectangle 5"/>
                <p:cNvSpPr/>
                <p:nvPr/>
              </p:nvSpPr>
              <p:spPr>
                <a:xfrm>
                  <a:off x="3708720" y="2246400"/>
                  <a:ext cx="352872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neuspořádaný seznam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Rectangle 14"/>
                <p:cNvSpPr/>
                <p:nvPr/>
              </p:nvSpPr>
              <p:spPr>
                <a:xfrm>
                  <a:off x="3666960" y="2246400"/>
                  <a:ext cx="361296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Group 17"/>
              <p:cNvGrpSpPr/>
              <p:nvPr/>
            </p:nvGrpSpPr>
            <p:grpSpPr>
              <a:xfrm>
                <a:off x="1604520" y="2737080"/>
                <a:ext cx="2062440" cy="490680"/>
                <a:chOff x="1604520" y="2737080"/>
                <a:chExt cx="2062440" cy="490680"/>
              </a:xfrm>
            </p:grpSpPr>
            <p:sp>
              <p:nvSpPr>
                <p:cNvPr id="585" name="Rectangle 6"/>
                <p:cNvSpPr/>
                <p:nvPr/>
              </p:nvSpPr>
              <p:spPr>
                <a:xfrm>
                  <a:off x="1645920" y="2737080"/>
                  <a:ext cx="197892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Rectangle 16"/>
                <p:cNvSpPr/>
                <p:nvPr/>
              </p:nvSpPr>
              <p:spPr>
                <a:xfrm>
                  <a:off x="1604520" y="2737080"/>
                  <a:ext cx="206244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Group 19"/>
              <p:cNvGrpSpPr/>
              <p:nvPr/>
            </p:nvGrpSpPr>
            <p:grpSpPr>
              <a:xfrm>
                <a:off x="3666960" y="2737080"/>
                <a:ext cx="3612960" cy="490680"/>
                <a:chOff x="3666960" y="2737080"/>
                <a:chExt cx="3612960" cy="490680"/>
              </a:xfrm>
            </p:grpSpPr>
            <p:sp>
              <p:nvSpPr>
                <p:cNvPr id="588" name="Rectangle 7"/>
                <p:cNvSpPr/>
                <p:nvPr/>
              </p:nvSpPr>
              <p:spPr>
                <a:xfrm>
                  <a:off x="3708720" y="2737080"/>
                  <a:ext cx="352872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6 základních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Rectangle 18"/>
                <p:cNvSpPr/>
                <p:nvPr/>
              </p:nvSpPr>
              <p:spPr>
                <a:xfrm>
                  <a:off x="3666960" y="2737080"/>
                  <a:ext cx="361296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Group 21"/>
              <p:cNvGrpSpPr/>
              <p:nvPr/>
            </p:nvGrpSpPr>
            <p:grpSpPr>
              <a:xfrm>
                <a:off x="1604520" y="3227760"/>
                <a:ext cx="2062440" cy="490680"/>
                <a:chOff x="1604520" y="3227760"/>
                <a:chExt cx="2062440" cy="490680"/>
              </a:xfrm>
            </p:grpSpPr>
            <p:sp>
              <p:nvSpPr>
                <p:cNvPr id="591" name="Rectangle 8"/>
                <p:cNvSpPr/>
                <p:nvPr/>
              </p:nvSpPr>
              <p:spPr>
                <a:xfrm>
                  <a:off x="1645920" y="3227760"/>
                  <a:ext cx="197892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Rectangle 20"/>
                <p:cNvSpPr/>
                <p:nvPr/>
              </p:nvSpPr>
              <p:spPr>
                <a:xfrm>
                  <a:off x="1604520" y="3227760"/>
                  <a:ext cx="206244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Group 23"/>
              <p:cNvGrpSpPr/>
              <p:nvPr/>
            </p:nvGrpSpPr>
            <p:grpSpPr>
              <a:xfrm>
                <a:off x="3666960" y="3227760"/>
                <a:ext cx="3612960" cy="490680"/>
                <a:chOff x="3666960" y="3227760"/>
                <a:chExt cx="3612960" cy="490680"/>
              </a:xfrm>
            </p:grpSpPr>
            <p:sp>
              <p:nvSpPr>
                <p:cNvPr id="594" name="Rectangle 9"/>
                <p:cNvSpPr/>
                <p:nvPr/>
              </p:nvSpPr>
              <p:spPr>
                <a:xfrm>
                  <a:off x="3708720" y="3227760"/>
                  <a:ext cx="352872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ložky seznamu nemají pořadí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22"/>
                <p:cNvSpPr/>
                <p:nvPr/>
              </p:nvSpPr>
              <p:spPr>
                <a:xfrm>
                  <a:off x="3666960" y="3227760"/>
                  <a:ext cx="361296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6" name="Rectangle 25"/>
            <p:cNvSpPr/>
            <p:nvPr/>
          </p:nvSpPr>
          <p:spPr>
            <a:xfrm>
              <a:off x="1600200" y="1752480"/>
              <a:ext cx="5684760" cy="1970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597" name="Group 50"/>
          <p:cNvGrpSpPr/>
          <p:nvPr/>
        </p:nvGrpSpPr>
        <p:grpSpPr>
          <a:xfrm>
            <a:off x="1143000" y="3886200"/>
            <a:ext cx="6629040" cy="2286000"/>
            <a:chOff x="1143000" y="3886200"/>
            <a:chExt cx="6629040" cy="2286000"/>
          </a:xfrm>
        </p:grpSpPr>
        <p:grpSp>
          <p:nvGrpSpPr>
            <p:cNvPr id="598" name="Group 48"/>
            <p:cNvGrpSpPr/>
            <p:nvPr/>
          </p:nvGrpSpPr>
          <p:grpSpPr>
            <a:xfrm>
              <a:off x="1148040" y="3889800"/>
              <a:ext cx="6618240" cy="2278080"/>
              <a:chOff x="1148040" y="3889800"/>
              <a:chExt cx="6618240" cy="2278080"/>
            </a:xfrm>
          </p:grpSpPr>
          <p:grpSp>
            <p:nvGrpSpPr>
              <p:cNvPr id="599" name="Group 35"/>
              <p:cNvGrpSpPr/>
              <p:nvPr/>
            </p:nvGrpSpPr>
            <p:grpSpPr>
              <a:xfrm>
                <a:off x="1148040" y="3889800"/>
                <a:ext cx="6618240" cy="498240"/>
                <a:chOff x="1148040" y="3889800"/>
                <a:chExt cx="6618240" cy="498240"/>
              </a:xfrm>
            </p:grpSpPr>
            <p:sp>
              <p:nvSpPr>
                <p:cNvPr id="600" name="Rectangle 27"/>
                <p:cNvSpPr/>
                <p:nvPr/>
              </p:nvSpPr>
              <p:spPr>
                <a:xfrm>
                  <a:off x="1196640" y="3889800"/>
                  <a:ext cx="652068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li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Rectangle 34"/>
                <p:cNvSpPr/>
                <p:nvPr/>
              </p:nvSpPr>
              <p:spPr>
                <a:xfrm>
                  <a:off x="1148040" y="3889800"/>
                  <a:ext cx="661824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Group 37"/>
              <p:cNvGrpSpPr/>
              <p:nvPr/>
            </p:nvGrpSpPr>
            <p:grpSpPr>
              <a:xfrm>
                <a:off x="1148040" y="4388040"/>
                <a:ext cx="2404800" cy="498240"/>
                <a:chOff x="1148040" y="4388040"/>
                <a:chExt cx="2404800" cy="498240"/>
              </a:xfrm>
            </p:grpSpPr>
            <p:sp>
              <p:nvSpPr>
                <p:cNvPr id="603" name="Rectangle 28"/>
                <p:cNvSpPr/>
                <p:nvPr/>
              </p:nvSpPr>
              <p:spPr>
                <a:xfrm>
                  <a:off x="1196640" y="4388040"/>
                  <a:ext cx="23076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36"/>
                <p:cNvSpPr/>
                <p:nvPr/>
              </p:nvSpPr>
              <p:spPr>
                <a:xfrm>
                  <a:off x="1148040" y="4388040"/>
                  <a:ext cx="240480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39"/>
              <p:cNvGrpSpPr/>
              <p:nvPr/>
            </p:nvGrpSpPr>
            <p:grpSpPr>
              <a:xfrm>
                <a:off x="3553200" y="4388040"/>
                <a:ext cx="4213080" cy="498240"/>
                <a:chOff x="3553200" y="4388040"/>
                <a:chExt cx="4213080" cy="498240"/>
              </a:xfrm>
            </p:grpSpPr>
            <p:sp>
              <p:nvSpPr>
                <p:cNvPr id="606" name="Rectangle 29"/>
                <p:cNvSpPr/>
                <p:nvPr/>
              </p:nvSpPr>
              <p:spPr>
                <a:xfrm>
                  <a:off x="3602160" y="4388040"/>
                  <a:ext cx="411516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položku v seznamu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Rectangle 38"/>
                <p:cNvSpPr/>
                <p:nvPr/>
              </p:nvSpPr>
              <p:spPr>
                <a:xfrm>
                  <a:off x="3553200" y="4388040"/>
                  <a:ext cx="421308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Group 41"/>
              <p:cNvGrpSpPr/>
              <p:nvPr/>
            </p:nvGrpSpPr>
            <p:grpSpPr>
              <a:xfrm>
                <a:off x="1148040" y="4886640"/>
                <a:ext cx="2404800" cy="498240"/>
                <a:chOff x="1148040" y="4886640"/>
                <a:chExt cx="2404800" cy="498240"/>
              </a:xfrm>
            </p:grpSpPr>
            <p:sp>
              <p:nvSpPr>
                <p:cNvPr id="609" name="Rectangle 30"/>
                <p:cNvSpPr/>
                <p:nvPr/>
              </p:nvSpPr>
              <p:spPr>
                <a:xfrm>
                  <a:off x="1196640" y="4886640"/>
                  <a:ext cx="23076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Rectangle 40"/>
                <p:cNvSpPr/>
                <p:nvPr/>
              </p:nvSpPr>
              <p:spPr>
                <a:xfrm>
                  <a:off x="1148040" y="4886640"/>
                  <a:ext cx="240480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Group 43"/>
              <p:cNvGrpSpPr/>
              <p:nvPr/>
            </p:nvGrpSpPr>
            <p:grpSpPr>
              <a:xfrm>
                <a:off x="3553200" y="4886640"/>
                <a:ext cx="4213080" cy="498240"/>
                <a:chOff x="3553200" y="4886640"/>
                <a:chExt cx="4213080" cy="498240"/>
              </a:xfrm>
            </p:grpSpPr>
            <p:sp>
              <p:nvSpPr>
                <p:cNvPr id="612" name="Rectangle 31"/>
                <p:cNvSpPr/>
                <p:nvPr/>
              </p:nvSpPr>
              <p:spPr>
                <a:xfrm>
                  <a:off x="3602160" y="4886640"/>
                  <a:ext cx="411516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6 základních a type, valu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Rectangle 42"/>
                <p:cNvSpPr/>
                <p:nvPr/>
              </p:nvSpPr>
              <p:spPr>
                <a:xfrm>
                  <a:off x="3553200" y="4886640"/>
                  <a:ext cx="421308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Group 45"/>
              <p:cNvGrpSpPr/>
              <p:nvPr/>
            </p:nvGrpSpPr>
            <p:grpSpPr>
              <a:xfrm>
                <a:off x="1148040" y="5384880"/>
                <a:ext cx="2404800" cy="783000"/>
                <a:chOff x="1148040" y="5384880"/>
                <a:chExt cx="2404800" cy="783000"/>
              </a:xfrm>
            </p:grpSpPr>
            <p:sp>
              <p:nvSpPr>
                <p:cNvPr id="615" name="Rectangle 32"/>
                <p:cNvSpPr/>
                <p:nvPr/>
              </p:nvSpPr>
              <p:spPr>
                <a:xfrm>
                  <a:off x="1196640" y="5384880"/>
                  <a:ext cx="2307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Rectangle 44"/>
                <p:cNvSpPr/>
                <p:nvPr/>
              </p:nvSpPr>
              <p:spPr>
                <a:xfrm>
                  <a:off x="1148040" y="5384880"/>
                  <a:ext cx="240480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Group 47"/>
              <p:cNvGrpSpPr/>
              <p:nvPr/>
            </p:nvGrpSpPr>
            <p:grpSpPr>
              <a:xfrm>
                <a:off x="3553200" y="5384880"/>
                <a:ext cx="4213080" cy="783000"/>
                <a:chOff x="3553200" y="5384880"/>
                <a:chExt cx="4213080" cy="783000"/>
              </a:xfrm>
            </p:grpSpPr>
            <p:sp>
              <p:nvSpPr>
                <p:cNvPr id="618" name="Rectangle 33"/>
                <p:cNvSpPr/>
                <p:nvPr/>
              </p:nvSpPr>
              <p:spPr>
                <a:xfrm>
                  <a:off x="3602160" y="5384880"/>
                  <a:ext cx="41151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Značku lze využít nejen v rámci značky &lt;ul&gt; ale i &lt;ol&gt;, která bude probírána později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Rectangle 46"/>
                <p:cNvSpPr/>
                <p:nvPr/>
              </p:nvSpPr>
              <p:spPr>
                <a:xfrm>
                  <a:off x="3553200" y="5384880"/>
                  <a:ext cx="421308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0" name="Rectangle 49"/>
            <p:cNvSpPr/>
            <p:nvPr/>
          </p:nvSpPr>
          <p:spPr>
            <a:xfrm>
              <a:off x="1143000" y="3886200"/>
              <a:ext cx="6629040" cy="2286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96C4-637D-4558-8F74-7F9AD17EE678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Příklad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h2&gt;Třídy moderních růží&lt;/h2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ul type="square"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li&gt;Velkokvěté - čajohybridy&lt;/li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li&gt;Mnohokvěté záhonové drobnokvěté růže - polyantky&lt;/li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li&gt;Mnohokvěté záhonové velkokvěté růže  - floribundy&lt;/li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li&gt;Sadové (keřové) růže  - sadovky&lt;/li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li&gt;Pnoucí růže  - ramblery, climbing&lt;/li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/ul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624" name="Picture 4" descr="netrideny seznam"/>
          <p:cNvPicPr/>
          <p:nvPr/>
        </p:nvPicPr>
        <p:blipFill>
          <a:blip r:embed="rId2"/>
          <a:stretch/>
        </p:blipFill>
        <p:spPr>
          <a:xfrm>
            <a:off x="4500720" y="4797360"/>
            <a:ext cx="38876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8D91-6C98-4ADC-99EA-22AF10D0CAD1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Times New Roman"/>
              </a:rPr>
              <a:t>Značky pro strukturu dokumentu</a:t>
            </a:r>
            <a:r>
              <a:rPr b="0" lang="cs-CZ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3" name="Group 1050"/>
          <p:cNvGrpSpPr/>
          <p:nvPr/>
        </p:nvGrpSpPr>
        <p:grpSpPr>
          <a:xfrm>
            <a:off x="685800" y="1905120"/>
            <a:ext cx="7486200" cy="1236600"/>
            <a:chOff x="685800" y="1905120"/>
            <a:chExt cx="7486200" cy="1236600"/>
          </a:xfrm>
        </p:grpSpPr>
        <p:grpSp>
          <p:nvGrpSpPr>
            <p:cNvPr id="104" name="Group 1048"/>
            <p:cNvGrpSpPr/>
            <p:nvPr/>
          </p:nvGrpSpPr>
          <p:grpSpPr>
            <a:xfrm>
              <a:off x="691560" y="1907280"/>
              <a:ext cx="7473960" cy="1231560"/>
              <a:chOff x="691560" y="1907280"/>
              <a:chExt cx="7473960" cy="1231560"/>
            </a:xfrm>
          </p:grpSpPr>
          <p:grpSp>
            <p:nvGrpSpPr>
              <p:cNvPr id="105" name="Group 1035"/>
              <p:cNvGrpSpPr/>
              <p:nvPr/>
            </p:nvGrpSpPr>
            <p:grpSpPr>
              <a:xfrm>
                <a:off x="691560" y="1907280"/>
                <a:ext cx="7473960" cy="307800"/>
                <a:chOff x="691560" y="1907280"/>
                <a:chExt cx="7473960" cy="307800"/>
              </a:xfrm>
            </p:grpSpPr>
            <p:sp>
              <p:nvSpPr>
                <p:cNvPr id="106" name="Rectangle 1027"/>
                <p:cNvSpPr/>
                <p:nvPr/>
              </p:nvSpPr>
              <p:spPr>
                <a:xfrm>
                  <a:off x="746280" y="1907280"/>
                  <a:ext cx="736380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html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34"/>
                <p:cNvSpPr/>
                <p:nvPr/>
              </p:nvSpPr>
              <p:spPr>
                <a:xfrm>
                  <a:off x="691560" y="1907280"/>
                  <a:ext cx="747396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37"/>
              <p:cNvGrpSpPr/>
              <p:nvPr/>
            </p:nvGrpSpPr>
            <p:grpSpPr>
              <a:xfrm>
                <a:off x="691560" y="2215080"/>
                <a:ext cx="2715840" cy="307800"/>
                <a:chOff x="691560" y="2215080"/>
                <a:chExt cx="2715840" cy="307800"/>
              </a:xfrm>
            </p:grpSpPr>
            <p:sp>
              <p:nvSpPr>
                <p:cNvPr id="109" name="Rectangle 1028"/>
                <p:cNvSpPr/>
                <p:nvPr/>
              </p:nvSpPr>
              <p:spPr>
                <a:xfrm>
                  <a:off x="746280" y="2215080"/>
                  <a:ext cx="260604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36"/>
                <p:cNvSpPr/>
                <p:nvPr/>
              </p:nvSpPr>
              <p:spPr>
                <a:xfrm>
                  <a:off x="691560" y="2215080"/>
                  <a:ext cx="271584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39"/>
              <p:cNvGrpSpPr/>
              <p:nvPr/>
            </p:nvGrpSpPr>
            <p:grpSpPr>
              <a:xfrm>
                <a:off x="3407760" y="2215080"/>
                <a:ext cx="4757760" cy="307800"/>
                <a:chOff x="3407760" y="2215080"/>
                <a:chExt cx="4757760" cy="307800"/>
              </a:xfrm>
            </p:grpSpPr>
            <p:sp>
              <p:nvSpPr>
                <p:cNvPr id="112" name="Rectangle 1029"/>
                <p:cNvSpPr/>
                <p:nvPr/>
              </p:nvSpPr>
              <p:spPr>
                <a:xfrm>
                  <a:off x="3462840" y="2215080"/>
                  <a:ext cx="464724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000" spc="-1" strike="noStrike">
                      <a:solidFill>
                        <a:srgbClr val="00264c"/>
                      </a:solidFill>
                      <a:latin typeface="Times New Roman"/>
                    </a:rPr>
                    <a:t>u</a:t>
                  </a: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rčuje celý dokument v HTML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38"/>
                <p:cNvSpPr/>
                <p:nvPr/>
              </p:nvSpPr>
              <p:spPr>
                <a:xfrm>
                  <a:off x="3407760" y="2215080"/>
                  <a:ext cx="475776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1041"/>
              <p:cNvGrpSpPr/>
              <p:nvPr/>
            </p:nvGrpSpPr>
            <p:grpSpPr>
              <a:xfrm>
                <a:off x="691560" y="2523240"/>
                <a:ext cx="2715840" cy="307800"/>
                <a:chOff x="691560" y="2523240"/>
                <a:chExt cx="2715840" cy="307800"/>
              </a:xfrm>
            </p:grpSpPr>
            <p:sp>
              <p:nvSpPr>
                <p:cNvPr id="115" name="Rectangle 1030"/>
                <p:cNvSpPr/>
                <p:nvPr/>
              </p:nvSpPr>
              <p:spPr>
                <a:xfrm>
                  <a:off x="746280" y="2523240"/>
                  <a:ext cx="260604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Rectangle 1040"/>
                <p:cNvSpPr/>
                <p:nvPr/>
              </p:nvSpPr>
              <p:spPr>
                <a:xfrm>
                  <a:off x="691560" y="2523240"/>
                  <a:ext cx="271584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1043"/>
              <p:cNvGrpSpPr/>
              <p:nvPr/>
            </p:nvGrpSpPr>
            <p:grpSpPr>
              <a:xfrm>
                <a:off x="3407760" y="2523240"/>
                <a:ext cx="4757760" cy="307800"/>
                <a:chOff x="3407760" y="2523240"/>
                <a:chExt cx="4757760" cy="307800"/>
              </a:xfrm>
            </p:grpSpPr>
            <p:sp>
              <p:nvSpPr>
                <p:cNvPr id="118" name="Rectangle 1031"/>
                <p:cNvSpPr/>
                <p:nvPr/>
              </p:nvSpPr>
              <p:spPr>
                <a:xfrm>
                  <a:off x="3462840" y="2523240"/>
                  <a:ext cx="464724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</a:t>
                  </a: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ir, lang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1042"/>
                <p:cNvSpPr/>
                <p:nvPr/>
              </p:nvSpPr>
              <p:spPr>
                <a:xfrm>
                  <a:off x="3407760" y="2523240"/>
                  <a:ext cx="475776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045"/>
              <p:cNvGrpSpPr/>
              <p:nvPr/>
            </p:nvGrpSpPr>
            <p:grpSpPr>
              <a:xfrm>
                <a:off x="691560" y="2831040"/>
                <a:ext cx="2715840" cy="307800"/>
                <a:chOff x="691560" y="2831040"/>
                <a:chExt cx="2715840" cy="307800"/>
              </a:xfrm>
            </p:grpSpPr>
            <p:sp>
              <p:nvSpPr>
                <p:cNvPr id="121" name="Rectangle 1032"/>
                <p:cNvSpPr/>
                <p:nvPr/>
              </p:nvSpPr>
              <p:spPr>
                <a:xfrm>
                  <a:off x="746280" y="2831040"/>
                  <a:ext cx="260604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Rectangle 1044"/>
                <p:cNvSpPr/>
                <p:nvPr/>
              </p:nvSpPr>
              <p:spPr>
                <a:xfrm>
                  <a:off x="691560" y="2831040"/>
                  <a:ext cx="271584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Group 1047"/>
              <p:cNvGrpSpPr/>
              <p:nvPr/>
            </p:nvGrpSpPr>
            <p:grpSpPr>
              <a:xfrm>
                <a:off x="3407760" y="2831040"/>
                <a:ext cx="4757760" cy="307800"/>
                <a:chOff x="3407760" y="2831040"/>
                <a:chExt cx="4757760" cy="307800"/>
              </a:xfrm>
            </p:grpSpPr>
            <p:sp>
              <p:nvSpPr>
                <p:cNvPr id="124" name="Rectangle 1033"/>
                <p:cNvSpPr/>
                <p:nvPr/>
              </p:nvSpPr>
              <p:spPr>
                <a:xfrm>
                  <a:off x="3462840" y="2831040"/>
                  <a:ext cx="464724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</a:rPr>
                    <a:t>Vytváří kořenový element HTML dokumentu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Rectangle 1046"/>
                <p:cNvSpPr/>
                <p:nvPr/>
              </p:nvSpPr>
              <p:spPr>
                <a:xfrm>
                  <a:off x="3407760" y="2831040"/>
                  <a:ext cx="475776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Rectangle 1049"/>
            <p:cNvSpPr/>
            <p:nvPr/>
          </p:nvSpPr>
          <p:spPr>
            <a:xfrm>
              <a:off x="685800" y="1905120"/>
              <a:ext cx="7486200" cy="1236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27" name="Group 1074"/>
          <p:cNvGrpSpPr/>
          <p:nvPr/>
        </p:nvGrpSpPr>
        <p:grpSpPr>
          <a:xfrm>
            <a:off x="684360" y="3213000"/>
            <a:ext cx="7559280" cy="1441440"/>
            <a:chOff x="684360" y="3213000"/>
            <a:chExt cx="7559280" cy="1441440"/>
          </a:xfrm>
        </p:grpSpPr>
        <p:grpSp>
          <p:nvGrpSpPr>
            <p:cNvPr id="128" name="Group 1072"/>
            <p:cNvGrpSpPr/>
            <p:nvPr/>
          </p:nvGrpSpPr>
          <p:grpSpPr>
            <a:xfrm>
              <a:off x="690120" y="3215520"/>
              <a:ext cx="7547040" cy="1436040"/>
              <a:chOff x="690120" y="3215520"/>
              <a:chExt cx="7547040" cy="1436040"/>
            </a:xfrm>
          </p:grpSpPr>
          <p:grpSp>
            <p:nvGrpSpPr>
              <p:cNvPr id="129" name="Group 1059"/>
              <p:cNvGrpSpPr/>
              <p:nvPr/>
            </p:nvGrpSpPr>
            <p:grpSpPr>
              <a:xfrm>
                <a:off x="690120" y="3215520"/>
                <a:ext cx="7547040" cy="358920"/>
                <a:chOff x="690120" y="3215520"/>
                <a:chExt cx="7547040" cy="358920"/>
              </a:xfrm>
            </p:grpSpPr>
            <p:sp>
              <p:nvSpPr>
                <p:cNvPr id="130" name="Rectangle 1051"/>
                <p:cNvSpPr/>
                <p:nvPr/>
              </p:nvSpPr>
              <p:spPr>
                <a:xfrm>
                  <a:off x="745560" y="3215520"/>
                  <a:ext cx="743580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head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1058"/>
                <p:cNvSpPr/>
                <p:nvPr/>
              </p:nvSpPr>
              <p:spPr>
                <a:xfrm>
                  <a:off x="690120" y="3215520"/>
                  <a:ext cx="7547040" cy="3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1061"/>
              <p:cNvGrpSpPr/>
              <p:nvPr/>
            </p:nvGrpSpPr>
            <p:grpSpPr>
              <a:xfrm>
                <a:off x="690120" y="3574440"/>
                <a:ext cx="2742480" cy="358920"/>
                <a:chOff x="690120" y="3574440"/>
                <a:chExt cx="2742480" cy="358920"/>
              </a:xfrm>
            </p:grpSpPr>
            <p:sp>
              <p:nvSpPr>
                <p:cNvPr id="133" name="Rectangle 1052"/>
                <p:cNvSpPr/>
                <p:nvPr/>
              </p:nvSpPr>
              <p:spPr>
                <a:xfrm>
                  <a:off x="745560" y="3574440"/>
                  <a:ext cx="263160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1060"/>
                <p:cNvSpPr/>
                <p:nvPr/>
              </p:nvSpPr>
              <p:spPr>
                <a:xfrm>
                  <a:off x="690120" y="3574440"/>
                  <a:ext cx="2742480" cy="3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1063"/>
              <p:cNvGrpSpPr/>
              <p:nvPr/>
            </p:nvGrpSpPr>
            <p:grpSpPr>
              <a:xfrm>
                <a:off x="3432960" y="3574440"/>
                <a:ext cx="4804200" cy="358920"/>
                <a:chOff x="3432960" y="3574440"/>
                <a:chExt cx="4804200" cy="358920"/>
              </a:xfrm>
            </p:grpSpPr>
            <p:sp>
              <p:nvSpPr>
                <p:cNvPr id="136" name="Rectangle 1053"/>
                <p:cNvSpPr/>
                <p:nvPr/>
              </p:nvSpPr>
              <p:spPr>
                <a:xfrm>
                  <a:off x="3488760" y="3574440"/>
                  <a:ext cx="469260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záhlaví dokumentu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1062"/>
                <p:cNvSpPr/>
                <p:nvPr/>
              </p:nvSpPr>
              <p:spPr>
                <a:xfrm>
                  <a:off x="3432960" y="3574440"/>
                  <a:ext cx="4804200" cy="3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1065"/>
              <p:cNvGrpSpPr/>
              <p:nvPr/>
            </p:nvGrpSpPr>
            <p:grpSpPr>
              <a:xfrm>
                <a:off x="690120" y="3933360"/>
                <a:ext cx="2742480" cy="358920"/>
                <a:chOff x="690120" y="3933360"/>
                <a:chExt cx="2742480" cy="358920"/>
              </a:xfrm>
            </p:grpSpPr>
            <p:sp>
              <p:nvSpPr>
                <p:cNvPr id="139" name="Rectangle 1054"/>
                <p:cNvSpPr/>
                <p:nvPr/>
              </p:nvSpPr>
              <p:spPr>
                <a:xfrm>
                  <a:off x="745560" y="3933360"/>
                  <a:ext cx="263160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1064"/>
                <p:cNvSpPr/>
                <p:nvPr/>
              </p:nvSpPr>
              <p:spPr>
                <a:xfrm>
                  <a:off x="690120" y="3933360"/>
                  <a:ext cx="2742480" cy="3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1067"/>
              <p:cNvGrpSpPr/>
              <p:nvPr/>
            </p:nvGrpSpPr>
            <p:grpSpPr>
              <a:xfrm>
                <a:off x="3432960" y="3933360"/>
                <a:ext cx="4804200" cy="358920"/>
                <a:chOff x="3432960" y="3933360"/>
                <a:chExt cx="4804200" cy="358920"/>
              </a:xfrm>
            </p:grpSpPr>
            <p:sp>
              <p:nvSpPr>
                <p:cNvPr id="142" name="Rectangle 1055"/>
                <p:cNvSpPr/>
                <p:nvPr/>
              </p:nvSpPr>
              <p:spPr>
                <a:xfrm>
                  <a:off x="3488760" y="3933360"/>
                  <a:ext cx="469260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</a:t>
                  </a: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ir, l</a:t>
                  </a:r>
                  <a:r>
                    <a:rPr b="0" lang="cs-CZ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ng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1066"/>
                <p:cNvSpPr/>
                <p:nvPr/>
              </p:nvSpPr>
              <p:spPr>
                <a:xfrm>
                  <a:off x="3432960" y="3933360"/>
                  <a:ext cx="4804200" cy="3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1069"/>
              <p:cNvGrpSpPr/>
              <p:nvPr/>
            </p:nvGrpSpPr>
            <p:grpSpPr>
              <a:xfrm>
                <a:off x="690120" y="4292640"/>
                <a:ext cx="2742480" cy="358920"/>
                <a:chOff x="690120" y="4292640"/>
                <a:chExt cx="2742480" cy="358920"/>
              </a:xfrm>
            </p:grpSpPr>
            <p:sp>
              <p:nvSpPr>
                <p:cNvPr id="145" name="Rectangle 1056"/>
                <p:cNvSpPr/>
                <p:nvPr/>
              </p:nvSpPr>
              <p:spPr>
                <a:xfrm>
                  <a:off x="745560" y="4292640"/>
                  <a:ext cx="263160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1068"/>
                <p:cNvSpPr/>
                <p:nvPr/>
              </p:nvSpPr>
              <p:spPr>
                <a:xfrm>
                  <a:off x="690120" y="4292640"/>
                  <a:ext cx="2742480" cy="3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1071"/>
              <p:cNvGrpSpPr/>
              <p:nvPr/>
            </p:nvGrpSpPr>
            <p:grpSpPr>
              <a:xfrm>
                <a:off x="3432960" y="4292640"/>
                <a:ext cx="4804200" cy="358920"/>
                <a:chOff x="3432960" y="4292640"/>
                <a:chExt cx="4804200" cy="358920"/>
              </a:xfrm>
            </p:grpSpPr>
            <p:sp>
              <p:nvSpPr>
                <p:cNvPr id="148" name="Rectangle 1057"/>
                <p:cNvSpPr/>
                <p:nvPr/>
              </p:nvSpPr>
              <p:spPr>
                <a:xfrm>
                  <a:off x="3488760" y="4292640"/>
                  <a:ext cx="469260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400" spc="-1" strike="noStrike">
                      <a:solidFill>
                        <a:srgbClr val="000000"/>
                      </a:solidFill>
                      <a:latin typeface="Times New Roman"/>
                    </a:rPr>
                    <a:t>Zahlaví obsahuje „pomocná“ data, ne obsah dokumentu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1070"/>
                <p:cNvSpPr/>
                <p:nvPr/>
              </p:nvSpPr>
              <p:spPr>
                <a:xfrm>
                  <a:off x="3432960" y="4292640"/>
                  <a:ext cx="4804200" cy="3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Rectangle 1073"/>
            <p:cNvSpPr/>
            <p:nvPr/>
          </p:nvSpPr>
          <p:spPr>
            <a:xfrm>
              <a:off x="684360" y="3213000"/>
              <a:ext cx="7559280" cy="1441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51" name="Group 1075"/>
          <p:cNvGrpSpPr/>
          <p:nvPr/>
        </p:nvGrpSpPr>
        <p:grpSpPr>
          <a:xfrm>
            <a:off x="755640" y="4724280"/>
            <a:ext cx="7416360" cy="1482840"/>
            <a:chOff x="755640" y="4724280"/>
            <a:chExt cx="7416360" cy="1482840"/>
          </a:xfrm>
        </p:grpSpPr>
        <p:grpSp>
          <p:nvGrpSpPr>
            <p:cNvPr id="152" name="Group 1076"/>
            <p:cNvGrpSpPr/>
            <p:nvPr/>
          </p:nvGrpSpPr>
          <p:grpSpPr>
            <a:xfrm>
              <a:off x="761040" y="4726800"/>
              <a:ext cx="7404120" cy="1476720"/>
              <a:chOff x="761040" y="4726800"/>
              <a:chExt cx="7404120" cy="1476720"/>
            </a:xfrm>
          </p:grpSpPr>
          <p:grpSp>
            <p:nvGrpSpPr>
              <p:cNvPr id="153" name="Group 1077"/>
              <p:cNvGrpSpPr/>
              <p:nvPr/>
            </p:nvGrpSpPr>
            <p:grpSpPr>
              <a:xfrm>
                <a:off x="761040" y="4726800"/>
                <a:ext cx="7404120" cy="369000"/>
                <a:chOff x="761040" y="4726800"/>
                <a:chExt cx="7404120" cy="369000"/>
              </a:xfrm>
            </p:grpSpPr>
            <p:sp>
              <p:nvSpPr>
                <p:cNvPr id="154" name="Rectangle 1078"/>
                <p:cNvSpPr/>
                <p:nvPr/>
              </p:nvSpPr>
              <p:spPr>
                <a:xfrm>
                  <a:off x="815400" y="4726800"/>
                  <a:ext cx="729504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body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1079"/>
                <p:cNvSpPr/>
                <p:nvPr/>
              </p:nvSpPr>
              <p:spPr>
                <a:xfrm>
                  <a:off x="761040" y="4726800"/>
                  <a:ext cx="74041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1080"/>
              <p:cNvGrpSpPr/>
              <p:nvPr/>
            </p:nvGrpSpPr>
            <p:grpSpPr>
              <a:xfrm>
                <a:off x="761040" y="5095800"/>
                <a:ext cx="2690280" cy="369000"/>
                <a:chOff x="761040" y="5095800"/>
                <a:chExt cx="2690280" cy="369000"/>
              </a:xfrm>
            </p:grpSpPr>
            <p:sp>
              <p:nvSpPr>
                <p:cNvPr id="157" name="Rectangle 1081"/>
                <p:cNvSpPr/>
                <p:nvPr/>
              </p:nvSpPr>
              <p:spPr>
                <a:xfrm>
                  <a:off x="815400" y="5095800"/>
                  <a:ext cx="258156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1082"/>
                <p:cNvSpPr/>
                <p:nvPr/>
              </p:nvSpPr>
              <p:spPr>
                <a:xfrm>
                  <a:off x="761040" y="5095800"/>
                  <a:ext cx="269028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1083"/>
              <p:cNvGrpSpPr/>
              <p:nvPr/>
            </p:nvGrpSpPr>
            <p:grpSpPr>
              <a:xfrm>
                <a:off x="3451680" y="5095800"/>
                <a:ext cx="4713120" cy="369000"/>
                <a:chOff x="3451680" y="5095800"/>
                <a:chExt cx="4713120" cy="369000"/>
              </a:xfrm>
            </p:grpSpPr>
            <p:sp>
              <p:nvSpPr>
                <p:cNvPr id="160" name="Rectangle 1084"/>
                <p:cNvSpPr/>
                <p:nvPr/>
              </p:nvSpPr>
              <p:spPr>
                <a:xfrm>
                  <a:off x="3506400" y="5095800"/>
                  <a:ext cx="460368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tělo dokumentu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1085"/>
                <p:cNvSpPr/>
                <p:nvPr/>
              </p:nvSpPr>
              <p:spPr>
                <a:xfrm>
                  <a:off x="3451680" y="5095800"/>
                  <a:ext cx="47131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1086"/>
              <p:cNvGrpSpPr/>
              <p:nvPr/>
            </p:nvGrpSpPr>
            <p:grpSpPr>
              <a:xfrm>
                <a:off x="761040" y="5465160"/>
                <a:ext cx="2690280" cy="369000"/>
                <a:chOff x="761040" y="5465160"/>
                <a:chExt cx="2690280" cy="369000"/>
              </a:xfrm>
            </p:grpSpPr>
            <p:sp>
              <p:nvSpPr>
                <p:cNvPr id="163" name="Rectangle 1087"/>
                <p:cNvSpPr/>
                <p:nvPr/>
              </p:nvSpPr>
              <p:spPr>
                <a:xfrm>
                  <a:off x="815400" y="5465160"/>
                  <a:ext cx="258156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1088"/>
                <p:cNvSpPr/>
                <p:nvPr/>
              </p:nvSpPr>
              <p:spPr>
                <a:xfrm>
                  <a:off x="761040" y="5465160"/>
                  <a:ext cx="269028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089"/>
              <p:cNvGrpSpPr/>
              <p:nvPr/>
            </p:nvGrpSpPr>
            <p:grpSpPr>
              <a:xfrm>
                <a:off x="3451680" y="5465160"/>
                <a:ext cx="4713120" cy="369000"/>
                <a:chOff x="3451680" y="5465160"/>
                <a:chExt cx="4713120" cy="369000"/>
              </a:xfrm>
            </p:grpSpPr>
            <p:sp>
              <p:nvSpPr>
                <p:cNvPr id="166" name="Rectangle 1090"/>
                <p:cNvSpPr/>
                <p:nvPr/>
              </p:nvSpPr>
              <p:spPr>
                <a:xfrm>
                  <a:off x="3506400" y="5465160"/>
                  <a:ext cx="460368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6 základních  a</a:t>
                  </a:r>
                  <a:r>
                    <a:rPr b="0" lang="cs-CZ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nedoporučované </a:t>
                  </a: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alink, link, vlink 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1091"/>
                <p:cNvSpPr/>
                <p:nvPr/>
              </p:nvSpPr>
              <p:spPr>
                <a:xfrm>
                  <a:off x="3451680" y="5465160"/>
                  <a:ext cx="47131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092"/>
              <p:cNvGrpSpPr/>
              <p:nvPr/>
            </p:nvGrpSpPr>
            <p:grpSpPr>
              <a:xfrm>
                <a:off x="761040" y="5834520"/>
                <a:ext cx="2690280" cy="369000"/>
                <a:chOff x="761040" y="5834520"/>
                <a:chExt cx="2690280" cy="369000"/>
              </a:xfrm>
            </p:grpSpPr>
            <p:sp>
              <p:nvSpPr>
                <p:cNvPr id="169" name="Rectangle 1093"/>
                <p:cNvSpPr/>
                <p:nvPr/>
              </p:nvSpPr>
              <p:spPr>
                <a:xfrm>
                  <a:off x="815400" y="5834520"/>
                  <a:ext cx="258156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1094"/>
                <p:cNvSpPr/>
                <p:nvPr/>
              </p:nvSpPr>
              <p:spPr>
                <a:xfrm>
                  <a:off x="761040" y="5834520"/>
                  <a:ext cx="269028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1095"/>
              <p:cNvGrpSpPr/>
              <p:nvPr/>
            </p:nvGrpSpPr>
            <p:grpSpPr>
              <a:xfrm>
                <a:off x="3451680" y="5834520"/>
                <a:ext cx="4713120" cy="369000"/>
                <a:chOff x="3451680" y="5834520"/>
                <a:chExt cx="4713120" cy="369000"/>
              </a:xfrm>
            </p:grpSpPr>
            <p:sp>
              <p:nvSpPr>
                <p:cNvPr id="172" name="Rectangle 1096"/>
                <p:cNvSpPr/>
                <p:nvPr/>
              </p:nvSpPr>
              <p:spPr>
                <a:xfrm>
                  <a:off x="3506400" y="5834520"/>
                  <a:ext cx="460368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Obsah dokumentu lze prezentovat vizuálně nebo slovně (screen reader)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1097"/>
                <p:cNvSpPr/>
                <p:nvPr/>
              </p:nvSpPr>
              <p:spPr>
                <a:xfrm>
                  <a:off x="3451680" y="5834520"/>
                  <a:ext cx="47131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Rectangle 1098"/>
            <p:cNvSpPr/>
            <p:nvPr/>
          </p:nvSpPr>
          <p:spPr>
            <a:xfrm>
              <a:off x="755640" y="4724280"/>
              <a:ext cx="7416360" cy="1482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80CB-FB8F-4029-8784-ECEDADA51F51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cs-CZ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dered list</a:t>
            </a: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27" name="Group 74"/>
          <p:cNvGrpSpPr/>
          <p:nvPr/>
        </p:nvGrpSpPr>
        <p:grpSpPr>
          <a:xfrm>
            <a:off x="1447920" y="1676520"/>
            <a:ext cx="6171840" cy="2286000"/>
            <a:chOff x="1447920" y="1676520"/>
            <a:chExt cx="6171840" cy="2286000"/>
          </a:xfrm>
        </p:grpSpPr>
        <p:grpSp>
          <p:nvGrpSpPr>
            <p:cNvPr id="628" name="Group 72"/>
            <p:cNvGrpSpPr/>
            <p:nvPr/>
          </p:nvGrpSpPr>
          <p:grpSpPr>
            <a:xfrm>
              <a:off x="1452600" y="1680480"/>
              <a:ext cx="6161760" cy="2277000"/>
              <a:chOff x="1452600" y="1680480"/>
              <a:chExt cx="6161760" cy="2277000"/>
            </a:xfrm>
          </p:grpSpPr>
          <p:grpSp>
            <p:nvGrpSpPr>
              <p:cNvPr id="629" name="Group 59"/>
              <p:cNvGrpSpPr/>
              <p:nvPr/>
            </p:nvGrpSpPr>
            <p:grpSpPr>
              <a:xfrm>
                <a:off x="1452600" y="1680480"/>
                <a:ext cx="6161760" cy="569160"/>
                <a:chOff x="1452600" y="1680480"/>
                <a:chExt cx="6161760" cy="569160"/>
              </a:xfrm>
            </p:grpSpPr>
            <p:sp>
              <p:nvSpPr>
                <p:cNvPr id="630" name="Rectangle 51"/>
                <p:cNvSpPr/>
                <p:nvPr/>
              </p:nvSpPr>
              <p:spPr>
                <a:xfrm>
                  <a:off x="1497600" y="1680480"/>
                  <a:ext cx="607104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ol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Rectangle 58"/>
                <p:cNvSpPr/>
                <p:nvPr/>
              </p:nvSpPr>
              <p:spPr>
                <a:xfrm>
                  <a:off x="1452600" y="1680480"/>
                  <a:ext cx="616176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Group 61"/>
              <p:cNvGrpSpPr/>
              <p:nvPr/>
            </p:nvGrpSpPr>
            <p:grpSpPr>
              <a:xfrm>
                <a:off x="1452600" y="2249640"/>
                <a:ext cx="2238840" cy="569160"/>
                <a:chOff x="1452600" y="2249640"/>
                <a:chExt cx="2238840" cy="569160"/>
              </a:xfrm>
            </p:grpSpPr>
            <p:sp>
              <p:nvSpPr>
                <p:cNvPr id="633" name="Rectangle 52"/>
                <p:cNvSpPr/>
                <p:nvPr/>
              </p:nvSpPr>
              <p:spPr>
                <a:xfrm>
                  <a:off x="1497600" y="2249640"/>
                  <a:ext cx="214848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Rectangle 60"/>
                <p:cNvSpPr/>
                <p:nvPr/>
              </p:nvSpPr>
              <p:spPr>
                <a:xfrm>
                  <a:off x="1452600" y="2249640"/>
                  <a:ext cx="223884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Group 63"/>
              <p:cNvGrpSpPr/>
              <p:nvPr/>
            </p:nvGrpSpPr>
            <p:grpSpPr>
              <a:xfrm>
                <a:off x="3691800" y="2249640"/>
                <a:ext cx="3922560" cy="569160"/>
                <a:chOff x="3691800" y="2249640"/>
                <a:chExt cx="3922560" cy="569160"/>
              </a:xfrm>
            </p:grpSpPr>
            <p:sp>
              <p:nvSpPr>
                <p:cNvPr id="636" name="Rectangle 53"/>
                <p:cNvSpPr/>
                <p:nvPr/>
              </p:nvSpPr>
              <p:spPr>
                <a:xfrm>
                  <a:off x="3737160" y="2249640"/>
                  <a:ext cx="383148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uspořádaný seznam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Rectangle 62"/>
                <p:cNvSpPr/>
                <p:nvPr/>
              </p:nvSpPr>
              <p:spPr>
                <a:xfrm>
                  <a:off x="3691800" y="2249640"/>
                  <a:ext cx="392256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Group 65"/>
              <p:cNvGrpSpPr/>
              <p:nvPr/>
            </p:nvGrpSpPr>
            <p:grpSpPr>
              <a:xfrm>
                <a:off x="1452600" y="2819160"/>
                <a:ext cx="2238840" cy="569160"/>
                <a:chOff x="1452600" y="2819160"/>
                <a:chExt cx="2238840" cy="569160"/>
              </a:xfrm>
            </p:grpSpPr>
            <p:sp>
              <p:nvSpPr>
                <p:cNvPr id="639" name="Rectangle 54"/>
                <p:cNvSpPr/>
                <p:nvPr/>
              </p:nvSpPr>
              <p:spPr>
                <a:xfrm>
                  <a:off x="1497600" y="2819160"/>
                  <a:ext cx="214848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Rectangle 64"/>
                <p:cNvSpPr/>
                <p:nvPr/>
              </p:nvSpPr>
              <p:spPr>
                <a:xfrm>
                  <a:off x="1452600" y="2819160"/>
                  <a:ext cx="223884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67"/>
              <p:cNvGrpSpPr/>
              <p:nvPr/>
            </p:nvGrpSpPr>
            <p:grpSpPr>
              <a:xfrm>
                <a:off x="3691800" y="2819160"/>
                <a:ext cx="3922560" cy="569160"/>
                <a:chOff x="3691800" y="2819160"/>
                <a:chExt cx="3922560" cy="569160"/>
              </a:xfrm>
            </p:grpSpPr>
            <p:sp>
              <p:nvSpPr>
                <p:cNvPr id="642" name="Rectangle 55"/>
                <p:cNvSpPr/>
                <p:nvPr/>
              </p:nvSpPr>
              <p:spPr>
                <a:xfrm>
                  <a:off x="3737160" y="2819160"/>
                  <a:ext cx="383148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400" spc="-1" strike="noStrike">
                      <a:solidFill>
                        <a:srgbClr val="00264c"/>
                      </a:solidFill>
                      <a:latin typeface="Times New Roman"/>
                    </a:rPr>
                    <a:t>16 základních atributů a compact, start, type</a:t>
                  </a:r>
                  <a:r>
                    <a:rPr b="0" lang="cs-CZ" sz="2400" spc="-1" strike="noStrike">
                      <a:solidFill>
                        <a:srgbClr val="00264c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Rectangle 66"/>
                <p:cNvSpPr/>
                <p:nvPr/>
              </p:nvSpPr>
              <p:spPr>
                <a:xfrm>
                  <a:off x="3691800" y="2819160"/>
                  <a:ext cx="392256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Group 69"/>
              <p:cNvGrpSpPr/>
              <p:nvPr/>
            </p:nvGrpSpPr>
            <p:grpSpPr>
              <a:xfrm>
                <a:off x="1452600" y="3388320"/>
                <a:ext cx="2238840" cy="569160"/>
                <a:chOff x="1452600" y="3388320"/>
                <a:chExt cx="2238840" cy="569160"/>
              </a:xfrm>
            </p:grpSpPr>
            <p:sp>
              <p:nvSpPr>
                <p:cNvPr id="645" name="Rectangle 56"/>
                <p:cNvSpPr/>
                <p:nvPr/>
              </p:nvSpPr>
              <p:spPr>
                <a:xfrm>
                  <a:off x="1497600" y="3388320"/>
                  <a:ext cx="214848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Rectangle 68"/>
                <p:cNvSpPr/>
                <p:nvPr/>
              </p:nvSpPr>
              <p:spPr>
                <a:xfrm>
                  <a:off x="1452600" y="3388320"/>
                  <a:ext cx="223884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Group 71"/>
              <p:cNvGrpSpPr/>
              <p:nvPr/>
            </p:nvGrpSpPr>
            <p:grpSpPr>
              <a:xfrm>
                <a:off x="3691800" y="3388320"/>
                <a:ext cx="3922560" cy="569160"/>
                <a:chOff x="3691800" y="3388320"/>
                <a:chExt cx="3922560" cy="569160"/>
              </a:xfrm>
            </p:grpSpPr>
            <p:sp>
              <p:nvSpPr>
                <p:cNvPr id="648" name="Rectangle 57"/>
                <p:cNvSpPr/>
                <p:nvPr/>
              </p:nvSpPr>
              <p:spPr>
                <a:xfrm>
                  <a:off x="3737160" y="3388320"/>
                  <a:ext cx="383148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rohlížeč automaticky přidává čísla položkám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70"/>
                <p:cNvSpPr/>
                <p:nvPr/>
              </p:nvSpPr>
              <p:spPr>
                <a:xfrm>
                  <a:off x="3691800" y="3388320"/>
                  <a:ext cx="392256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0" name="Rectangle 73"/>
            <p:cNvSpPr/>
            <p:nvPr/>
          </p:nvSpPr>
          <p:spPr>
            <a:xfrm>
              <a:off x="1447920" y="1676520"/>
              <a:ext cx="6171840" cy="2286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aphicFrame>
        <p:nvGraphicFramePr>
          <p:cNvPr id="651" name=""/>
          <p:cNvGraphicFramePr/>
          <p:nvPr/>
        </p:nvGraphicFramePr>
        <p:xfrm>
          <a:off x="1258920" y="4149720"/>
          <a:ext cx="6840360" cy="1944720"/>
        </p:xfrm>
        <a:graphic>
          <a:graphicData uri="http://schemas.openxmlformats.org/drawingml/2006/table">
            <a:tbl>
              <a:tblPr/>
              <a:tblGrid>
                <a:gridCol w="1923840"/>
                <a:gridCol w="2637000"/>
                <a:gridCol w="227952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Hodnota atributu type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Generovaný styl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Příklad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Velká písmena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A, B, C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Malá písmena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a, b, c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Římské číslovky velké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I, II, III,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Římské číslovky malé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i, ii, iii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Arabské číslovky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1, 2, 3</a:t>
                      </a: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209-00B1-4440-B03A-F01BF1636210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Příkla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h2&gt;Třídění růží&lt;/h2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ol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li&gt;Botanické, plané růže&lt;/li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li&gt;Staré kulturní růže &lt;/li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li&gt;Moderní (vyšlechtěné) růže&lt;/li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imes New Roman"/>
              </a:rPr>
              <a:t>&lt;/ol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655" name="Picture 4" descr="Trideny seznam"/>
          <p:cNvPicPr/>
          <p:nvPr/>
        </p:nvPicPr>
        <p:blipFill>
          <a:blip r:embed="rId2"/>
          <a:stretch/>
        </p:blipFill>
        <p:spPr>
          <a:xfrm>
            <a:off x="3492360" y="4076640"/>
            <a:ext cx="36244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FDEC-A656-431F-BB45-710FC720BD22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Times New Roman"/>
              </a:rPr>
              <a:t>Definition Lis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58" name="Group 26"/>
          <p:cNvGrpSpPr/>
          <p:nvPr/>
        </p:nvGrpSpPr>
        <p:grpSpPr>
          <a:xfrm>
            <a:off x="990720" y="1600200"/>
            <a:ext cx="7132320" cy="1512720"/>
            <a:chOff x="990720" y="1600200"/>
            <a:chExt cx="7132320" cy="1512720"/>
          </a:xfrm>
        </p:grpSpPr>
        <p:grpSp>
          <p:nvGrpSpPr>
            <p:cNvPr id="659" name="Group 24"/>
            <p:cNvGrpSpPr/>
            <p:nvPr/>
          </p:nvGrpSpPr>
          <p:grpSpPr>
            <a:xfrm>
              <a:off x="996120" y="1602720"/>
              <a:ext cx="7120800" cy="1506600"/>
              <a:chOff x="996120" y="1602720"/>
              <a:chExt cx="7120800" cy="1506600"/>
            </a:xfrm>
          </p:grpSpPr>
          <p:grpSp>
            <p:nvGrpSpPr>
              <p:cNvPr id="660" name="Group 11"/>
              <p:cNvGrpSpPr/>
              <p:nvPr/>
            </p:nvGrpSpPr>
            <p:grpSpPr>
              <a:xfrm>
                <a:off x="996120" y="1602720"/>
                <a:ext cx="7120800" cy="376560"/>
                <a:chOff x="996120" y="1602720"/>
                <a:chExt cx="7120800" cy="376560"/>
              </a:xfrm>
            </p:grpSpPr>
            <p:sp>
              <p:nvSpPr>
                <p:cNvPr id="661" name="Rectangle 3"/>
                <p:cNvSpPr/>
                <p:nvPr/>
              </p:nvSpPr>
              <p:spPr>
                <a:xfrm>
                  <a:off x="1048320" y="1602720"/>
                  <a:ext cx="701604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dl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0"/>
                <p:cNvSpPr/>
                <p:nvPr/>
              </p:nvSpPr>
              <p:spPr>
                <a:xfrm>
                  <a:off x="996120" y="1602720"/>
                  <a:ext cx="712080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Group 13"/>
              <p:cNvGrpSpPr/>
              <p:nvPr/>
            </p:nvGrpSpPr>
            <p:grpSpPr>
              <a:xfrm>
                <a:off x="996120" y="1979280"/>
                <a:ext cx="2587320" cy="376560"/>
                <a:chOff x="996120" y="1979280"/>
                <a:chExt cx="2587320" cy="376560"/>
              </a:xfrm>
            </p:grpSpPr>
            <p:sp>
              <p:nvSpPr>
                <p:cNvPr id="664" name="Rectangle 4"/>
                <p:cNvSpPr/>
                <p:nvPr/>
              </p:nvSpPr>
              <p:spPr>
                <a:xfrm>
                  <a:off x="1048320" y="1979280"/>
                  <a:ext cx="24829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2"/>
                <p:cNvSpPr/>
                <p:nvPr/>
              </p:nvSpPr>
              <p:spPr>
                <a:xfrm>
                  <a:off x="996120" y="1979280"/>
                  <a:ext cx="25873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Group 15"/>
              <p:cNvGrpSpPr/>
              <p:nvPr/>
            </p:nvGrpSpPr>
            <p:grpSpPr>
              <a:xfrm>
                <a:off x="3583800" y="1979280"/>
                <a:ext cx="4532760" cy="376560"/>
                <a:chOff x="3583800" y="1979280"/>
                <a:chExt cx="4532760" cy="376560"/>
              </a:xfrm>
            </p:grpSpPr>
            <p:sp>
              <p:nvSpPr>
                <p:cNvPr id="667" name="Rectangle 5"/>
                <p:cNvSpPr/>
                <p:nvPr/>
              </p:nvSpPr>
              <p:spPr>
                <a:xfrm>
                  <a:off x="3636360" y="1979280"/>
                  <a:ext cx="442728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seznam definic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4"/>
                <p:cNvSpPr/>
                <p:nvPr/>
              </p:nvSpPr>
              <p:spPr>
                <a:xfrm>
                  <a:off x="3583800" y="1979280"/>
                  <a:ext cx="453276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Group 17"/>
              <p:cNvGrpSpPr/>
              <p:nvPr/>
            </p:nvGrpSpPr>
            <p:grpSpPr>
              <a:xfrm>
                <a:off x="996120" y="2356200"/>
                <a:ext cx="2587320" cy="376560"/>
                <a:chOff x="996120" y="2356200"/>
                <a:chExt cx="2587320" cy="376560"/>
              </a:xfrm>
            </p:grpSpPr>
            <p:sp>
              <p:nvSpPr>
                <p:cNvPr id="670" name="Rectangle 6"/>
                <p:cNvSpPr/>
                <p:nvPr/>
              </p:nvSpPr>
              <p:spPr>
                <a:xfrm>
                  <a:off x="1048320" y="2356200"/>
                  <a:ext cx="24829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6"/>
                <p:cNvSpPr/>
                <p:nvPr/>
              </p:nvSpPr>
              <p:spPr>
                <a:xfrm>
                  <a:off x="996120" y="2356200"/>
                  <a:ext cx="25873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Group 19"/>
              <p:cNvGrpSpPr/>
              <p:nvPr/>
            </p:nvGrpSpPr>
            <p:grpSpPr>
              <a:xfrm>
                <a:off x="3583800" y="2356200"/>
                <a:ext cx="4532760" cy="376560"/>
                <a:chOff x="3583800" y="2356200"/>
                <a:chExt cx="4532760" cy="376560"/>
              </a:xfrm>
            </p:grpSpPr>
            <p:sp>
              <p:nvSpPr>
                <p:cNvPr id="673" name="Rectangle 7"/>
                <p:cNvSpPr/>
                <p:nvPr/>
              </p:nvSpPr>
              <p:spPr>
                <a:xfrm>
                  <a:off x="3636360" y="2356200"/>
                  <a:ext cx="442728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6 základních a compact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"/>
                <p:cNvSpPr/>
                <p:nvPr/>
              </p:nvSpPr>
              <p:spPr>
                <a:xfrm>
                  <a:off x="3583800" y="2356200"/>
                  <a:ext cx="453276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Group 21"/>
              <p:cNvGrpSpPr/>
              <p:nvPr/>
            </p:nvGrpSpPr>
            <p:grpSpPr>
              <a:xfrm>
                <a:off x="996120" y="2732760"/>
                <a:ext cx="2587320" cy="376560"/>
                <a:chOff x="996120" y="2732760"/>
                <a:chExt cx="2587320" cy="376560"/>
              </a:xfrm>
            </p:grpSpPr>
            <p:sp>
              <p:nvSpPr>
                <p:cNvPr id="676" name="Rectangle 8"/>
                <p:cNvSpPr/>
                <p:nvPr/>
              </p:nvSpPr>
              <p:spPr>
                <a:xfrm>
                  <a:off x="1048320" y="2732760"/>
                  <a:ext cx="24829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20"/>
                <p:cNvSpPr/>
                <p:nvPr/>
              </p:nvSpPr>
              <p:spPr>
                <a:xfrm>
                  <a:off x="996120" y="2732760"/>
                  <a:ext cx="25873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Group 23"/>
              <p:cNvGrpSpPr/>
              <p:nvPr/>
            </p:nvGrpSpPr>
            <p:grpSpPr>
              <a:xfrm>
                <a:off x="3583800" y="2732760"/>
                <a:ext cx="4532760" cy="376560"/>
                <a:chOff x="3583800" y="2732760"/>
                <a:chExt cx="4532760" cy="376560"/>
              </a:xfrm>
            </p:grpSpPr>
            <p:sp>
              <p:nvSpPr>
                <p:cNvPr id="679" name="Rectangle 9"/>
                <p:cNvSpPr/>
                <p:nvPr/>
              </p:nvSpPr>
              <p:spPr>
                <a:xfrm>
                  <a:off x="3636360" y="2732760"/>
                  <a:ext cx="442728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Seznam se skládá z termínů dt a definic DD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22"/>
                <p:cNvSpPr/>
                <p:nvPr/>
              </p:nvSpPr>
              <p:spPr>
                <a:xfrm>
                  <a:off x="3583800" y="2732760"/>
                  <a:ext cx="453276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1" name="Rectangle 25"/>
            <p:cNvSpPr/>
            <p:nvPr/>
          </p:nvSpPr>
          <p:spPr>
            <a:xfrm>
              <a:off x="990720" y="1600200"/>
              <a:ext cx="7132320" cy="1512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682" name="Group 50"/>
          <p:cNvGrpSpPr/>
          <p:nvPr/>
        </p:nvGrpSpPr>
        <p:grpSpPr>
          <a:xfrm>
            <a:off x="838080" y="3200400"/>
            <a:ext cx="7467480" cy="1523880"/>
            <a:chOff x="838080" y="3200400"/>
            <a:chExt cx="7467480" cy="1523880"/>
          </a:xfrm>
        </p:grpSpPr>
        <p:grpSp>
          <p:nvGrpSpPr>
            <p:cNvPr id="683" name="Group 48"/>
            <p:cNvGrpSpPr/>
            <p:nvPr/>
          </p:nvGrpSpPr>
          <p:grpSpPr>
            <a:xfrm>
              <a:off x="843840" y="3202920"/>
              <a:ext cx="7455240" cy="1518120"/>
              <a:chOff x="843840" y="3202920"/>
              <a:chExt cx="7455240" cy="1518120"/>
            </a:xfrm>
          </p:grpSpPr>
          <p:grpSp>
            <p:nvGrpSpPr>
              <p:cNvPr id="684" name="Group 35"/>
              <p:cNvGrpSpPr/>
              <p:nvPr/>
            </p:nvGrpSpPr>
            <p:grpSpPr>
              <a:xfrm>
                <a:off x="843840" y="3202920"/>
                <a:ext cx="7455240" cy="379440"/>
                <a:chOff x="843840" y="3202920"/>
                <a:chExt cx="7455240" cy="379440"/>
              </a:xfrm>
            </p:grpSpPr>
            <p:sp>
              <p:nvSpPr>
                <p:cNvPr id="685" name="Rectangle 27"/>
                <p:cNvSpPr/>
                <p:nvPr/>
              </p:nvSpPr>
              <p:spPr>
                <a:xfrm>
                  <a:off x="898560" y="3202920"/>
                  <a:ext cx="734544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dt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34"/>
                <p:cNvSpPr/>
                <p:nvPr/>
              </p:nvSpPr>
              <p:spPr>
                <a:xfrm>
                  <a:off x="843840" y="3202920"/>
                  <a:ext cx="745524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Group 37"/>
              <p:cNvGrpSpPr/>
              <p:nvPr/>
            </p:nvGrpSpPr>
            <p:grpSpPr>
              <a:xfrm>
                <a:off x="843840" y="3582360"/>
                <a:ext cx="2709000" cy="379440"/>
                <a:chOff x="843840" y="3582360"/>
                <a:chExt cx="2709000" cy="379440"/>
              </a:xfrm>
            </p:grpSpPr>
            <p:sp>
              <p:nvSpPr>
                <p:cNvPr id="688" name="Rectangle 28"/>
                <p:cNvSpPr/>
                <p:nvPr/>
              </p:nvSpPr>
              <p:spPr>
                <a:xfrm>
                  <a:off x="898560" y="3582360"/>
                  <a:ext cx="25995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36"/>
                <p:cNvSpPr/>
                <p:nvPr/>
              </p:nvSpPr>
              <p:spPr>
                <a:xfrm>
                  <a:off x="843840" y="3582360"/>
                  <a:ext cx="270900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Group 39"/>
              <p:cNvGrpSpPr/>
              <p:nvPr/>
            </p:nvGrpSpPr>
            <p:grpSpPr>
              <a:xfrm>
                <a:off x="3553200" y="3582360"/>
                <a:ext cx="4745880" cy="379440"/>
                <a:chOff x="3553200" y="3582360"/>
                <a:chExt cx="4745880" cy="379440"/>
              </a:xfrm>
            </p:grpSpPr>
            <p:sp>
              <p:nvSpPr>
                <p:cNvPr id="691" name="Rectangle 29"/>
                <p:cNvSpPr/>
                <p:nvPr/>
              </p:nvSpPr>
              <p:spPr>
                <a:xfrm>
                  <a:off x="3608280" y="3582360"/>
                  <a:ext cx="46357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výraz (</a:t>
                  </a:r>
                  <a:r>
                    <a:rPr b="0" lang="cs-CZ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termín)</a:t>
                  </a: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v seznamu definic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38"/>
                <p:cNvSpPr/>
                <p:nvPr/>
              </p:nvSpPr>
              <p:spPr>
                <a:xfrm>
                  <a:off x="3553200" y="3582360"/>
                  <a:ext cx="47458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Group 41"/>
              <p:cNvGrpSpPr/>
              <p:nvPr/>
            </p:nvGrpSpPr>
            <p:grpSpPr>
              <a:xfrm>
                <a:off x="843840" y="3961800"/>
                <a:ext cx="2709000" cy="379440"/>
                <a:chOff x="843840" y="3961800"/>
                <a:chExt cx="2709000" cy="379440"/>
              </a:xfrm>
            </p:grpSpPr>
            <p:sp>
              <p:nvSpPr>
                <p:cNvPr id="694" name="Rectangle 30"/>
                <p:cNvSpPr/>
                <p:nvPr/>
              </p:nvSpPr>
              <p:spPr>
                <a:xfrm>
                  <a:off x="898560" y="3961800"/>
                  <a:ext cx="25995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40"/>
                <p:cNvSpPr/>
                <p:nvPr/>
              </p:nvSpPr>
              <p:spPr>
                <a:xfrm>
                  <a:off x="843840" y="3961800"/>
                  <a:ext cx="270900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Group 43"/>
              <p:cNvGrpSpPr/>
              <p:nvPr/>
            </p:nvGrpSpPr>
            <p:grpSpPr>
              <a:xfrm>
                <a:off x="3553200" y="3961800"/>
                <a:ext cx="4745880" cy="379440"/>
                <a:chOff x="3553200" y="3961800"/>
                <a:chExt cx="4745880" cy="379440"/>
              </a:xfrm>
            </p:grpSpPr>
            <p:sp>
              <p:nvSpPr>
                <p:cNvPr id="697" name="Rectangle 31"/>
                <p:cNvSpPr/>
                <p:nvPr/>
              </p:nvSpPr>
              <p:spPr>
                <a:xfrm>
                  <a:off x="3608280" y="3961800"/>
                  <a:ext cx="46357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6 základních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42"/>
                <p:cNvSpPr/>
                <p:nvPr/>
              </p:nvSpPr>
              <p:spPr>
                <a:xfrm>
                  <a:off x="3553200" y="3961800"/>
                  <a:ext cx="47458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Group 45"/>
              <p:cNvGrpSpPr/>
              <p:nvPr/>
            </p:nvGrpSpPr>
            <p:grpSpPr>
              <a:xfrm>
                <a:off x="843840" y="4341600"/>
                <a:ext cx="2709000" cy="379440"/>
                <a:chOff x="843840" y="4341600"/>
                <a:chExt cx="2709000" cy="379440"/>
              </a:xfrm>
            </p:grpSpPr>
            <p:sp>
              <p:nvSpPr>
                <p:cNvPr id="700" name="Rectangle 32"/>
                <p:cNvSpPr/>
                <p:nvPr/>
              </p:nvSpPr>
              <p:spPr>
                <a:xfrm>
                  <a:off x="898560" y="4341600"/>
                  <a:ext cx="25995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44"/>
                <p:cNvSpPr/>
                <p:nvPr/>
              </p:nvSpPr>
              <p:spPr>
                <a:xfrm>
                  <a:off x="843840" y="4341600"/>
                  <a:ext cx="270900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Group 47"/>
              <p:cNvGrpSpPr/>
              <p:nvPr/>
            </p:nvGrpSpPr>
            <p:grpSpPr>
              <a:xfrm>
                <a:off x="3553200" y="4341600"/>
                <a:ext cx="4745880" cy="379440"/>
                <a:chOff x="3553200" y="4341600"/>
                <a:chExt cx="4745880" cy="379440"/>
              </a:xfrm>
            </p:grpSpPr>
            <p:sp>
              <p:nvSpPr>
                <p:cNvPr id="703" name="Rectangle 33"/>
                <p:cNvSpPr/>
                <p:nvPr/>
              </p:nvSpPr>
              <p:spPr>
                <a:xfrm>
                  <a:off x="3608280" y="4341600"/>
                  <a:ext cx="46357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46"/>
                <p:cNvSpPr/>
                <p:nvPr/>
              </p:nvSpPr>
              <p:spPr>
                <a:xfrm>
                  <a:off x="3553200" y="4341600"/>
                  <a:ext cx="47458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5" name="Rectangle 49"/>
            <p:cNvSpPr/>
            <p:nvPr/>
          </p:nvSpPr>
          <p:spPr>
            <a:xfrm>
              <a:off x="838080" y="3200400"/>
              <a:ext cx="7467480" cy="1523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706" name="Group 74"/>
          <p:cNvGrpSpPr/>
          <p:nvPr/>
        </p:nvGrpSpPr>
        <p:grpSpPr>
          <a:xfrm>
            <a:off x="762120" y="4800600"/>
            <a:ext cx="7695720" cy="1447920"/>
            <a:chOff x="762120" y="4800600"/>
            <a:chExt cx="7695720" cy="1447920"/>
          </a:xfrm>
        </p:grpSpPr>
        <p:grpSp>
          <p:nvGrpSpPr>
            <p:cNvPr id="707" name="Group 72"/>
            <p:cNvGrpSpPr/>
            <p:nvPr/>
          </p:nvGrpSpPr>
          <p:grpSpPr>
            <a:xfrm>
              <a:off x="767880" y="4803120"/>
              <a:ext cx="7683120" cy="1442160"/>
              <a:chOff x="767880" y="4803120"/>
              <a:chExt cx="7683120" cy="1442160"/>
            </a:xfrm>
          </p:grpSpPr>
          <p:grpSp>
            <p:nvGrpSpPr>
              <p:cNvPr id="708" name="Group 59"/>
              <p:cNvGrpSpPr/>
              <p:nvPr/>
            </p:nvGrpSpPr>
            <p:grpSpPr>
              <a:xfrm>
                <a:off x="767880" y="4803120"/>
                <a:ext cx="7683120" cy="360360"/>
                <a:chOff x="767880" y="4803120"/>
                <a:chExt cx="7683120" cy="360360"/>
              </a:xfrm>
            </p:grpSpPr>
            <p:sp>
              <p:nvSpPr>
                <p:cNvPr id="709" name="Rectangle 51"/>
                <p:cNvSpPr/>
                <p:nvPr/>
              </p:nvSpPr>
              <p:spPr>
                <a:xfrm>
                  <a:off x="824040" y="4803120"/>
                  <a:ext cx="7569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dd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58"/>
                <p:cNvSpPr/>
                <p:nvPr/>
              </p:nvSpPr>
              <p:spPr>
                <a:xfrm>
                  <a:off x="767880" y="4803120"/>
                  <a:ext cx="7683120" cy="36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Group 61"/>
              <p:cNvGrpSpPr/>
              <p:nvPr/>
            </p:nvGrpSpPr>
            <p:grpSpPr>
              <a:xfrm>
                <a:off x="767880" y="5163480"/>
                <a:ext cx="2791800" cy="360360"/>
                <a:chOff x="767880" y="5163480"/>
                <a:chExt cx="2791800" cy="360360"/>
              </a:xfrm>
            </p:grpSpPr>
            <p:sp>
              <p:nvSpPr>
                <p:cNvPr id="712" name="Rectangle 52"/>
                <p:cNvSpPr/>
                <p:nvPr/>
              </p:nvSpPr>
              <p:spPr>
                <a:xfrm>
                  <a:off x="824040" y="5163480"/>
                  <a:ext cx="26791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60"/>
                <p:cNvSpPr/>
                <p:nvPr/>
              </p:nvSpPr>
              <p:spPr>
                <a:xfrm>
                  <a:off x="767880" y="5163480"/>
                  <a:ext cx="2791800" cy="36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Group 63"/>
              <p:cNvGrpSpPr/>
              <p:nvPr/>
            </p:nvGrpSpPr>
            <p:grpSpPr>
              <a:xfrm>
                <a:off x="3560040" y="5163480"/>
                <a:ext cx="4890960" cy="360360"/>
                <a:chOff x="3560040" y="5163480"/>
                <a:chExt cx="4890960" cy="360360"/>
              </a:xfrm>
            </p:grpSpPr>
            <p:sp>
              <p:nvSpPr>
                <p:cNvPr id="715" name="Rectangle 53"/>
                <p:cNvSpPr/>
                <p:nvPr/>
              </p:nvSpPr>
              <p:spPr>
                <a:xfrm>
                  <a:off x="3616920" y="5163480"/>
                  <a:ext cx="477720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vysvětlení v seznamu definic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62"/>
                <p:cNvSpPr/>
                <p:nvPr/>
              </p:nvSpPr>
              <p:spPr>
                <a:xfrm>
                  <a:off x="3560040" y="5163480"/>
                  <a:ext cx="4890960" cy="36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Group 65"/>
              <p:cNvGrpSpPr/>
              <p:nvPr/>
            </p:nvGrpSpPr>
            <p:grpSpPr>
              <a:xfrm>
                <a:off x="767880" y="5524200"/>
                <a:ext cx="2791800" cy="360360"/>
                <a:chOff x="767880" y="5524200"/>
                <a:chExt cx="2791800" cy="360360"/>
              </a:xfrm>
            </p:grpSpPr>
            <p:sp>
              <p:nvSpPr>
                <p:cNvPr id="718" name="Rectangle 54"/>
                <p:cNvSpPr/>
                <p:nvPr/>
              </p:nvSpPr>
              <p:spPr>
                <a:xfrm>
                  <a:off x="824040" y="5524200"/>
                  <a:ext cx="26791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64"/>
                <p:cNvSpPr/>
                <p:nvPr/>
              </p:nvSpPr>
              <p:spPr>
                <a:xfrm>
                  <a:off x="767880" y="5524200"/>
                  <a:ext cx="2791800" cy="36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Group 67"/>
              <p:cNvGrpSpPr/>
              <p:nvPr/>
            </p:nvGrpSpPr>
            <p:grpSpPr>
              <a:xfrm>
                <a:off x="3560040" y="5524200"/>
                <a:ext cx="4890960" cy="360360"/>
                <a:chOff x="3560040" y="5524200"/>
                <a:chExt cx="4890960" cy="360360"/>
              </a:xfrm>
            </p:grpSpPr>
            <p:sp>
              <p:nvSpPr>
                <p:cNvPr id="721" name="Rectangle 55"/>
                <p:cNvSpPr/>
                <p:nvPr/>
              </p:nvSpPr>
              <p:spPr>
                <a:xfrm>
                  <a:off x="3616920" y="5524200"/>
                  <a:ext cx="477720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6 základních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66"/>
                <p:cNvSpPr/>
                <p:nvPr/>
              </p:nvSpPr>
              <p:spPr>
                <a:xfrm>
                  <a:off x="3560040" y="5524200"/>
                  <a:ext cx="4890960" cy="36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Group 69"/>
              <p:cNvGrpSpPr/>
              <p:nvPr/>
            </p:nvGrpSpPr>
            <p:grpSpPr>
              <a:xfrm>
                <a:off x="767880" y="5884920"/>
                <a:ext cx="2791800" cy="360360"/>
                <a:chOff x="767880" y="5884920"/>
                <a:chExt cx="2791800" cy="360360"/>
              </a:xfrm>
            </p:grpSpPr>
            <p:sp>
              <p:nvSpPr>
                <p:cNvPr id="724" name="Rectangle 56"/>
                <p:cNvSpPr/>
                <p:nvPr/>
              </p:nvSpPr>
              <p:spPr>
                <a:xfrm>
                  <a:off x="824040" y="5884920"/>
                  <a:ext cx="26791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68"/>
                <p:cNvSpPr/>
                <p:nvPr/>
              </p:nvSpPr>
              <p:spPr>
                <a:xfrm>
                  <a:off x="767880" y="5884920"/>
                  <a:ext cx="2791800" cy="36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71"/>
              <p:cNvGrpSpPr/>
              <p:nvPr/>
            </p:nvGrpSpPr>
            <p:grpSpPr>
              <a:xfrm>
                <a:off x="3560040" y="5884920"/>
                <a:ext cx="4890960" cy="360360"/>
                <a:chOff x="3560040" y="5884920"/>
                <a:chExt cx="4890960" cy="360360"/>
              </a:xfrm>
            </p:grpSpPr>
            <p:sp>
              <p:nvSpPr>
                <p:cNvPr id="727" name="Rectangle 57"/>
                <p:cNvSpPr/>
                <p:nvPr/>
              </p:nvSpPr>
              <p:spPr>
                <a:xfrm>
                  <a:off x="3616920" y="5884920"/>
                  <a:ext cx="477720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70"/>
                <p:cNvSpPr/>
                <p:nvPr/>
              </p:nvSpPr>
              <p:spPr>
                <a:xfrm>
                  <a:off x="3560040" y="5884920"/>
                  <a:ext cx="4890960" cy="36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9" name="Rectangle 73"/>
            <p:cNvSpPr/>
            <p:nvPr/>
          </p:nvSpPr>
          <p:spPr>
            <a:xfrm>
              <a:off x="762120" y="4800600"/>
              <a:ext cx="7695720" cy="1447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6638-C38D-49B0-B543-5DEB343F5A01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Příkla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h2&gt;Výkladový slovník&lt;/h2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dl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dt&gt;Čajové růže&lt;/dt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dd&gt;Historická kulturní skupina růží z první poloviny 19.století &lt;/dd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dt&gt;Kultivar &lt;/dt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dd&gt; Označení pro uměle vytvořené odlišné rostliny, které se udržují díky zásahům člověka.    Termín je z angličtiny 'cultivated variety'. V češtině témeř synonymem je odrůda. &lt;/dd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dt&gt;Solitéra&lt;/dt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dd&gt; Osamoceně vysazený keř (strom)&lt;/dd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dt&gt;Vegetativní množení&lt;/dt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dd&gt; Množení jinými částmi rostlin než semeny.&lt;/dd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/dl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734" name="Picture 4" descr="Vykladový slovník"/>
          <p:cNvPicPr/>
          <p:nvPr/>
        </p:nvPicPr>
        <p:blipFill>
          <a:blip r:embed="rId2"/>
          <a:stretch/>
        </p:blipFill>
        <p:spPr>
          <a:xfrm>
            <a:off x="1547640" y="4836960"/>
            <a:ext cx="759636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F1AB-EBD9-43F7-8672-70FAE448B4FA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Times New Roman"/>
              </a:rPr>
              <a:t>Obrázky - Imag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685800" y="1905120"/>
          <a:ext cx="7772400" cy="2625480"/>
        </p:xfrm>
        <a:graphic>
          <a:graphicData uri="http://schemas.openxmlformats.org/drawingml/2006/table">
            <a:tbl>
              <a:tblPr/>
              <a:tblGrid>
                <a:gridCol w="2157480"/>
                <a:gridCol w="5614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264c"/>
                          </a:solidFill>
                          <a:latin typeface="Courier New"/>
                          <a:ea typeface="Times New Roman"/>
                        </a:rPr>
                        <a:t>&lt;img&gt;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Funkce 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Vloží do dokumentu obrázek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Atributy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16 základních atributů, align, alt, border, controls, dynscr, height, hspace,  ismap,  longdesc, loop, lowsrc, name, onabort, onerror, onload, src, start, usemap, vspace, width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Poznámky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Koncová značka v HTML není. V XHTML lze zapsat </a:t>
                      </a:r>
                      <a:r>
                        <a:rPr b="0" i="1" lang="cs-CZ" sz="16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&lt;/img&gt;</a:t>
                      </a:r>
                      <a:r>
                        <a:rPr b="0" i="1" lang="cs-CZ" sz="16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nebo </a:t>
                      </a:r>
                      <a:r>
                        <a:rPr b="0" i="1" lang="cs-CZ" sz="16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&lt;img ... /&gt;</a:t>
                      </a:r>
                      <a:r>
                        <a:rPr b="0" i="1" lang="cs-CZ" sz="16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8" name="Rectangle 77"/>
          <p:cNvSpPr/>
          <p:nvPr/>
        </p:nvSpPr>
        <p:spPr>
          <a:xfrm>
            <a:off x="443880" y="4978440"/>
            <a:ext cx="76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Základní zjednodušená syntaxe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&lt;img src=“jméno“ alt=“text“ </a:t>
            </a: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width=“číslo“ height=“číslo“&gt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3161-D551-42A0-8C95-8638442127B0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3333"/>
                </a:solidFill>
                <a:latin typeface="Times New Roman"/>
              </a:rPr>
              <a:t>img (Image) - atributy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src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 uvádí jméno a umístění obrázku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alt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uvádí alternativní text, který se objeví, když požadovaný obrázek nelze zobrazit. Tento text se objevuje též jako popisek při ponechání ukazatele na obrázku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width=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šířka obrázku v px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height=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výška obrázku v px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264c"/>
                </a:solidFill>
                <a:latin typeface="Verdana"/>
              </a:rPr>
              <a:t>Nedoporučují se: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264c"/>
                </a:solidFill>
                <a:latin typeface="Verdana"/>
              </a:rPr>
              <a:t>align</a:t>
            </a:r>
            <a:r>
              <a:rPr b="0" lang="cs-CZ" sz="1200" spc="-1" strike="noStrike">
                <a:solidFill>
                  <a:srgbClr val="00264c"/>
                </a:solidFill>
                <a:latin typeface="Times New Roman"/>
              </a:rPr>
              <a:t> umožňuje zarovnávání obrázku vzhledem k ostatním textu. Hodnoty parametru jsou: </a:t>
            </a:r>
            <a:r>
              <a:rPr b="1" lang="cs-CZ" sz="1200" spc="-1" strike="noStrike">
                <a:solidFill>
                  <a:srgbClr val="00264c"/>
                </a:solidFill>
                <a:latin typeface="Verdana"/>
              </a:rPr>
              <a:t>left</a:t>
            </a:r>
            <a:r>
              <a:rPr b="1" lang="cs-CZ" sz="1200" spc="-1" strike="noStrike">
                <a:solidFill>
                  <a:srgbClr val="00264c"/>
                </a:solidFill>
                <a:latin typeface="Symbol"/>
                <a:ea typeface="Symbol"/>
              </a:rPr>
              <a:t></a:t>
            </a:r>
            <a:r>
              <a:rPr b="1" lang="cs-CZ" sz="1200" spc="-1" strike="noStrike">
                <a:solidFill>
                  <a:srgbClr val="00264c"/>
                </a:solidFill>
                <a:latin typeface="Verdana"/>
              </a:rPr>
              <a:t>right</a:t>
            </a:r>
            <a:r>
              <a:rPr b="1" lang="cs-CZ" sz="1200" spc="-1" strike="noStrike">
                <a:solidFill>
                  <a:srgbClr val="00264c"/>
                </a:solidFill>
                <a:latin typeface="Symbol"/>
                <a:ea typeface="Symbol"/>
              </a:rPr>
              <a:t></a:t>
            </a:r>
            <a:r>
              <a:rPr b="1" lang="cs-CZ" sz="1200" spc="-1" strike="noStrike">
                <a:solidFill>
                  <a:srgbClr val="00264c"/>
                </a:solidFill>
                <a:latin typeface="Verdana"/>
              </a:rPr>
              <a:t>top</a:t>
            </a:r>
            <a:r>
              <a:rPr b="1" lang="cs-CZ" sz="1200" spc="-1" strike="noStrike">
                <a:solidFill>
                  <a:srgbClr val="00264c"/>
                </a:solidFill>
                <a:latin typeface="Symbol"/>
                <a:ea typeface="Symbol"/>
              </a:rPr>
              <a:t></a:t>
            </a:r>
            <a:r>
              <a:rPr b="1" lang="cs-CZ" sz="1200" spc="-1" strike="noStrike">
                <a:solidFill>
                  <a:srgbClr val="00264c"/>
                </a:solidFill>
                <a:latin typeface="Verdana"/>
              </a:rPr>
              <a:t>middle</a:t>
            </a:r>
            <a:r>
              <a:rPr b="1" lang="cs-CZ" sz="1200" spc="-1" strike="noStrike">
                <a:solidFill>
                  <a:srgbClr val="00264c"/>
                </a:solidFill>
                <a:latin typeface="Symbol"/>
                <a:ea typeface="Symbol"/>
              </a:rPr>
              <a:t></a:t>
            </a:r>
            <a:r>
              <a:rPr b="1" lang="cs-CZ" sz="1200" spc="-1" strike="noStrike">
                <a:solidFill>
                  <a:srgbClr val="00264c"/>
                </a:solidFill>
                <a:latin typeface="Verdana"/>
              </a:rPr>
              <a:t>bottom</a:t>
            </a:r>
            <a:r>
              <a:rPr b="1" lang="cs-CZ" sz="1200" spc="-1" strike="noStrike">
                <a:solidFill>
                  <a:srgbClr val="00264c"/>
                </a:solidFill>
                <a:latin typeface="Symbol"/>
                <a:ea typeface="Symbol"/>
              </a:rPr>
              <a:t></a:t>
            </a:r>
            <a:r>
              <a:rPr b="1" lang="cs-CZ" sz="1200" spc="-1" strike="noStrike">
                <a:solidFill>
                  <a:srgbClr val="00264c"/>
                </a:solidFill>
                <a:latin typeface="Verdana"/>
              </a:rPr>
              <a:t>baseline</a:t>
            </a:r>
            <a:r>
              <a:rPr b="0" lang="cs-CZ" sz="1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264c"/>
                </a:solidFill>
                <a:latin typeface="Verdana"/>
              </a:rPr>
              <a:t>border =</a:t>
            </a:r>
            <a:r>
              <a:rPr b="0" lang="cs-CZ" sz="1200" spc="-1" strike="noStrike">
                <a:solidFill>
                  <a:srgbClr val="00264c"/>
                </a:solidFill>
                <a:latin typeface="Times New Roman"/>
              </a:rPr>
              <a:t>šířka rámečku v px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264c"/>
                </a:solidFill>
                <a:latin typeface="Verdana"/>
              </a:rPr>
              <a:t>vspace=</a:t>
            </a:r>
            <a:r>
              <a:rPr b="0" lang="cs-CZ" sz="1200" spc="-1" strike="noStrike">
                <a:solidFill>
                  <a:srgbClr val="00264c"/>
                </a:solidFill>
                <a:latin typeface="Times New Roman"/>
              </a:rPr>
              <a:t> svislé místo vedle obrázku v px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264c"/>
                </a:solidFill>
                <a:latin typeface="Verdana"/>
              </a:rPr>
              <a:t>hspace=</a:t>
            </a:r>
            <a:r>
              <a:rPr b="0" lang="cs-CZ" sz="1200" spc="-1" strike="noStrike">
                <a:solidFill>
                  <a:srgbClr val="00264c"/>
                </a:solidFill>
                <a:latin typeface="Times New Roman"/>
              </a:rPr>
              <a:t> vodorovné místo vedle obrázku v px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99F1-5F27-41A9-8520-FC143AD2234F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Základní syntaxe a příklad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64c"/>
                </a:solidFill>
                <a:latin typeface="Times New Roman"/>
              </a:rPr>
              <a:t>&lt;img src=”image” alt=”description” width=”number” height=”number”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/</a:t>
            </a:r>
            <a:r>
              <a:rPr b="1" lang="cs-CZ" sz="2800" spc="-1" strike="noStrike">
                <a:solidFill>
                  <a:srgbClr val="00264c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264c"/>
                </a:solidFill>
                <a:latin typeface="Times New Roman"/>
              </a:rPr>
              <a:t>&lt;img src="images/czech.gif" alt="vlajka cz" width="56" height="40" /&gt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&lt;img src="images/bird_view.jpg" alt="Bird's-eye view" align="right" width= "700" height="400" /&gt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28BF-BC77-4FCF-9BD2-AF25E9518D79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Odkazy - hyperlink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47" name="Group 26"/>
          <p:cNvGrpSpPr/>
          <p:nvPr/>
        </p:nvGrpSpPr>
        <p:grpSpPr>
          <a:xfrm>
            <a:off x="609480" y="1844640"/>
            <a:ext cx="7513560" cy="2952720"/>
            <a:chOff x="609480" y="1844640"/>
            <a:chExt cx="7513560" cy="2952720"/>
          </a:xfrm>
        </p:grpSpPr>
        <p:grpSp>
          <p:nvGrpSpPr>
            <p:cNvPr id="748" name="Group 24"/>
            <p:cNvGrpSpPr/>
            <p:nvPr/>
          </p:nvGrpSpPr>
          <p:grpSpPr>
            <a:xfrm>
              <a:off x="615240" y="1848240"/>
              <a:ext cx="7501320" cy="2944800"/>
              <a:chOff x="615240" y="1848240"/>
              <a:chExt cx="7501320" cy="2944800"/>
            </a:xfrm>
          </p:grpSpPr>
          <p:grpSp>
            <p:nvGrpSpPr>
              <p:cNvPr id="749" name="Group 11"/>
              <p:cNvGrpSpPr/>
              <p:nvPr/>
            </p:nvGrpSpPr>
            <p:grpSpPr>
              <a:xfrm>
                <a:off x="615240" y="1848240"/>
                <a:ext cx="7501320" cy="515520"/>
                <a:chOff x="615240" y="1848240"/>
                <a:chExt cx="7501320" cy="515520"/>
              </a:xfrm>
            </p:grpSpPr>
            <p:sp>
              <p:nvSpPr>
                <p:cNvPr id="750" name="Rectangle 3"/>
                <p:cNvSpPr/>
                <p:nvPr/>
              </p:nvSpPr>
              <p:spPr>
                <a:xfrm>
                  <a:off x="670320" y="1848240"/>
                  <a:ext cx="73908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a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10"/>
                <p:cNvSpPr/>
                <p:nvPr/>
              </p:nvSpPr>
              <p:spPr>
                <a:xfrm>
                  <a:off x="615240" y="1848240"/>
                  <a:ext cx="750132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Group 13"/>
              <p:cNvGrpSpPr/>
              <p:nvPr/>
            </p:nvGrpSpPr>
            <p:grpSpPr>
              <a:xfrm>
                <a:off x="615240" y="2363760"/>
                <a:ext cx="2725920" cy="515520"/>
                <a:chOff x="615240" y="2363760"/>
                <a:chExt cx="2725920" cy="515520"/>
              </a:xfrm>
            </p:grpSpPr>
            <p:sp>
              <p:nvSpPr>
                <p:cNvPr id="753" name="Rectangle 4"/>
                <p:cNvSpPr/>
                <p:nvPr/>
              </p:nvSpPr>
              <p:spPr>
                <a:xfrm>
                  <a:off x="670320" y="2363760"/>
                  <a:ext cx="261576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: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12"/>
                <p:cNvSpPr/>
                <p:nvPr/>
              </p:nvSpPr>
              <p:spPr>
                <a:xfrm>
                  <a:off x="615240" y="2363760"/>
                  <a:ext cx="272592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Group 15"/>
              <p:cNvGrpSpPr/>
              <p:nvPr/>
            </p:nvGrpSpPr>
            <p:grpSpPr>
              <a:xfrm>
                <a:off x="3341520" y="2363760"/>
                <a:ext cx="4775040" cy="515520"/>
                <a:chOff x="3341520" y="2363760"/>
                <a:chExt cx="4775040" cy="515520"/>
              </a:xfrm>
            </p:grpSpPr>
            <p:sp>
              <p:nvSpPr>
                <p:cNvPr id="756" name="Rectangle 5"/>
                <p:cNvSpPr/>
                <p:nvPr/>
              </p:nvSpPr>
              <p:spPr>
                <a:xfrm>
                  <a:off x="3396960" y="2363760"/>
                  <a:ext cx="466416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odkaz</a:t>
                  </a:r>
                  <a:r>
                    <a:rPr b="0" lang="cs-CZ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(kotvu)</a:t>
                  </a: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na jiný dokument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4"/>
                <p:cNvSpPr/>
                <p:nvPr/>
              </p:nvSpPr>
              <p:spPr>
                <a:xfrm>
                  <a:off x="3341520" y="2363760"/>
                  <a:ext cx="477504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Group 17"/>
              <p:cNvGrpSpPr/>
              <p:nvPr/>
            </p:nvGrpSpPr>
            <p:grpSpPr>
              <a:xfrm>
                <a:off x="615240" y="2879280"/>
                <a:ext cx="2725920" cy="1251360"/>
                <a:chOff x="615240" y="2879280"/>
                <a:chExt cx="2725920" cy="1251360"/>
              </a:xfrm>
            </p:grpSpPr>
            <p:sp>
              <p:nvSpPr>
                <p:cNvPr id="759" name="Rectangle 6"/>
                <p:cNvSpPr/>
                <p:nvPr/>
              </p:nvSpPr>
              <p:spPr>
                <a:xfrm>
                  <a:off x="670320" y="2879280"/>
                  <a:ext cx="2615760" cy="12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16"/>
                <p:cNvSpPr/>
                <p:nvPr/>
              </p:nvSpPr>
              <p:spPr>
                <a:xfrm>
                  <a:off x="615240" y="2879280"/>
                  <a:ext cx="2725920" cy="12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Group 19"/>
              <p:cNvGrpSpPr/>
              <p:nvPr/>
            </p:nvGrpSpPr>
            <p:grpSpPr>
              <a:xfrm>
                <a:off x="3341520" y="2879280"/>
                <a:ext cx="4775040" cy="1251360"/>
                <a:chOff x="3341520" y="2879280"/>
                <a:chExt cx="4775040" cy="1251360"/>
              </a:xfrm>
            </p:grpSpPr>
            <p:sp>
              <p:nvSpPr>
                <p:cNvPr id="762" name="Rectangle 7"/>
                <p:cNvSpPr/>
                <p:nvPr/>
              </p:nvSpPr>
              <p:spPr>
                <a:xfrm>
                  <a:off x="3396960" y="2879280"/>
                  <a:ext cx="4664160" cy="12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600" spc="-1" strike="noStrike">
                      <a:solidFill>
                        <a:srgbClr val="00264c"/>
                      </a:solidFill>
                      <a:latin typeface="Times New Roman"/>
                    </a:rPr>
                    <a:t>16 základních atributů, acceskey, charset, coords</a:t>
                  </a:r>
                  <a:r>
                    <a:rPr b="1" lang="cs-CZ" sz="1600" spc="-1" strike="noStrike">
                      <a:solidFill>
                        <a:srgbClr val="00264c"/>
                      </a:solidFill>
                      <a:latin typeface="Times New Roman"/>
                    </a:rPr>
                    <a:t>, href,</a:t>
                  </a:r>
                  <a:r>
                    <a:rPr b="0" lang="cs-CZ" sz="1600" spc="-1" strike="noStrike">
                      <a:solidFill>
                        <a:srgbClr val="00264c"/>
                      </a:solidFill>
                      <a:latin typeface="Times New Roman"/>
                    </a:rPr>
                    <a:t> hreflang, name, onblur, onfocus, rel, rev, shape,  tabindex, target, type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18"/>
                <p:cNvSpPr/>
                <p:nvPr/>
              </p:nvSpPr>
              <p:spPr>
                <a:xfrm>
                  <a:off x="3341520" y="2879280"/>
                  <a:ext cx="4775040" cy="12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Group 21"/>
              <p:cNvGrpSpPr/>
              <p:nvPr/>
            </p:nvGrpSpPr>
            <p:grpSpPr>
              <a:xfrm>
                <a:off x="615240" y="4130640"/>
                <a:ext cx="2725920" cy="662400"/>
                <a:chOff x="615240" y="4130640"/>
                <a:chExt cx="2725920" cy="662400"/>
              </a:xfrm>
            </p:grpSpPr>
            <p:sp>
              <p:nvSpPr>
                <p:cNvPr id="765" name="Rectangle 8"/>
                <p:cNvSpPr/>
                <p:nvPr/>
              </p:nvSpPr>
              <p:spPr>
                <a:xfrm>
                  <a:off x="670320" y="4130640"/>
                  <a:ext cx="2615760" cy="66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0"/>
                <p:cNvSpPr/>
                <p:nvPr/>
              </p:nvSpPr>
              <p:spPr>
                <a:xfrm>
                  <a:off x="615240" y="4130640"/>
                  <a:ext cx="2725920" cy="66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Group 23"/>
              <p:cNvGrpSpPr/>
              <p:nvPr/>
            </p:nvGrpSpPr>
            <p:grpSpPr>
              <a:xfrm>
                <a:off x="3341520" y="4130640"/>
                <a:ext cx="4775040" cy="662400"/>
                <a:chOff x="3341520" y="4130640"/>
                <a:chExt cx="4775040" cy="662400"/>
              </a:xfrm>
            </p:grpSpPr>
            <p:sp>
              <p:nvSpPr>
                <p:cNvPr id="768" name="Rectangle 9"/>
                <p:cNvSpPr/>
                <p:nvPr/>
              </p:nvSpPr>
              <p:spPr>
                <a:xfrm>
                  <a:off x="3396960" y="4130640"/>
                  <a:ext cx="4664160" cy="66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Nejčastěji se používá atribut href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Koncová značka &lt;/a&gt; se používá vždy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2"/>
                <p:cNvSpPr/>
                <p:nvPr/>
              </p:nvSpPr>
              <p:spPr>
                <a:xfrm>
                  <a:off x="3341520" y="4130640"/>
                  <a:ext cx="4775040" cy="66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0" name="Rectangle 25"/>
            <p:cNvSpPr/>
            <p:nvPr/>
          </p:nvSpPr>
          <p:spPr>
            <a:xfrm>
              <a:off x="609480" y="1844640"/>
              <a:ext cx="7513560" cy="2952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771" name="Rectangle 2"/>
          <p:cNvSpPr/>
          <p:nvPr/>
        </p:nvSpPr>
        <p:spPr>
          <a:xfrm>
            <a:off x="1116000" y="51228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Základní zjednodušená syntaxe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&lt;a href=“url“&gt;</a:t>
            </a: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vlastní obsah značky, tj.</a:t>
            </a: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hyperlink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&lt;/a&gt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F283-1264-4D58-A211-7185F1361974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Příkla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64c"/>
                </a:solidFill>
                <a:latin typeface="Times New Roman"/>
              </a:rPr>
              <a:t>href=“url“</a:t>
            </a: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  určuje URL adresu na odkazovaný dokument (</a:t>
            </a:r>
            <a:r>
              <a:rPr b="1" lang="en-GB" sz="2000" spc="-1" strike="noStrike">
                <a:solidFill>
                  <a:srgbClr val="00264c"/>
                </a:solidFill>
                <a:latin typeface="Times New Roman"/>
              </a:rPr>
              <a:t>h</a:t>
            </a: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yperlink </a:t>
            </a:r>
            <a:r>
              <a:rPr b="1" lang="en-GB" sz="2000" spc="-1" strike="noStrike">
                <a:solidFill>
                  <a:srgbClr val="00264c"/>
                </a:solidFill>
                <a:latin typeface="Times New Roman"/>
              </a:rPr>
              <a:t>ref</a:t>
            </a: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erence, neboli odkaz na jiný soubor), (případně je to i odkaz na interní část dokumentu, která má „jméno“, vytvořené pomocí atributů id nebo name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a href="history.html"&gt;History&lt;/a&gt; of the Rose Garde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a href="czechversion.html"&gt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img src="images/czech.gif" alt="vlajka cz" ="56" height="40" /&gt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/a&gt;</a:t>
            </a:r>
            <a:r>
              <a:rPr b="0" lang="en-GB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&lt;a href="http://kit.pef.czu.cz/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~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itcs5/"&gt;itc5 team&lt;/a&gt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B136-B525-44B9-B065-EEB9B20985D9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Times New Roman"/>
              </a:rPr>
              <a:t>Tabulk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Tabulky lze použít nejen pro běžné zobrazení dat ve formě tabulky, ale často i pro lepší a snadnější organizaci dat na stránce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Tabulky umožňují vymezit v rámci stránky samostatné dílčí oblasti, do kterých se umísťují prvky jako jsou obrázky, odkazy apod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Pomocí tabulek se dříve vytvářelo rozvržení prvků na www stránc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Pomocí atributů jednotlivých značek - respektive stylů CSS – lze dosáhnout velmi rozmanité uspořádání dat v tabulce (např. zarovnávání, okraje, barvy, automatické přizpůsobení velikosti buněk jejich obsahu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EF22-60D2-4545-AB45-54DAEB241278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264c"/>
                </a:solidFill>
                <a:latin typeface="Times New Roman"/>
              </a:rPr>
              <a:t>Značky met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9640" y="2997360"/>
          <a:ext cx="7989840" cy="2246040"/>
        </p:xfrm>
        <a:graphic>
          <a:graphicData uri="http://schemas.openxmlformats.org/drawingml/2006/table">
            <a:tbl>
              <a:tblPr/>
              <a:tblGrid>
                <a:gridCol w="2373480"/>
                <a:gridCol w="5616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264c"/>
                          </a:solidFill>
                          <a:latin typeface="Courier New"/>
                          <a:ea typeface="Times New Roman"/>
                        </a:rPr>
                        <a:t>&lt;meta&gt;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Funkce 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Umožňuje autorovi dokumentu specifikovat některé důležité údaje týkající se dokumentu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Atributy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charset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content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dir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http_equiv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lang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name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schem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Poznámky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57"/>
          <p:cNvSpPr/>
          <p:nvPr/>
        </p:nvSpPr>
        <p:spPr>
          <a:xfrm>
            <a:off x="684360" y="1844640"/>
            <a:ext cx="662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Značky meta jsou nepovinné, ale zvyšují pravděpodobnost, že vyhledávače najdou vaši stránku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2B0A-34CA-419D-8C2B-F5E50B6E8F03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Times New Roman"/>
              </a:rPr>
              <a:t>Značky pro tabulk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o zápis tabulky se využívají značky </a:t>
            </a:r>
            <a:r>
              <a:rPr b="1" lang="cs-CZ" sz="3200" spc="-1" strike="noStrike">
                <a:solidFill>
                  <a:srgbClr val="00264c"/>
                </a:solidFill>
                <a:latin typeface="Verdana"/>
                <a:ea typeface="Times New Roman"/>
              </a:rPr>
              <a:t>&lt;table&gt;, &lt;tr&gt;, &lt;th&gt;</a:t>
            </a:r>
            <a:r>
              <a:rPr b="0" lang="cs-CZ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a </a:t>
            </a:r>
            <a:r>
              <a:rPr b="1" lang="cs-CZ" sz="3200" spc="-1" strike="noStrike">
                <a:solidFill>
                  <a:srgbClr val="00264c"/>
                </a:solidFill>
                <a:latin typeface="Verdana"/>
                <a:ea typeface="Times New Roman"/>
              </a:rPr>
              <a:t>&lt;td&gt;</a:t>
            </a: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dpis tabulky se definuje značkou</a:t>
            </a:r>
            <a:r>
              <a:rPr b="1" lang="cs-CZ" sz="3200" spc="-1" strike="noStrike">
                <a:solidFill>
                  <a:srgbClr val="00264c"/>
                </a:solidFill>
                <a:latin typeface="Verdana"/>
                <a:ea typeface="Times New Roman"/>
              </a:rPr>
              <a:t> &lt;caption&gt;</a:t>
            </a: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e verzi HTML 4.0 byly zařazeny značky &lt;thead&gt;, &lt;tfoot&gt; a &lt;tbody&gt;</a:t>
            </a:r>
            <a:r>
              <a:rPr b="0" lang="cs-CZ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7AC1-4519-4A25-A64C-C8A0289F555C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Times New Roman"/>
              </a:rPr>
              <a:t>Značka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&lt;table&gt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83" name="Group 3"/>
          <p:cNvGrpSpPr/>
          <p:nvPr/>
        </p:nvGrpSpPr>
        <p:grpSpPr>
          <a:xfrm>
            <a:off x="838080" y="1905120"/>
            <a:ext cx="7238880" cy="3047760"/>
            <a:chOff x="838080" y="1905120"/>
            <a:chExt cx="7238880" cy="3047760"/>
          </a:xfrm>
        </p:grpSpPr>
        <p:grpSp>
          <p:nvGrpSpPr>
            <p:cNvPr id="784" name="Group 4"/>
            <p:cNvGrpSpPr/>
            <p:nvPr/>
          </p:nvGrpSpPr>
          <p:grpSpPr>
            <a:xfrm>
              <a:off x="843480" y="1908720"/>
              <a:ext cx="7227000" cy="3039480"/>
              <a:chOff x="843480" y="1908720"/>
              <a:chExt cx="7227000" cy="3039480"/>
            </a:xfrm>
          </p:grpSpPr>
          <p:grpSp>
            <p:nvGrpSpPr>
              <p:cNvPr id="785" name="Group 5"/>
              <p:cNvGrpSpPr/>
              <p:nvPr/>
            </p:nvGrpSpPr>
            <p:grpSpPr>
              <a:xfrm>
                <a:off x="843480" y="1908720"/>
                <a:ext cx="7227000" cy="506520"/>
                <a:chOff x="843480" y="1908720"/>
                <a:chExt cx="7227000" cy="506520"/>
              </a:xfrm>
            </p:grpSpPr>
            <p:sp>
              <p:nvSpPr>
                <p:cNvPr id="786" name="Rectangle 6"/>
                <p:cNvSpPr/>
                <p:nvPr/>
              </p:nvSpPr>
              <p:spPr>
                <a:xfrm>
                  <a:off x="896400" y="1908720"/>
                  <a:ext cx="712044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table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7"/>
                <p:cNvSpPr/>
                <p:nvPr/>
              </p:nvSpPr>
              <p:spPr>
                <a:xfrm>
                  <a:off x="843480" y="1908720"/>
                  <a:ext cx="7227000" cy="50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8"/>
              <p:cNvGrpSpPr/>
              <p:nvPr/>
            </p:nvGrpSpPr>
            <p:grpSpPr>
              <a:xfrm>
                <a:off x="843480" y="2415240"/>
                <a:ext cx="2626200" cy="506520"/>
                <a:chOff x="843480" y="2415240"/>
                <a:chExt cx="2626200" cy="506520"/>
              </a:xfrm>
            </p:grpSpPr>
            <p:sp>
              <p:nvSpPr>
                <p:cNvPr id="789" name="Rectangle 9"/>
                <p:cNvSpPr/>
                <p:nvPr/>
              </p:nvSpPr>
              <p:spPr>
                <a:xfrm>
                  <a:off x="896400" y="2415240"/>
                  <a:ext cx="252000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10"/>
                <p:cNvSpPr/>
                <p:nvPr/>
              </p:nvSpPr>
              <p:spPr>
                <a:xfrm>
                  <a:off x="843480" y="2415240"/>
                  <a:ext cx="2626200" cy="50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Group 11"/>
              <p:cNvGrpSpPr/>
              <p:nvPr/>
            </p:nvGrpSpPr>
            <p:grpSpPr>
              <a:xfrm>
                <a:off x="3470040" y="2415240"/>
                <a:ext cx="4600440" cy="506520"/>
                <a:chOff x="3470040" y="2415240"/>
                <a:chExt cx="4600440" cy="506520"/>
              </a:xfrm>
            </p:grpSpPr>
            <p:sp>
              <p:nvSpPr>
                <p:cNvPr id="792" name="Rectangle 12"/>
                <p:cNvSpPr/>
                <p:nvPr/>
              </p:nvSpPr>
              <p:spPr>
                <a:xfrm>
                  <a:off x="3523320" y="2415240"/>
                  <a:ext cx="449352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základní vlastnosti tabulky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13"/>
                <p:cNvSpPr/>
                <p:nvPr/>
              </p:nvSpPr>
              <p:spPr>
                <a:xfrm>
                  <a:off x="3470040" y="2415240"/>
                  <a:ext cx="4600440" cy="50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Group 14"/>
              <p:cNvGrpSpPr/>
              <p:nvPr/>
            </p:nvGrpSpPr>
            <p:grpSpPr>
              <a:xfrm>
                <a:off x="843480" y="2922120"/>
                <a:ext cx="2626200" cy="1374480"/>
                <a:chOff x="843480" y="2922120"/>
                <a:chExt cx="2626200" cy="1374480"/>
              </a:xfrm>
            </p:grpSpPr>
            <p:sp>
              <p:nvSpPr>
                <p:cNvPr id="795" name="Rectangle 15"/>
                <p:cNvSpPr/>
                <p:nvPr/>
              </p:nvSpPr>
              <p:spPr>
                <a:xfrm>
                  <a:off x="896400" y="2922120"/>
                  <a:ext cx="2520000" cy="13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16"/>
                <p:cNvSpPr/>
                <p:nvPr/>
              </p:nvSpPr>
              <p:spPr>
                <a:xfrm>
                  <a:off x="843480" y="2922120"/>
                  <a:ext cx="2626200" cy="13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Group 17"/>
              <p:cNvGrpSpPr/>
              <p:nvPr/>
            </p:nvGrpSpPr>
            <p:grpSpPr>
              <a:xfrm>
                <a:off x="3470040" y="2922120"/>
                <a:ext cx="4600440" cy="1374480"/>
                <a:chOff x="3470040" y="2922120"/>
                <a:chExt cx="4600440" cy="1374480"/>
              </a:xfrm>
            </p:grpSpPr>
            <p:sp>
              <p:nvSpPr>
                <p:cNvPr id="798" name="Rectangle 18"/>
                <p:cNvSpPr/>
                <p:nvPr/>
              </p:nvSpPr>
              <p:spPr>
                <a:xfrm>
                  <a:off x="3523320" y="2922120"/>
                  <a:ext cx="4493520" cy="13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lign, background, bgcolor, border, bordercolor, bordercolordark, bordercolorlight cellpading, cellspacing,  class, cols, dir, frame, height, hspace, id,  lang, nowrap,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onclick, ondblclick, onkeydown, onkeypress, onkeyup, onmousedown, onmousemove, onmouseout, onmouseover, onmouseup,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rules, style, summary,  title, valign, vspace, width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19"/>
                <p:cNvSpPr/>
                <p:nvPr/>
              </p:nvSpPr>
              <p:spPr>
                <a:xfrm>
                  <a:off x="3470040" y="2922120"/>
                  <a:ext cx="4600440" cy="13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Group 20"/>
              <p:cNvGrpSpPr/>
              <p:nvPr/>
            </p:nvGrpSpPr>
            <p:grpSpPr>
              <a:xfrm>
                <a:off x="843480" y="4296960"/>
                <a:ext cx="2626200" cy="651240"/>
                <a:chOff x="843480" y="4296960"/>
                <a:chExt cx="2626200" cy="651240"/>
              </a:xfrm>
            </p:grpSpPr>
            <p:sp>
              <p:nvSpPr>
                <p:cNvPr id="801" name="Rectangle 21"/>
                <p:cNvSpPr/>
                <p:nvPr/>
              </p:nvSpPr>
              <p:spPr>
                <a:xfrm>
                  <a:off x="896400" y="4296960"/>
                  <a:ext cx="2520000" cy="65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22"/>
                <p:cNvSpPr/>
                <p:nvPr/>
              </p:nvSpPr>
              <p:spPr>
                <a:xfrm>
                  <a:off x="843480" y="4296960"/>
                  <a:ext cx="2626200" cy="65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Group 23"/>
              <p:cNvGrpSpPr/>
              <p:nvPr/>
            </p:nvGrpSpPr>
            <p:grpSpPr>
              <a:xfrm>
                <a:off x="3470040" y="4296960"/>
                <a:ext cx="4600440" cy="651240"/>
                <a:chOff x="3470040" y="4296960"/>
                <a:chExt cx="4600440" cy="651240"/>
              </a:xfrm>
            </p:grpSpPr>
            <p:sp>
              <p:nvSpPr>
                <p:cNvPr id="804" name="Rectangle 24"/>
                <p:cNvSpPr/>
                <p:nvPr/>
              </p:nvSpPr>
              <p:spPr>
                <a:xfrm>
                  <a:off x="3523320" y="4296960"/>
                  <a:ext cx="4493520" cy="65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Tabulka musí být zapouzdřena pomocí značek &lt;table&gt;  a &lt;/table&gt;.  se používá vžd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25"/>
                <p:cNvSpPr/>
                <p:nvPr/>
              </p:nvSpPr>
              <p:spPr>
                <a:xfrm>
                  <a:off x="3470040" y="4296960"/>
                  <a:ext cx="4600440" cy="65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6" name="Rectangle 26"/>
            <p:cNvSpPr/>
            <p:nvPr/>
          </p:nvSpPr>
          <p:spPr>
            <a:xfrm>
              <a:off x="838080" y="1905120"/>
              <a:ext cx="7238880" cy="3047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9D4F-E7DE-4DD3-B322-A81C7AA947AB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Times New Roman"/>
              </a:rPr>
              <a:t>Table atribu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Verdana"/>
              </a:rPr>
              <a:t>&lt;</a:t>
            </a: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table border=”číslo” cellpadding=”číslo” cellspacing=”číslo” width=”číslo” &gt;     vlastní tabulka &lt;/table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64c"/>
                </a:solidFill>
                <a:latin typeface="Verdana"/>
              </a:rPr>
              <a:t>border=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 specifikuje šířku rámečku v px. Pokud je uvedena nula, rámeček se neobjeví. Implicitně 0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64c"/>
                </a:solidFill>
                <a:latin typeface="Verdana"/>
              </a:rPr>
              <a:t>cellpadding=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 určuje vzdálenost obsahu tabulky od okraje. Implicitní hodnota 1 px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64c"/>
                </a:solidFill>
                <a:latin typeface="Verdana"/>
              </a:rPr>
              <a:t>cellspacing=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 určuje mezeru mezi buňkami. Implicitní hodnota 2 px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64c"/>
                </a:solidFill>
                <a:latin typeface="Verdana"/>
              </a:rPr>
              <a:t>width=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 šířka tabulky v px nebo v % (100%, znamená přes celou obrazovku)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CD59-5A62-4646-8E5A-0BE42738FF06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Mezery mezi buňkami </a:t>
            </a:r>
            <a:br>
              <a:rPr sz="4400"/>
            </a:b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a uvnitř buně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12" name="Picture 3" descr="cellsppad"/>
          <p:cNvPicPr/>
          <p:nvPr/>
        </p:nvPicPr>
        <p:blipFill>
          <a:blip r:embed="rId2"/>
          <a:stretch/>
        </p:blipFill>
        <p:spPr>
          <a:xfrm>
            <a:off x="2666880" y="1905120"/>
            <a:ext cx="332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D85D-738B-4621-8F62-A5A350BEB901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Značka &lt;tr&gt; (Table Record)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15" name="Group 3"/>
          <p:cNvGrpSpPr/>
          <p:nvPr/>
        </p:nvGrpSpPr>
        <p:grpSpPr>
          <a:xfrm>
            <a:off x="990720" y="2133720"/>
            <a:ext cx="7086240" cy="2590560"/>
            <a:chOff x="990720" y="2133720"/>
            <a:chExt cx="7086240" cy="2590560"/>
          </a:xfrm>
        </p:grpSpPr>
        <p:grpSp>
          <p:nvGrpSpPr>
            <p:cNvPr id="816" name="Group 4"/>
            <p:cNvGrpSpPr/>
            <p:nvPr/>
          </p:nvGrpSpPr>
          <p:grpSpPr>
            <a:xfrm>
              <a:off x="996120" y="2136600"/>
              <a:ext cx="7074720" cy="2583720"/>
              <a:chOff x="996120" y="2136600"/>
              <a:chExt cx="7074720" cy="2583720"/>
            </a:xfrm>
          </p:grpSpPr>
          <p:grpSp>
            <p:nvGrpSpPr>
              <p:cNvPr id="817" name="Group 5"/>
              <p:cNvGrpSpPr/>
              <p:nvPr/>
            </p:nvGrpSpPr>
            <p:grpSpPr>
              <a:xfrm>
                <a:off x="996120" y="2136600"/>
                <a:ext cx="7074720" cy="411120"/>
                <a:chOff x="996120" y="2136600"/>
                <a:chExt cx="7074720" cy="411120"/>
              </a:xfrm>
            </p:grpSpPr>
            <p:sp>
              <p:nvSpPr>
                <p:cNvPr id="818" name="Rectangle 6"/>
                <p:cNvSpPr/>
                <p:nvPr/>
              </p:nvSpPr>
              <p:spPr>
                <a:xfrm>
                  <a:off x="1047960" y="2136600"/>
                  <a:ext cx="69703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tr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7"/>
                <p:cNvSpPr/>
                <p:nvPr/>
              </p:nvSpPr>
              <p:spPr>
                <a:xfrm>
                  <a:off x="996120" y="2136600"/>
                  <a:ext cx="707472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Group 8"/>
              <p:cNvGrpSpPr/>
              <p:nvPr/>
            </p:nvGrpSpPr>
            <p:grpSpPr>
              <a:xfrm>
                <a:off x="996120" y="2547720"/>
                <a:ext cx="2570760" cy="411120"/>
                <a:chOff x="996120" y="2547720"/>
                <a:chExt cx="2570760" cy="411120"/>
              </a:xfrm>
            </p:grpSpPr>
            <p:sp>
              <p:nvSpPr>
                <p:cNvPr id="821" name="Rectangle 9"/>
                <p:cNvSpPr/>
                <p:nvPr/>
              </p:nvSpPr>
              <p:spPr>
                <a:xfrm>
                  <a:off x="1047960" y="2547720"/>
                  <a:ext cx="246708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0"/>
                <p:cNvSpPr/>
                <p:nvPr/>
              </p:nvSpPr>
              <p:spPr>
                <a:xfrm>
                  <a:off x="996120" y="2547720"/>
                  <a:ext cx="257076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Group 11"/>
              <p:cNvGrpSpPr/>
              <p:nvPr/>
            </p:nvGrpSpPr>
            <p:grpSpPr>
              <a:xfrm>
                <a:off x="3567240" y="2547720"/>
                <a:ext cx="4503600" cy="411120"/>
                <a:chOff x="3567240" y="2547720"/>
                <a:chExt cx="4503600" cy="411120"/>
              </a:xfrm>
            </p:grpSpPr>
            <p:sp>
              <p:nvSpPr>
                <p:cNvPr id="824" name="Rectangle 12"/>
                <p:cNvSpPr/>
                <p:nvPr/>
              </p:nvSpPr>
              <p:spPr>
                <a:xfrm>
                  <a:off x="3619440" y="2547720"/>
                  <a:ext cx="43988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řádek tabulky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13"/>
                <p:cNvSpPr/>
                <p:nvPr/>
              </p:nvSpPr>
              <p:spPr>
                <a:xfrm>
                  <a:off x="3567240" y="2547720"/>
                  <a:ext cx="45036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Group 14"/>
              <p:cNvGrpSpPr/>
              <p:nvPr/>
            </p:nvGrpSpPr>
            <p:grpSpPr>
              <a:xfrm>
                <a:off x="996120" y="2958840"/>
                <a:ext cx="2570760" cy="1115280"/>
                <a:chOff x="996120" y="2958840"/>
                <a:chExt cx="2570760" cy="1115280"/>
              </a:xfrm>
            </p:grpSpPr>
            <p:sp>
              <p:nvSpPr>
                <p:cNvPr id="827" name="Rectangle 15"/>
                <p:cNvSpPr/>
                <p:nvPr/>
              </p:nvSpPr>
              <p:spPr>
                <a:xfrm>
                  <a:off x="1047960" y="2958840"/>
                  <a:ext cx="2467080" cy="11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16"/>
                <p:cNvSpPr/>
                <p:nvPr/>
              </p:nvSpPr>
              <p:spPr>
                <a:xfrm>
                  <a:off x="996120" y="2958840"/>
                  <a:ext cx="2570760" cy="11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Group 17"/>
              <p:cNvGrpSpPr/>
              <p:nvPr/>
            </p:nvGrpSpPr>
            <p:grpSpPr>
              <a:xfrm>
                <a:off x="3567240" y="2958840"/>
                <a:ext cx="4503600" cy="1115280"/>
                <a:chOff x="3567240" y="2958840"/>
                <a:chExt cx="4503600" cy="1115280"/>
              </a:xfrm>
            </p:grpSpPr>
            <p:sp>
              <p:nvSpPr>
                <p:cNvPr id="830" name="Rectangle 18"/>
                <p:cNvSpPr/>
                <p:nvPr/>
              </p:nvSpPr>
              <p:spPr>
                <a:xfrm>
                  <a:off x="3619440" y="2958840"/>
                  <a:ext cx="4398840" cy="11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lign, bgcolor, bordercolor, bordercolordark, bordercolorlight char, charoff, class, dir, id,  lang, nowrap,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onclick, ondblclick, onkeydown, onkeypress, onkeyup, onmousedown, onmousemove, onmouseout, onmouseover, onmouseup,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style, title, valign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19"/>
                <p:cNvSpPr/>
                <p:nvPr/>
              </p:nvSpPr>
              <p:spPr>
                <a:xfrm>
                  <a:off x="3567240" y="2958840"/>
                  <a:ext cx="4503600" cy="11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Group 20"/>
              <p:cNvGrpSpPr/>
              <p:nvPr/>
            </p:nvGrpSpPr>
            <p:grpSpPr>
              <a:xfrm>
                <a:off x="996120" y="4074480"/>
                <a:ext cx="2570760" cy="645840"/>
                <a:chOff x="996120" y="4074480"/>
                <a:chExt cx="2570760" cy="645840"/>
              </a:xfrm>
            </p:grpSpPr>
            <p:sp>
              <p:nvSpPr>
                <p:cNvPr id="833" name="Rectangle 21"/>
                <p:cNvSpPr/>
                <p:nvPr/>
              </p:nvSpPr>
              <p:spPr>
                <a:xfrm>
                  <a:off x="1047960" y="4074480"/>
                  <a:ext cx="246708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22"/>
                <p:cNvSpPr/>
                <p:nvPr/>
              </p:nvSpPr>
              <p:spPr>
                <a:xfrm>
                  <a:off x="996120" y="4074480"/>
                  <a:ext cx="257076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Group 23"/>
              <p:cNvGrpSpPr/>
              <p:nvPr/>
            </p:nvGrpSpPr>
            <p:grpSpPr>
              <a:xfrm>
                <a:off x="3567240" y="4074480"/>
                <a:ext cx="4503600" cy="645840"/>
                <a:chOff x="3567240" y="4074480"/>
                <a:chExt cx="4503600" cy="645840"/>
              </a:xfrm>
            </p:grpSpPr>
            <p:sp>
              <p:nvSpPr>
                <p:cNvPr id="836" name="Rectangle 24"/>
                <p:cNvSpPr/>
                <p:nvPr/>
              </p:nvSpPr>
              <p:spPr>
                <a:xfrm>
                  <a:off x="3619440" y="4074480"/>
                  <a:ext cx="439884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V rámci značky &lt;tr&gt; se popisují jednotlivé buňky tabulky pomocí značek &lt;td&gt; nebo &lt;th&gt;. Koncová značka &lt;/tr&gt; nemusí být uvedena.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25"/>
                <p:cNvSpPr/>
                <p:nvPr/>
              </p:nvSpPr>
              <p:spPr>
                <a:xfrm>
                  <a:off x="3567240" y="4074480"/>
                  <a:ext cx="450360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8" name="Rectangle 26"/>
            <p:cNvSpPr/>
            <p:nvPr/>
          </p:nvSpPr>
          <p:spPr>
            <a:xfrm>
              <a:off x="990720" y="2133720"/>
              <a:ext cx="7086240" cy="2590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D5EE-276B-4C54-BBFE-A142C9967A93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Značky &lt;th&gt; a &lt;td&gt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1" name="Group 3"/>
          <p:cNvGrpSpPr/>
          <p:nvPr/>
        </p:nvGrpSpPr>
        <p:grpSpPr>
          <a:xfrm>
            <a:off x="762120" y="1752480"/>
            <a:ext cx="7467120" cy="3886200"/>
            <a:chOff x="762120" y="1752480"/>
            <a:chExt cx="7467120" cy="3886200"/>
          </a:xfrm>
        </p:grpSpPr>
        <p:grpSp>
          <p:nvGrpSpPr>
            <p:cNvPr id="842" name="Group 4"/>
            <p:cNvGrpSpPr/>
            <p:nvPr/>
          </p:nvGrpSpPr>
          <p:grpSpPr>
            <a:xfrm>
              <a:off x="767880" y="1756440"/>
              <a:ext cx="7454880" cy="3877200"/>
              <a:chOff x="767880" y="1756440"/>
              <a:chExt cx="7454880" cy="3877200"/>
            </a:xfrm>
          </p:grpSpPr>
          <p:grpSp>
            <p:nvGrpSpPr>
              <p:cNvPr id="843" name="Group 5"/>
              <p:cNvGrpSpPr/>
              <p:nvPr/>
            </p:nvGrpSpPr>
            <p:grpSpPr>
              <a:xfrm>
                <a:off x="767880" y="1756440"/>
                <a:ext cx="7454880" cy="590040"/>
                <a:chOff x="767880" y="1756440"/>
                <a:chExt cx="7454880" cy="590040"/>
              </a:xfrm>
            </p:grpSpPr>
            <p:sp>
              <p:nvSpPr>
                <p:cNvPr id="844" name="Rectangle 6"/>
                <p:cNvSpPr/>
                <p:nvPr/>
              </p:nvSpPr>
              <p:spPr>
                <a:xfrm>
                  <a:off x="822600" y="1756440"/>
                  <a:ext cx="734508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th&gt;</a:t>
                  </a: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a </a:t>
                  </a: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td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7"/>
                <p:cNvSpPr/>
                <p:nvPr/>
              </p:nvSpPr>
              <p:spPr>
                <a:xfrm>
                  <a:off x="767880" y="1756440"/>
                  <a:ext cx="745488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Group 8"/>
              <p:cNvGrpSpPr/>
              <p:nvPr/>
            </p:nvGrpSpPr>
            <p:grpSpPr>
              <a:xfrm>
                <a:off x="767880" y="2346480"/>
                <a:ext cx="2709000" cy="758520"/>
                <a:chOff x="767880" y="2346480"/>
                <a:chExt cx="2709000" cy="758520"/>
              </a:xfrm>
            </p:grpSpPr>
            <p:sp>
              <p:nvSpPr>
                <p:cNvPr id="847" name="Rectangle 9"/>
                <p:cNvSpPr/>
                <p:nvPr/>
              </p:nvSpPr>
              <p:spPr>
                <a:xfrm>
                  <a:off x="822600" y="2346480"/>
                  <a:ext cx="2599560" cy="75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Rectangle 10"/>
                <p:cNvSpPr/>
                <p:nvPr/>
              </p:nvSpPr>
              <p:spPr>
                <a:xfrm>
                  <a:off x="767880" y="2346480"/>
                  <a:ext cx="2709000" cy="75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Group 11"/>
              <p:cNvGrpSpPr/>
              <p:nvPr/>
            </p:nvGrpSpPr>
            <p:grpSpPr>
              <a:xfrm>
                <a:off x="3477240" y="2346480"/>
                <a:ext cx="4745520" cy="758520"/>
                <a:chOff x="3477240" y="2346480"/>
                <a:chExt cx="4745520" cy="758520"/>
              </a:xfrm>
            </p:grpSpPr>
            <p:sp>
              <p:nvSpPr>
                <p:cNvPr id="850" name="Rectangle 12"/>
                <p:cNvSpPr/>
                <p:nvPr/>
              </p:nvSpPr>
              <p:spPr>
                <a:xfrm>
                  <a:off x="3532320" y="2346480"/>
                  <a:ext cx="4635360" cy="75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&lt;td&gt; definuje datovou buňku 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&lt;th&gt; definuje záhlaví tabulky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Rectangle 13"/>
                <p:cNvSpPr/>
                <p:nvPr/>
              </p:nvSpPr>
              <p:spPr>
                <a:xfrm>
                  <a:off x="3477240" y="2346480"/>
                  <a:ext cx="4745520" cy="75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Group 14"/>
              <p:cNvGrpSpPr/>
              <p:nvPr/>
            </p:nvGrpSpPr>
            <p:grpSpPr>
              <a:xfrm>
                <a:off x="767880" y="3105360"/>
                <a:ext cx="2709000" cy="1600920"/>
                <a:chOff x="767880" y="3105360"/>
                <a:chExt cx="2709000" cy="1600920"/>
              </a:xfrm>
            </p:grpSpPr>
            <p:sp>
              <p:nvSpPr>
                <p:cNvPr id="853" name="Rectangle 15"/>
                <p:cNvSpPr/>
                <p:nvPr/>
              </p:nvSpPr>
              <p:spPr>
                <a:xfrm>
                  <a:off x="822600" y="3105360"/>
                  <a:ext cx="2599560" cy="16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Rectangle 16"/>
                <p:cNvSpPr/>
                <p:nvPr/>
              </p:nvSpPr>
              <p:spPr>
                <a:xfrm>
                  <a:off x="767880" y="3105360"/>
                  <a:ext cx="2709000" cy="160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Group 17"/>
              <p:cNvGrpSpPr/>
              <p:nvPr/>
            </p:nvGrpSpPr>
            <p:grpSpPr>
              <a:xfrm>
                <a:off x="3477240" y="3105360"/>
                <a:ext cx="4745520" cy="1600920"/>
                <a:chOff x="3477240" y="3105360"/>
                <a:chExt cx="4745520" cy="1600920"/>
              </a:xfrm>
            </p:grpSpPr>
            <p:sp>
              <p:nvSpPr>
                <p:cNvPr id="856" name="Rectangle 18"/>
                <p:cNvSpPr/>
                <p:nvPr/>
              </p:nvSpPr>
              <p:spPr>
                <a:xfrm>
                  <a:off x="3532320" y="3105360"/>
                  <a:ext cx="4635360" cy="16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bbr, Align, axis, background, bgcolor, bordercolor, bordercolordark, bordercolorlight char, charoff, class, colspan, dir, headres, height, id,  lang, nowrap,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onclick, ondblclick, onkeydown, onkeypress, onkeyup, onmousedown, onmousemove, onmouseout, onmouseover, onmouseup,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rowspan scope, style, title, valign, width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"/>
                <p:cNvSpPr/>
                <p:nvPr/>
              </p:nvSpPr>
              <p:spPr>
                <a:xfrm>
                  <a:off x="3477240" y="3105360"/>
                  <a:ext cx="4745520" cy="160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20"/>
              <p:cNvGrpSpPr/>
              <p:nvPr/>
            </p:nvGrpSpPr>
            <p:grpSpPr>
              <a:xfrm>
                <a:off x="767880" y="4706280"/>
                <a:ext cx="2709000" cy="927360"/>
                <a:chOff x="767880" y="4706280"/>
                <a:chExt cx="2709000" cy="927360"/>
              </a:xfrm>
            </p:grpSpPr>
            <p:sp>
              <p:nvSpPr>
                <p:cNvPr id="859" name="Rectangle 21"/>
                <p:cNvSpPr/>
                <p:nvPr/>
              </p:nvSpPr>
              <p:spPr>
                <a:xfrm>
                  <a:off x="822600" y="4706280"/>
                  <a:ext cx="2599560" cy="92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22"/>
                <p:cNvSpPr/>
                <p:nvPr/>
              </p:nvSpPr>
              <p:spPr>
                <a:xfrm>
                  <a:off x="767880" y="4706280"/>
                  <a:ext cx="2709000" cy="92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Group 23"/>
              <p:cNvGrpSpPr/>
              <p:nvPr/>
            </p:nvGrpSpPr>
            <p:grpSpPr>
              <a:xfrm>
                <a:off x="3477240" y="4706280"/>
                <a:ext cx="4745520" cy="927360"/>
                <a:chOff x="3477240" y="4706280"/>
                <a:chExt cx="4745520" cy="927360"/>
              </a:xfrm>
            </p:grpSpPr>
            <p:sp>
              <p:nvSpPr>
                <p:cNvPr id="862" name="Rectangle 24"/>
                <p:cNvSpPr/>
                <p:nvPr/>
              </p:nvSpPr>
              <p:spPr>
                <a:xfrm>
                  <a:off x="3532320" y="4706280"/>
                  <a:ext cx="4635360" cy="92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th&gt;</a:t>
                  </a: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je obdobná značka jako </a:t>
                  </a: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td&gt;</a:t>
                  </a: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, pouze text v záhlaví je tučný a implicitně zarovnán na střed.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Koncové značky lze vynechat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25"/>
                <p:cNvSpPr/>
                <p:nvPr/>
              </p:nvSpPr>
              <p:spPr>
                <a:xfrm>
                  <a:off x="3477240" y="4706280"/>
                  <a:ext cx="4745520" cy="92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4" name="Rectangle 26"/>
            <p:cNvSpPr/>
            <p:nvPr/>
          </p:nvSpPr>
          <p:spPr>
            <a:xfrm>
              <a:off x="762120" y="1752480"/>
              <a:ext cx="7467120" cy="3886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EBA5-14C6-4E59-BA11-99C9AE069DDF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264c"/>
                </a:solidFill>
                <a:latin typeface="Times New Roman"/>
              </a:rPr>
              <a:t>Atributy  &lt;td&gt; &lt;th&gt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&lt;td align=center|left|right valign=middle|top|bottom|baseline colspan=”číslo” rowspan=”číslo” &gt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&lt;th&gt;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obdobná značka jako &lt;td&gt; , pouze text v hlavičce je tučný a implicitně zarovnán na střed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colspan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spojuje více buněk vedle sebe v jednu větší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Verdana"/>
              </a:rPr>
              <a:t>rowspan</a:t>
            </a:r>
            <a:r>
              <a:rPr b="0" lang="cs-CZ" sz="2000" spc="-1" strike="noStrike">
                <a:solidFill>
                  <a:srgbClr val="00264c"/>
                </a:solidFill>
                <a:latin typeface="Times New Roman"/>
              </a:rPr>
              <a:t> spojuje aktuální buňku s buňkou (buňkami) v řádku (řádcích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CE72-2BD5-435D-818A-D049B97C3F99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Značka &lt;caption&gt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1371600" y="2514600"/>
            <a:ext cx="7009920" cy="2590920"/>
            <a:chOff x="1371600" y="2514600"/>
            <a:chExt cx="7009920" cy="2590920"/>
          </a:xfrm>
        </p:grpSpPr>
        <p:grpSp>
          <p:nvGrpSpPr>
            <p:cNvPr id="871" name="Group 4"/>
            <p:cNvGrpSpPr/>
            <p:nvPr/>
          </p:nvGrpSpPr>
          <p:grpSpPr>
            <a:xfrm>
              <a:off x="1377000" y="2518200"/>
              <a:ext cx="6998400" cy="2583000"/>
              <a:chOff x="1377000" y="2518200"/>
              <a:chExt cx="6998400" cy="2583000"/>
            </a:xfrm>
          </p:grpSpPr>
          <p:grpSp>
            <p:nvGrpSpPr>
              <p:cNvPr id="872" name="Group 5"/>
              <p:cNvGrpSpPr/>
              <p:nvPr/>
            </p:nvGrpSpPr>
            <p:grpSpPr>
              <a:xfrm>
                <a:off x="1377000" y="2518200"/>
                <a:ext cx="6998400" cy="502200"/>
                <a:chOff x="1377000" y="2518200"/>
                <a:chExt cx="6998400" cy="502200"/>
              </a:xfrm>
            </p:grpSpPr>
            <p:sp>
              <p:nvSpPr>
                <p:cNvPr id="873" name="Rectangle 6"/>
                <p:cNvSpPr/>
                <p:nvPr/>
              </p:nvSpPr>
              <p:spPr>
                <a:xfrm>
                  <a:off x="1428120" y="2518200"/>
                  <a:ext cx="689544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caption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7"/>
                <p:cNvSpPr/>
                <p:nvPr/>
              </p:nvSpPr>
              <p:spPr>
                <a:xfrm>
                  <a:off x="1377000" y="2518200"/>
                  <a:ext cx="699840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Group 8"/>
              <p:cNvGrpSpPr/>
              <p:nvPr/>
            </p:nvGrpSpPr>
            <p:grpSpPr>
              <a:xfrm>
                <a:off x="1377000" y="3020400"/>
                <a:ext cx="2543040" cy="502200"/>
                <a:chOff x="1377000" y="3020400"/>
                <a:chExt cx="2543040" cy="502200"/>
              </a:xfrm>
            </p:grpSpPr>
            <p:sp>
              <p:nvSpPr>
                <p:cNvPr id="876" name="Rectangle 9"/>
                <p:cNvSpPr/>
                <p:nvPr/>
              </p:nvSpPr>
              <p:spPr>
                <a:xfrm>
                  <a:off x="1428120" y="3020400"/>
                  <a:ext cx="244044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10"/>
                <p:cNvSpPr/>
                <p:nvPr/>
              </p:nvSpPr>
              <p:spPr>
                <a:xfrm>
                  <a:off x="1377000" y="3020400"/>
                  <a:ext cx="254304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Group 11"/>
              <p:cNvGrpSpPr/>
              <p:nvPr/>
            </p:nvGrpSpPr>
            <p:grpSpPr>
              <a:xfrm>
                <a:off x="3920400" y="3020400"/>
                <a:ext cx="4455000" cy="502200"/>
                <a:chOff x="3920400" y="3020400"/>
                <a:chExt cx="4455000" cy="502200"/>
              </a:xfrm>
            </p:grpSpPr>
            <p:sp>
              <p:nvSpPr>
                <p:cNvPr id="879" name="Rectangle 12"/>
                <p:cNvSpPr/>
                <p:nvPr/>
              </p:nvSpPr>
              <p:spPr>
                <a:xfrm>
                  <a:off x="3971880" y="3020400"/>
                  <a:ext cx="435132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nadpis tabulky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13"/>
                <p:cNvSpPr/>
                <p:nvPr/>
              </p:nvSpPr>
              <p:spPr>
                <a:xfrm>
                  <a:off x="3920400" y="3020400"/>
                  <a:ext cx="445500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Group 14"/>
              <p:cNvGrpSpPr/>
              <p:nvPr/>
            </p:nvGrpSpPr>
            <p:grpSpPr>
              <a:xfrm>
                <a:off x="1377000" y="3522960"/>
                <a:ext cx="2543040" cy="1076040"/>
                <a:chOff x="1377000" y="3522960"/>
                <a:chExt cx="2543040" cy="1076040"/>
              </a:xfrm>
            </p:grpSpPr>
            <p:sp>
              <p:nvSpPr>
                <p:cNvPr id="882" name="Rectangle 15"/>
                <p:cNvSpPr/>
                <p:nvPr/>
              </p:nvSpPr>
              <p:spPr>
                <a:xfrm>
                  <a:off x="1428120" y="3522960"/>
                  <a:ext cx="2440440" cy="107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16"/>
                <p:cNvSpPr/>
                <p:nvPr/>
              </p:nvSpPr>
              <p:spPr>
                <a:xfrm>
                  <a:off x="1377000" y="3522960"/>
                  <a:ext cx="2543040" cy="107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Group 17"/>
              <p:cNvGrpSpPr/>
              <p:nvPr/>
            </p:nvGrpSpPr>
            <p:grpSpPr>
              <a:xfrm>
                <a:off x="3920400" y="3522960"/>
                <a:ext cx="4455000" cy="1076040"/>
                <a:chOff x="3920400" y="3522960"/>
                <a:chExt cx="4455000" cy="1076040"/>
              </a:xfrm>
            </p:grpSpPr>
            <p:sp>
              <p:nvSpPr>
                <p:cNvPr id="885" name="Rectangle 18"/>
                <p:cNvSpPr/>
                <p:nvPr/>
              </p:nvSpPr>
              <p:spPr>
                <a:xfrm>
                  <a:off x="3971880" y="3522960"/>
                  <a:ext cx="4351320" cy="107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lign, class, dir, id,  lang,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onclick, ondblclick, onkeydown, onkeypress, onkeyup, onmousedown, onmousemove, onmouseout, onmouseover, onmouseup,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style, title, valign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19"/>
                <p:cNvSpPr/>
                <p:nvPr/>
              </p:nvSpPr>
              <p:spPr>
                <a:xfrm>
                  <a:off x="3920400" y="3522960"/>
                  <a:ext cx="4455000" cy="107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" name="Group 20"/>
              <p:cNvGrpSpPr/>
              <p:nvPr/>
            </p:nvGrpSpPr>
            <p:grpSpPr>
              <a:xfrm>
                <a:off x="1377000" y="4599000"/>
                <a:ext cx="2543040" cy="502200"/>
                <a:chOff x="1377000" y="4599000"/>
                <a:chExt cx="2543040" cy="502200"/>
              </a:xfrm>
            </p:grpSpPr>
            <p:sp>
              <p:nvSpPr>
                <p:cNvPr id="888" name="Rectangle 21"/>
                <p:cNvSpPr/>
                <p:nvPr/>
              </p:nvSpPr>
              <p:spPr>
                <a:xfrm>
                  <a:off x="1428120" y="4599000"/>
                  <a:ext cx="244044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22"/>
                <p:cNvSpPr/>
                <p:nvPr/>
              </p:nvSpPr>
              <p:spPr>
                <a:xfrm>
                  <a:off x="1377000" y="4599000"/>
                  <a:ext cx="254304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Group 23"/>
              <p:cNvGrpSpPr/>
              <p:nvPr/>
            </p:nvGrpSpPr>
            <p:grpSpPr>
              <a:xfrm>
                <a:off x="3920400" y="4599000"/>
                <a:ext cx="4455000" cy="502200"/>
                <a:chOff x="3920400" y="4599000"/>
                <a:chExt cx="4455000" cy="502200"/>
              </a:xfrm>
            </p:grpSpPr>
            <p:sp>
              <p:nvSpPr>
                <p:cNvPr id="891" name="Rectangle 24"/>
                <p:cNvSpPr/>
                <p:nvPr/>
              </p:nvSpPr>
              <p:spPr>
                <a:xfrm>
                  <a:off x="3971880" y="4599000"/>
                  <a:ext cx="435132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Koncová značka se nikdy nevynechává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25"/>
                <p:cNvSpPr/>
                <p:nvPr/>
              </p:nvSpPr>
              <p:spPr>
                <a:xfrm>
                  <a:off x="3920400" y="4599000"/>
                  <a:ext cx="445500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3" name="Rectangle 26"/>
            <p:cNvSpPr/>
            <p:nvPr/>
          </p:nvSpPr>
          <p:spPr>
            <a:xfrm>
              <a:off x="1371600" y="2514600"/>
              <a:ext cx="700992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B596-7A87-43D7-96C9-5C02C98A6EE4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Příklad -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oužití atributu colspa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7" name="Rectangle 6"/>
          <p:cNvSpPr/>
          <p:nvPr/>
        </p:nvSpPr>
        <p:spPr>
          <a:xfrm>
            <a:off x="1258920" y="204444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table border="1"&gt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tr&gt;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th colspan="2"&gt;Růže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/th&gt;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/tr&gt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tr&gt;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td&gt;Velkokvěté&lt;/td&gt;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td&gt;Drobnokvěté&lt;/td&gt;</a:t>
            </a:r>
            <a:r>
              <a:rPr b="0" lang="cs-CZ" sz="18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/tr&gt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imes New Roman"/>
              </a:rPr>
              <a:t>&lt;/table&gt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898" name="Picture 12" descr="Tabulka mala"/>
          <p:cNvPicPr/>
          <p:nvPr/>
        </p:nvPicPr>
        <p:blipFill>
          <a:blip r:embed="rId2"/>
          <a:stretch/>
        </p:blipFill>
        <p:spPr>
          <a:xfrm>
            <a:off x="2050920" y="3789360"/>
            <a:ext cx="2449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4017-A30B-4124-8963-D72ACA1C6AC6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Příklad atributy colspan, rowspa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1" name="Rectangle 3"/>
          <p:cNvSpPr/>
          <p:nvPr/>
        </p:nvSpPr>
        <p:spPr>
          <a:xfrm>
            <a:off x="3981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362916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3" name="Rectangle 9"/>
          <p:cNvSpPr/>
          <p:nvPr/>
        </p:nvSpPr>
        <p:spPr>
          <a:xfrm>
            <a:off x="978480" y="1924560"/>
            <a:ext cx="455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able border="1"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r&gt; 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h colspan="4"&gt;Růže&lt;/th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/tr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r align="center"&gt;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d colspan="2"&gt;Velkokvěté&lt;/td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d colspan="2"&gt;Drobnokvěté&lt;/td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/tr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r&gt;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d rowspan="2"&gt;Žluté&lt;/td&gt;    &lt;td&gt;Landora&lt;/td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d rowspan="2"&gt;červené&lt;/td&gt;  &lt;td&gt;Satchmo&lt;/td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/tr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r&gt;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td&gt;Whisky&lt;/td&gt; 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sv-SE" sz="1600" spc="-1" strike="noStrike">
                <a:solidFill>
                  <a:srgbClr val="00264c"/>
                </a:solidFill>
                <a:latin typeface="Times New Roman"/>
              </a:rPr>
              <a:t>&lt;td&gt;Lubecker Rotspon&lt;/td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264c"/>
                </a:solidFill>
                <a:latin typeface="Times New Roman"/>
              </a:rPr>
              <a:t>&lt;/tr&gt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imes New Roman"/>
              </a:rPr>
              <a:t>&lt;/table&gt;</a:t>
            </a:r>
            <a:r>
              <a:rPr b="0" lang="cs-CZ" sz="16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04" name="Picture 10" descr="Tabulka vetsi"/>
          <p:cNvPicPr/>
          <p:nvPr/>
        </p:nvPicPr>
        <p:blipFill>
          <a:blip r:embed="rId2"/>
          <a:stretch/>
        </p:blipFill>
        <p:spPr>
          <a:xfrm>
            <a:off x="5435640" y="2349360"/>
            <a:ext cx="3529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982F-8917-48B8-9493-B13B2ABE28FD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264c"/>
                </a:solidFill>
                <a:latin typeface="Times New Roman"/>
              </a:rPr>
              <a:t>Značky meta - příklad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&lt;meta http-equiv="Content-Type" content="text/html; charset=windows-1250" /&gt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&lt;meta http-equiv="content-language" content="cs" /&gt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&lt;meta name="Author" content="Z Havlicek and &amp;amp;" /&gt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&lt;meta name="Copyright" content="&amp;copy; CULS Prague" /&gt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&lt;meta name="Description" content="Rozarium CZU" /&gt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64c"/>
                </a:solidFill>
                <a:latin typeface="Times New Roman"/>
              </a:rPr>
              <a:t>&lt;meta name="Keywords" content="Rose, Garden, Růže, ČZU" /&gt;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0826-EC6C-422C-8CA8-E67ECE39C974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Příklad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1342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able border="1"&gt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caption&gt; Westerland &lt;/caption&gt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&lt;td&gt;Typ růže&lt;/td&gt; &lt;td&gt; -&lt;/td&gt;  &lt;td&gt;Floribunda. Sadová – parková&lt;/td&gt; &lt;/tr&gt;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  &lt;td rowspan="2"&gt;Původ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d&gt; &lt;td&gt;země&lt;/td&gt;  &lt;td&gt;D&lt;/td&gt; </a:t>
            </a: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r&gt;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   &lt;td&gt;šlechtitel&lt;/td&gt;  &lt;td&gt;Kordes 1969&lt;/td&gt;</a:t>
            </a: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r&gt;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   &lt;td rowspan="3"&gt;Květ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d&gt;  &lt;td&gt;velikost&lt;/td&gt;  &lt;td&gt;8-12 cm&lt;/td&gt; &lt;/tr&gt;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   &lt;td&gt;barva&lt;/td&gt;</a:t>
            </a: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   &lt;td&gt;základní barva oranžová s odstíny meruňkové a lososově růžové&lt;/td&gt;</a:t>
            </a: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r&gt;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     &lt;td&gt;vůně&lt;/td&gt;    &lt;td&gt;silná ****&lt;/td&gt; &lt;/tr&gt;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   &lt;td rowspan="3"&gt;Rostlina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d&gt;  &lt;td&gt;výška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d&gt;  &lt;td&gt;do150cm&lt;/td&gt; &lt;/tr&gt;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   &lt;td&gt;typ&lt;/td&gt;    &lt;td&gt;vzpřímená, košatá&lt;/td&gt;</a:t>
            </a: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r&gt;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   &lt;td&gt;odolnost proti chorobám&lt;/td&gt;    &lt;td&gt;dobrá&lt;/td&gt; &lt;/tr&gt;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   &lt;td &gt;Použití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d&gt;  &lt;td&gt;-&lt;/td&gt;  &lt;td&gt;Soliterní nebo v malých skupinách&lt;/td&gt; 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   &lt;td &gt;Ocenění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d&gt;  &lt;td&gt;-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d&gt;  &lt;td&gt;ADR 1974&lt;/td&gt;</a:t>
            </a: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r&gt;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r&gt; 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td &gt;Foto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d&gt;  &lt;td&gt;&lt;img src="images/DSC_0010 2008.jpg" /&gt;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d&gt;  &lt;td&gt;&lt;img src="images/DSC_M075 2008.jpg" /&gt;&lt;/td&gt;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r&gt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/table&gt;</a:t>
            </a: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597D-7058-4877-BC55-CCBB6C78848B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11" name="Picture 4" descr="Karta Westerland"/>
          <p:cNvPicPr/>
          <p:nvPr/>
        </p:nvPicPr>
        <p:blipFill>
          <a:blip r:embed="rId2"/>
          <a:stretch/>
        </p:blipFill>
        <p:spPr>
          <a:xfrm>
            <a:off x="824040" y="476280"/>
            <a:ext cx="7995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806C-1A26-46EF-8BF4-B0074A41D411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Times New Roman"/>
              </a:rPr>
              <a:t>Značka titl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1905120"/>
          <a:ext cx="7773840" cy="3197160"/>
        </p:xfrm>
        <a:graphic>
          <a:graphicData uri="http://schemas.openxmlformats.org/drawingml/2006/table">
            <a:tbl>
              <a:tblPr/>
              <a:tblGrid>
                <a:gridCol w="2792520"/>
                <a:gridCol w="4981320"/>
              </a:tblGrid>
              <a:tr h="41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264c"/>
                          </a:solidFill>
                          <a:latin typeface="Courier New"/>
                          <a:ea typeface="Times New Roman"/>
                        </a:rPr>
                        <a:t>&lt;title&gt;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Funkce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definuje název dokumentu, který je zobrazován prohlížečem jako název dokumentu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Atributy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dir</a:t>
                      </a:r>
                      <a:r>
                        <a:rPr b="0" lang="cs-CZ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cs-CZ" sz="2000" spc="-1" strike="noStrike">
                          <a:solidFill>
                            <a:srgbClr val="00264c"/>
                          </a:solidFill>
                          <a:latin typeface="Arial Unicode MS"/>
                          <a:ea typeface="Times New Roman"/>
                        </a:rPr>
                        <a:t>lang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Poznámky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V rámci dokumentu se používá tato značka pouze jednou. Slova v rámci této značky je třeba dobře zvolit, např. podle nich se potom nazývají záložky (oblíbené položky) v prohlížečích.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022C-8F5A-47D4-B73B-54E59688F92F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Times New Roman"/>
              </a:rPr>
              <a:t>Značky pro bloky text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7" name="Group 24"/>
          <p:cNvGrpSpPr/>
          <p:nvPr/>
        </p:nvGrpSpPr>
        <p:grpSpPr>
          <a:xfrm>
            <a:off x="755640" y="1700280"/>
            <a:ext cx="7703280" cy="2017440"/>
            <a:chOff x="755640" y="1700280"/>
            <a:chExt cx="7703280" cy="2017440"/>
          </a:xfrm>
        </p:grpSpPr>
        <p:grpSp>
          <p:nvGrpSpPr>
            <p:cNvPr id="188" name="Group 11"/>
            <p:cNvGrpSpPr/>
            <p:nvPr/>
          </p:nvGrpSpPr>
          <p:grpSpPr>
            <a:xfrm>
              <a:off x="755640" y="1700280"/>
              <a:ext cx="7703280" cy="504360"/>
              <a:chOff x="755640" y="1700280"/>
              <a:chExt cx="7703280" cy="504360"/>
            </a:xfrm>
          </p:grpSpPr>
          <p:sp>
            <p:nvSpPr>
              <p:cNvPr id="189" name="Rectangle 3"/>
              <p:cNvSpPr/>
              <p:nvPr/>
            </p:nvSpPr>
            <p:spPr>
              <a:xfrm>
                <a:off x="812160" y="1700280"/>
                <a:ext cx="758988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64c"/>
                    </a:solidFill>
                    <a:latin typeface="Verdana"/>
                    <a:ea typeface="Times New Roman"/>
                  </a:rPr>
                  <a:t>&lt;p&gt;</a:t>
                </a: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755640" y="1700280"/>
                <a:ext cx="7703280" cy="504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13"/>
            <p:cNvGrpSpPr/>
            <p:nvPr/>
          </p:nvGrpSpPr>
          <p:grpSpPr>
            <a:xfrm>
              <a:off x="755640" y="2204640"/>
              <a:ext cx="2799000" cy="504360"/>
              <a:chOff x="755640" y="2204640"/>
              <a:chExt cx="2799000" cy="504360"/>
            </a:xfrm>
          </p:grpSpPr>
          <p:sp>
            <p:nvSpPr>
              <p:cNvPr id="192" name="Rectangle 4"/>
              <p:cNvSpPr/>
              <p:nvPr/>
            </p:nvSpPr>
            <p:spPr>
              <a:xfrm>
                <a:off x="812160" y="2204640"/>
                <a:ext cx="268596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264c"/>
                    </a:solidFill>
                    <a:latin typeface="Times New Roman"/>
                    <a:ea typeface="Times New Roman"/>
                  </a:rPr>
                  <a:t>Funkce 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3" name="Rectangle 12"/>
              <p:cNvSpPr/>
              <p:nvPr/>
            </p:nvSpPr>
            <p:spPr>
              <a:xfrm>
                <a:off x="755640" y="2204640"/>
                <a:ext cx="2799000" cy="504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15"/>
            <p:cNvGrpSpPr/>
            <p:nvPr/>
          </p:nvGrpSpPr>
          <p:grpSpPr>
            <a:xfrm>
              <a:off x="3555000" y="2204640"/>
              <a:ext cx="4903560" cy="504360"/>
              <a:chOff x="3555000" y="2204640"/>
              <a:chExt cx="4903560" cy="50436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3611880" y="2204640"/>
                <a:ext cx="478944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64c"/>
                    </a:solidFill>
                    <a:latin typeface="Times New Roman"/>
                    <a:ea typeface="Times New Roman"/>
                  </a:rPr>
                  <a:t>definuje odstavec textu</a:t>
                </a: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6" name="Rectangle 14"/>
              <p:cNvSpPr/>
              <p:nvPr/>
            </p:nvSpPr>
            <p:spPr>
              <a:xfrm>
                <a:off x="3555000" y="2204640"/>
                <a:ext cx="4903560" cy="504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17"/>
            <p:cNvGrpSpPr/>
            <p:nvPr/>
          </p:nvGrpSpPr>
          <p:grpSpPr>
            <a:xfrm>
              <a:off x="755640" y="2709000"/>
              <a:ext cx="2799000" cy="504360"/>
              <a:chOff x="755640" y="2709000"/>
              <a:chExt cx="2799000" cy="504360"/>
            </a:xfrm>
          </p:grpSpPr>
          <p:sp>
            <p:nvSpPr>
              <p:cNvPr id="198" name="Rectangle 6"/>
              <p:cNvSpPr/>
              <p:nvPr/>
            </p:nvSpPr>
            <p:spPr>
              <a:xfrm>
                <a:off x="812160" y="2709000"/>
                <a:ext cx="268596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264c"/>
                    </a:solidFill>
                    <a:latin typeface="Times New Roman"/>
                    <a:ea typeface="Times New Roman"/>
                  </a:rPr>
                  <a:t>Atributy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9" name="Rectangle 16"/>
              <p:cNvSpPr/>
              <p:nvPr/>
            </p:nvSpPr>
            <p:spPr>
              <a:xfrm>
                <a:off x="755640" y="2709000"/>
                <a:ext cx="2799000" cy="504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19"/>
            <p:cNvGrpSpPr/>
            <p:nvPr/>
          </p:nvGrpSpPr>
          <p:grpSpPr>
            <a:xfrm>
              <a:off x="3555000" y="2709000"/>
              <a:ext cx="4903560" cy="504360"/>
              <a:chOff x="3555000" y="2709000"/>
              <a:chExt cx="4903560" cy="504360"/>
            </a:xfrm>
          </p:grpSpPr>
          <p:sp>
            <p:nvSpPr>
              <p:cNvPr id="201" name="Rectangle 7"/>
              <p:cNvSpPr/>
              <p:nvPr/>
            </p:nvSpPr>
            <p:spPr>
              <a:xfrm>
                <a:off x="3611880" y="2709000"/>
                <a:ext cx="478944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264c"/>
                    </a:solidFill>
                    <a:latin typeface="Times New Roman"/>
                    <a:ea typeface="Times New Roman"/>
                  </a:rPr>
                  <a:t>16 základních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02" name="Rectangle 18"/>
              <p:cNvSpPr/>
              <p:nvPr/>
            </p:nvSpPr>
            <p:spPr>
              <a:xfrm>
                <a:off x="3555000" y="2709000"/>
                <a:ext cx="4903560" cy="504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21"/>
            <p:cNvGrpSpPr/>
            <p:nvPr/>
          </p:nvGrpSpPr>
          <p:grpSpPr>
            <a:xfrm>
              <a:off x="755640" y="3213360"/>
              <a:ext cx="2799000" cy="504360"/>
              <a:chOff x="755640" y="3213360"/>
              <a:chExt cx="2799000" cy="504360"/>
            </a:xfrm>
          </p:grpSpPr>
          <p:sp>
            <p:nvSpPr>
              <p:cNvPr id="204" name="Rectangle 8"/>
              <p:cNvSpPr/>
              <p:nvPr/>
            </p:nvSpPr>
            <p:spPr>
              <a:xfrm>
                <a:off x="812160" y="3213360"/>
                <a:ext cx="268596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264c"/>
                    </a:solidFill>
                    <a:latin typeface="Times New Roman"/>
                    <a:ea typeface="Times New Roman"/>
                  </a:rPr>
                  <a:t>Poznámky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755640" y="3213360"/>
                <a:ext cx="2799000" cy="504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23"/>
            <p:cNvGrpSpPr/>
            <p:nvPr/>
          </p:nvGrpSpPr>
          <p:grpSpPr>
            <a:xfrm>
              <a:off x="3555000" y="3213360"/>
              <a:ext cx="4903560" cy="504360"/>
              <a:chOff x="3555000" y="3213360"/>
              <a:chExt cx="4903560" cy="504360"/>
            </a:xfrm>
          </p:grpSpPr>
          <p:sp>
            <p:nvSpPr>
              <p:cNvPr id="207" name="Rectangle 9"/>
              <p:cNvSpPr/>
              <p:nvPr/>
            </p:nvSpPr>
            <p:spPr>
              <a:xfrm>
                <a:off x="3611880" y="3213360"/>
                <a:ext cx="478944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264c"/>
                    </a:solidFill>
                    <a:latin typeface="Times New Roman"/>
                  </a:rPr>
                  <a:t>Zajišťuje přechod na nový řádek a vynechání jednoho řádku před odstavcem. </a:t>
                </a:r>
                <a:endParaRPr b="0" lang="en-US" sz="1400" spc="-1" strike="noStrike">
                  <a:solidFill>
                    <a:srgbClr val="00264c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08" name="Rectangle 22"/>
              <p:cNvSpPr/>
              <p:nvPr/>
            </p:nvSpPr>
            <p:spPr>
              <a:xfrm>
                <a:off x="3555000" y="3213360"/>
                <a:ext cx="4903560" cy="504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50"/>
          <p:cNvGrpSpPr/>
          <p:nvPr/>
        </p:nvGrpSpPr>
        <p:grpSpPr>
          <a:xfrm>
            <a:off x="755640" y="4221000"/>
            <a:ext cx="7561080" cy="1872000"/>
            <a:chOff x="755640" y="4221000"/>
            <a:chExt cx="7561080" cy="1872000"/>
          </a:xfrm>
        </p:grpSpPr>
        <p:grpSp>
          <p:nvGrpSpPr>
            <p:cNvPr id="210" name="Group 48"/>
            <p:cNvGrpSpPr/>
            <p:nvPr/>
          </p:nvGrpSpPr>
          <p:grpSpPr>
            <a:xfrm>
              <a:off x="761400" y="4223880"/>
              <a:ext cx="7548840" cy="1865160"/>
              <a:chOff x="761400" y="4223880"/>
              <a:chExt cx="7548840" cy="1865160"/>
            </a:xfrm>
          </p:grpSpPr>
          <p:grpSp>
            <p:nvGrpSpPr>
              <p:cNvPr id="211" name="Group 35"/>
              <p:cNvGrpSpPr/>
              <p:nvPr/>
            </p:nvGrpSpPr>
            <p:grpSpPr>
              <a:xfrm>
                <a:off x="761400" y="4223880"/>
                <a:ext cx="7548840" cy="435240"/>
                <a:chOff x="761400" y="4223880"/>
                <a:chExt cx="7548840" cy="435240"/>
              </a:xfrm>
            </p:grpSpPr>
            <p:sp>
              <p:nvSpPr>
                <p:cNvPr id="212" name="Rectangle 27"/>
                <p:cNvSpPr/>
                <p:nvPr/>
              </p:nvSpPr>
              <p:spPr>
                <a:xfrm>
                  <a:off x="816840" y="4223880"/>
                  <a:ext cx="743760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div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34"/>
                <p:cNvSpPr/>
                <p:nvPr/>
              </p:nvSpPr>
              <p:spPr>
                <a:xfrm>
                  <a:off x="761400" y="4223880"/>
                  <a:ext cx="7548840" cy="43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37"/>
              <p:cNvGrpSpPr/>
              <p:nvPr/>
            </p:nvGrpSpPr>
            <p:grpSpPr>
              <a:xfrm>
                <a:off x="761400" y="4659120"/>
                <a:ext cx="2743200" cy="435240"/>
                <a:chOff x="761400" y="4659120"/>
                <a:chExt cx="2743200" cy="435240"/>
              </a:xfrm>
            </p:grpSpPr>
            <p:sp>
              <p:nvSpPr>
                <p:cNvPr id="215" name="Rectangle 28"/>
                <p:cNvSpPr/>
                <p:nvPr/>
              </p:nvSpPr>
              <p:spPr>
                <a:xfrm>
                  <a:off x="816840" y="4659120"/>
                  <a:ext cx="26323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36"/>
                <p:cNvSpPr/>
                <p:nvPr/>
              </p:nvSpPr>
              <p:spPr>
                <a:xfrm>
                  <a:off x="761400" y="4659120"/>
                  <a:ext cx="2743200" cy="43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Group 39"/>
              <p:cNvGrpSpPr/>
              <p:nvPr/>
            </p:nvGrpSpPr>
            <p:grpSpPr>
              <a:xfrm>
                <a:off x="3504960" y="4659120"/>
                <a:ext cx="4805280" cy="435240"/>
                <a:chOff x="3504960" y="4659120"/>
                <a:chExt cx="4805280" cy="435240"/>
              </a:xfrm>
            </p:grpSpPr>
            <p:sp>
              <p:nvSpPr>
                <p:cNvPr id="218" name="Rectangle 29"/>
                <p:cNvSpPr/>
                <p:nvPr/>
              </p:nvSpPr>
              <p:spPr>
                <a:xfrm>
                  <a:off x="3560760" y="4659120"/>
                  <a:ext cx="469368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blok textu</a:t>
                  </a:r>
                  <a:r>
                    <a:rPr b="0" lang="cs-CZ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– vytváří „kontejner“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38"/>
                <p:cNvSpPr/>
                <p:nvPr/>
              </p:nvSpPr>
              <p:spPr>
                <a:xfrm>
                  <a:off x="3504960" y="4659120"/>
                  <a:ext cx="4805280" cy="43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Group 41"/>
              <p:cNvGrpSpPr/>
              <p:nvPr/>
            </p:nvGrpSpPr>
            <p:grpSpPr>
              <a:xfrm>
                <a:off x="761400" y="5094360"/>
                <a:ext cx="2743200" cy="435240"/>
                <a:chOff x="761400" y="5094360"/>
                <a:chExt cx="2743200" cy="435240"/>
              </a:xfrm>
            </p:grpSpPr>
            <p:sp>
              <p:nvSpPr>
                <p:cNvPr id="221" name="Rectangle 30"/>
                <p:cNvSpPr/>
                <p:nvPr/>
              </p:nvSpPr>
              <p:spPr>
                <a:xfrm>
                  <a:off x="816840" y="5094360"/>
                  <a:ext cx="26323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40"/>
                <p:cNvSpPr/>
                <p:nvPr/>
              </p:nvSpPr>
              <p:spPr>
                <a:xfrm>
                  <a:off x="761400" y="5094360"/>
                  <a:ext cx="2743200" cy="43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Group 43"/>
              <p:cNvGrpSpPr/>
              <p:nvPr/>
            </p:nvGrpSpPr>
            <p:grpSpPr>
              <a:xfrm>
                <a:off x="3504960" y="5094360"/>
                <a:ext cx="4805280" cy="435240"/>
                <a:chOff x="3504960" y="5094360"/>
                <a:chExt cx="4805280" cy="435240"/>
              </a:xfrm>
            </p:grpSpPr>
            <p:sp>
              <p:nvSpPr>
                <p:cNvPr id="224" name="Rectangle 31"/>
                <p:cNvSpPr/>
                <p:nvPr/>
              </p:nvSpPr>
              <p:spPr>
                <a:xfrm>
                  <a:off x="3560760" y="5094360"/>
                  <a:ext cx="469368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6 základních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42"/>
                <p:cNvSpPr/>
                <p:nvPr/>
              </p:nvSpPr>
              <p:spPr>
                <a:xfrm>
                  <a:off x="3504960" y="5094360"/>
                  <a:ext cx="4805280" cy="43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45"/>
              <p:cNvGrpSpPr/>
              <p:nvPr/>
            </p:nvGrpSpPr>
            <p:grpSpPr>
              <a:xfrm>
                <a:off x="761400" y="5529600"/>
                <a:ext cx="2743200" cy="559440"/>
                <a:chOff x="761400" y="5529600"/>
                <a:chExt cx="2743200" cy="559440"/>
              </a:xfrm>
            </p:grpSpPr>
            <p:sp>
              <p:nvSpPr>
                <p:cNvPr id="227" name="Rectangle 32"/>
                <p:cNvSpPr/>
                <p:nvPr/>
              </p:nvSpPr>
              <p:spPr>
                <a:xfrm>
                  <a:off x="816840" y="5529600"/>
                  <a:ext cx="263232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44"/>
                <p:cNvSpPr/>
                <p:nvPr/>
              </p:nvSpPr>
              <p:spPr>
                <a:xfrm>
                  <a:off x="761400" y="5529600"/>
                  <a:ext cx="2743200" cy="55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47"/>
              <p:cNvGrpSpPr/>
              <p:nvPr/>
            </p:nvGrpSpPr>
            <p:grpSpPr>
              <a:xfrm>
                <a:off x="3504960" y="5529600"/>
                <a:ext cx="4805280" cy="559440"/>
                <a:chOff x="3504960" y="5529600"/>
                <a:chExt cx="4805280" cy="559440"/>
              </a:xfrm>
            </p:grpSpPr>
            <p:sp>
              <p:nvSpPr>
                <p:cNvPr id="230" name="Rectangle 33"/>
                <p:cNvSpPr/>
                <p:nvPr/>
              </p:nvSpPr>
              <p:spPr>
                <a:xfrm>
                  <a:off x="3560760" y="5529600"/>
                  <a:ext cx="469368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Využívá se při formátování pomocí CSS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46"/>
                <p:cNvSpPr/>
                <p:nvPr/>
              </p:nvSpPr>
              <p:spPr>
                <a:xfrm>
                  <a:off x="3504960" y="5529600"/>
                  <a:ext cx="4805280" cy="55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2" name="Rectangle 49"/>
            <p:cNvSpPr/>
            <p:nvPr/>
          </p:nvSpPr>
          <p:spPr>
            <a:xfrm>
              <a:off x="755640" y="4221000"/>
              <a:ext cx="7561080" cy="1872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B0F2-5EAE-407A-8F71-8E7F38951EAE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Times New Roman"/>
              </a:rPr>
              <a:t>Značky pro nadpis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35" name="Group 28"/>
          <p:cNvGrpSpPr/>
          <p:nvPr/>
        </p:nvGrpSpPr>
        <p:grpSpPr>
          <a:xfrm>
            <a:off x="1554120" y="2054160"/>
            <a:ext cx="6217920" cy="3203280"/>
            <a:chOff x="1554120" y="2054160"/>
            <a:chExt cx="6217920" cy="3203280"/>
          </a:xfrm>
        </p:grpSpPr>
        <p:grpSp>
          <p:nvGrpSpPr>
            <p:cNvPr id="236" name="Group 26"/>
            <p:cNvGrpSpPr/>
            <p:nvPr/>
          </p:nvGrpSpPr>
          <p:grpSpPr>
            <a:xfrm>
              <a:off x="1558800" y="2059560"/>
              <a:ext cx="6207840" cy="3191760"/>
              <a:chOff x="1558800" y="2059560"/>
              <a:chExt cx="6207840" cy="3191760"/>
            </a:xfrm>
          </p:grpSpPr>
          <p:grpSp>
            <p:nvGrpSpPr>
              <p:cNvPr id="237" name="Group 13"/>
              <p:cNvGrpSpPr/>
              <p:nvPr/>
            </p:nvGrpSpPr>
            <p:grpSpPr>
              <a:xfrm>
                <a:off x="1558800" y="2059560"/>
                <a:ext cx="6207840" cy="744480"/>
                <a:chOff x="1558800" y="2059560"/>
                <a:chExt cx="6207840" cy="744480"/>
              </a:xfrm>
            </p:grpSpPr>
            <p:sp>
              <p:nvSpPr>
                <p:cNvPr id="238" name="Rectangle 5"/>
                <p:cNvSpPr/>
                <p:nvPr/>
              </p:nvSpPr>
              <p:spPr>
                <a:xfrm>
                  <a:off x="1604160" y="2059560"/>
                  <a:ext cx="6116400" cy="74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lt;h1&gt;,&lt;h2&gt;,&lt;h3&gt;,&lt;h4&gt;,&lt;h5&gt;,&lt;h6&gt;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Rectangle 12"/>
                <p:cNvSpPr/>
                <p:nvPr/>
              </p:nvSpPr>
              <p:spPr>
                <a:xfrm>
                  <a:off x="1558800" y="2059560"/>
                  <a:ext cx="6207840" cy="74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Group 15"/>
              <p:cNvGrpSpPr/>
              <p:nvPr/>
            </p:nvGrpSpPr>
            <p:grpSpPr>
              <a:xfrm>
                <a:off x="1558800" y="2804400"/>
                <a:ext cx="2255760" cy="744480"/>
                <a:chOff x="1558800" y="2804400"/>
                <a:chExt cx="2255760" cy="744480"/>
              </a:xfrm>
            </p:grpSpPr>
            <p:sp>
              <p:nvSpPr>
                <p:cNvPr id="241" name="Rectangle 6"/>
                <p:cNvSpPr/>
                <p:nvPr/>
              </p:nvSpPr>
              <p:spPr>
                <a:xfrm>
                  <a:off x="1604160" y="2804400"/>
                  <a:ext cx="2164680" cy="74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nkce: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Rectangle 14"/>
                <p:cNvSpPr/>
                <p:nvPr/>
              </p:nvSpPr>
              <p:spPr>
                <a:xfrm>
                  <a:off x="1558800" y="2804400"/>
                  <a:ext cx="2255760" cy="74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17"/>
              <p:cNvGrpSpPr/>
              <p:nvPr/>
            </p:nvGrpSpPr>
            <p:grpSpPr>
              <a:xfrm>
                <a:off x="3814920" y="2804400"/>
                <a:ext cx="3951720" cy="744480"/>
                <a:chOff x="3814920" y="2804400"/>
                <a:chExt cx="3951720" cy="744480"/>
              </a:xfrm>
            </p:grpSpPr>
            <p:sp>
              <p:nvSpPr>
                <p:cNvPr id="244" name="Rectangle 7"/>
                <p:cNvSpPr/>
                <p:nvPr/>
              </p:nvSpPr>
              <p:spPr>
                <a:xfrm>
                  <a:off x="3860640" y="2804400"/>
                  <a:ext cx="3859920" cy="74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definuje jednu ze šesti možných úrovní nadpisu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Rectangle 16"/>
                <p:cNvSpPr/>
                <p:nvPr/>
              </p:nvSpPr>
              <p:spPr>
                <a:xfrm>
                  <a:off x="3814920" y="2804400"/>
                  <a:ext cx="3951720" cy="74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Group 19"/>
              <p:cNvGrpSpPr/>
              <p:nvPr/>
            </p:nvGrpSpPr>
            <p:grpSpPr>
              <a:xfrm>
                <a:off x="1558800" y="3549240"/>
                <a:ext cx="2255760" cy="744480"/>
                <a:chOff x="1558800" y="3549240"/>
                <a:chExt cx="2255760" cy="744480"/>
              </a:xfrm>
            </p:grpSpPr>
            <p:sp>
              <p:nvSpPr>
                <p:cNvPr id="247" name="Rectangle 8"/>
                <p:cNvSpPr/>
                <p:nvPr/>
              </p:nvSpPr>
              <p:spPr>
                <a:xfrm>
                  <a:off x="1604160" y="3549240"/>
                  <a:ext cx="2164680" cy="74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tribut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8"/>
                <p:cNvSpPr/>
                <p:nvPr/>
              </p:nvSpPr>
              <p:spPr>
                <a:xfrm>
                  <a:off x="1558800" y="3549240"/>
                  <a:ext cx="2255760" cy="74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21"/>
              <p:cNvGrpSpPr/>
              <p:nvPr/>
            </p:nvGrpSpPr>
            <p:grpSpPr>
              <a:xfrm>
                <a:off x="3814920" y="3549240"/>
                <a:ext cx="3951720" cy="744480"/>
                <a:chOff x="3814920" y="3549240"/>
                <a:chExt cx="3951720" cy="744480"/>
              </a:xfrm>
            </p:grpSpPr>
            <p:sp>
              <p:nvSpPr>
                <p:cNvPr id="250" name="Rectangle 9"/>
                <p:cNvSpPr/>
                <p:nvPr/>
              </p:nvSpPr>
              <p:spPr>
                <a:xfrm>
                  <a:off x="3860640" y="3549240"/>
                  <a:ext cx="3859920" cy="74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6 základních</a:t>
                  </a:r>
                  <a:r>
                    <a:rPr b="0" lang="cs-CZ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a </a:t>
                  </a:r>
                  <a:r>
                    <a:rPr b="0" lang="en-US" sz="1600" spc="-1" strike="noStrike">
                      <a:solidFill>
                        <a:srgbClr val="00264c"/>
                      </a:solidFill>
                      <a:latin typeface="Times New Roman"/>
                    </a:rPr>
                    <a:t>align (depreciated)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20"/>
                <p:cNvSpPr/>
                <p:nvPr/>
              </p:nvSpPr>
              <p:spPr>
                <a:xfrm>
                  <a:off x="3814920" y="3549240"/>
                  <a:ext cx="3951720" cy="74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23"/>
              <p:cNvGrpSpPr/>
              <p:nvPr/>
            </p:nvGrpSpPr>
            <p:grpSpPr>
              <a:xfrm>
                <a:off x="1558800" y="4294080"/>
                <a:ext cx="2255760" cy="957240"/>
                <a:chOff x="1558800" y="4294080"/>
                <a:chExt cx="2255760" cy="957240"/>
              </a:xfrm>
            </p:grpSpPr>
            <p:sp>
              <p:nvSpPr>
                <p:cNvPr id="253" name="Rectangle 10"/>
                <p:cNvSpPr/>
                <p:nvPr/>
              </p:nvSpPr>
              <p:spPr>
                <a:xfrm>
                  <a:off x="1604160" y="4294080"/>
                  <a:ext cx="216468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oznámky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Rectangle 22"/>
                <p:cNvSpPr/>
                <p:nvPr/>
              </p:nvSpPr>
              <p:spPr>
                <a:xfrm>
                  <a:off x="1558800" y="4294080"/>
                  <a:ext cx="225576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25"/>
              <p:cNvGrpSpPr/>
              <p:nvPr/>
            </p:nvGrpSpPr>
            <p:grpSpPr>
              <a:xfrm>
                <a:off x="3814920" y="4294080"/>
                <a:ext cx="3951720" cy="957240"/>
                <a:chOff x="3814920" y="4294080"/>
                <a:chExt cx="3951720" cy="957240"/>
              </a:xfrm>
            </p:grpSpPr>
            <p:sp>
              <p:nvSpPr>
                <p:cNvPr id="256" name="Rectangle 11"/>
                <p:cNvSpPr/>
                <p:nvPr/>
              </p:nvSpPr>
              <p:spPr>
                <a:xfrm>
                  <a:off x="3860640" y="4294080"/>
                  <a:ext cx="385992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Využívají se pro SEO a pro zlepšení přístupnosti.</a:t>
                  </a: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Rectangle 24"/>
                <p:cNvSpPr/>
                <p:nvPr/>
              </p:nvSpPr>
              <p:spPr>
                <a:xfrm>
                  <a:off x="3814920" y="4294080"/>
                  <a:ext cx="395172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Rectangle 27"/>
            <p:cNvSpPr/>
            <p:nvPr/>
          </p:nvSpPr>
          <p:spPr>
            <a:xfrm>
              <a:off x="1554120" y="2054160"/>
              <a:ext cx="6217920" cy="3203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Zástupný symbol pro číslo snímku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0F8E-42D3-479A-AFD5-F6E62EBFA329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Příkla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&lt;h1 align="center"&gt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&lt;img src="images/rose_QE.jpg" alt="Rose" width="60" height="40" /&gt;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Welcome to the CULS Rose Garde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&lt;a href="czechversion.html"&gt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&lt;img src="images/czech.gif" alt="vlajka cz" ="56" height="40" /&gt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&lt;/a&gt;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&lt;/h1&gt;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Zástupný symbol pro číslo snímku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1FAB-DCD7-4F54-B4EF-D330B4B3ABA2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33"/>
                </a:solidFill>
                <a:latin typeface="Times New Roman"/>
              </a:rPr>
              <a:t>Speciální znak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4" name="Group 68"/>
          <p:cNvGrpSpPr/>
          <p:nvPr/>
        </p:nvGrpSpPr>
        <p:grpSpPr>
          <a:xfrm>
            <a:off x="1066680" y="2133720"/>
            <a:ext cx="7250040" cy="3382920"/>
            <a:chOff x="1066680" y="2133720"/>
            <a:chExt cx="7250040" cy="3382920"/>
          </a:xfrm>
        </p:grpSpPr>
        <p:grpSp>
          <p:nvGrpSpPr>
            <p:cNvPr id="265" name="Group 66"/>
            <p:cNvGrpSpPr/>
            <p:nvPr/>
          </p:nvGrpSpPr>
          <p:grpSpPr>
            <a:xfrm>
              <a:off x="1072440" y="2136960"/>
              <a:ext cx="7237800" cy="3375360"/>
              <a:chOff x="1072440" y="2136960"/>
              <a:chExt cx="7237800" cy="3375360"/>
            </a:xfrm>
          </p:grpSpPr>
          <p:grpSp>
            <p:nvGrpSpPr>
              <p:cNvPr id="266" name="Group 25"/>
              <p:cNvGrpSpPr/>
              <p:nvPr/>
            </p:nvGrpSpPr>
            <p:grpSpPr>
              <a:xfrm>
                <a:off x="1072440" y="2136960"/>
                <a:ext cx="2187720" cy="482040"/>
                <a:chOff x="1072440" y="2136960"/>
                <a:chExt cx="2187720" cy="482040"/>
              </a:xfrm>
            </p:grpSpPr>
            <p:sp>
              <p:nvSpPr>
                <p:cNvPr id="267" name="Rectangle 3"/>
                <p:cNvSpPr/>
                <p:nvPr/>
              </p:nvSpPr>
              <p:spPr>
                <a:xfrm>
                  <a:off x="1127520" y="2136960"/>
                  <a:ext cx="20768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Symbol angl.</a:t>
                  </a: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24"/>
                <p:cNvSpPr/>
                <p:nvPr/>
              </p:nvSpPr>
              <p:spPr>
                <a:xfrm>
                  <a:off x="1072440" y="2136960"/>
                  <a:ext cx="218772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27"/>
              <p:cNvGrpSpPr/>
              <p:nvPr/>
            </p:nvGrpSpPr>
            <p:grpSpPr>
              <a:xfrm>
                <a:off x="3260520" y="2136960"/>
                <a:ext cx="1682640" cy="482040"/>
                <a:chOff x="3260520" y="2136960"/>
                <a:chExt cx="1682640" cy="482040"/>
              </a:xfrm>
            </p:grpSpPr>
            <p:sp>
              <p:nvSpPr>
                <p:cNvPr id="270" name="Rectangle 4"/>
                <p:cNvSpPr/>
                <p:nvPr/>
              </p:nvSpPr>
              <p:spPr>
                <a:xfrm>
                  <a:off x="3315600" y="2136960"/>
                  <a:ext cx="157212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Zápis 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26"/>
                <p:cNvSpPr/>
                <p:nvPr/>
              </p:nvSpPr>
              <p:spPr>
                <a:xfrm>
                  <a:off x="3260520" y="2136960"/>
                  <a:ext cx="1682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29"/>
              <p:cNvGrpSpPr/>
              <p:nvPr/>
            </p:nvGrpSpPr>
            <p:grpSpPr>
              <a:xfrm>
                <a:off x="4943880" y="2136960"/>
                <a:ext cx="3366360" cy="482040"/>
                <a:chOff x="4943880" y="2136960"/>
                <a:chExt cx="3366360" cy="482040"/>
              </a:xfrm>
            </p:grpSpPr>
            <p:sp>
              <p:nvSpPr>
                <p:cNvPr id="273" name="Rectangle 5"/>
                <p:cNvSpPr/>
                <p:nvPr/>
              </p:nvSpPr>
              <p:spPr>
                <a:xfrm>
                  <a:off x="4998960" y="2136960"/>
                  <a:ext cx="325548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říklad</a:t>
                  </a: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28"/>
                <p:cNvSpPr/>
                <p:nvPr/>
              </p:nvSpPr>
              <p:spPr>
                <a:xfrm>
                  <a:off x="4943880" y="2136960"/>
                  <a:ext cx="336636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31"/>
              <p:cNvGrpSpPr/>
              <p:nvPr/>
            </p:nvGrpSpPr>
            <p:grpSpPr>
              <a:xfrm>
                <a:off x="1072440" y="2619000"/>
                <a:ext cx="2187720" cy="482040"/>
                <a:chOff x="1072440" y="2619000"/>
                <a:chExt cx="2187720" cy="482040"/>
              </a:xfrm>
            </p:grpSpPr>
            <p:sp>
              <p:nvSpPr>
                <p:cNvPr id="276" name="Rectangle 6"/>
                <p:cNvSpPr/>
                <p:nvPr/>
              </p:nvSpPr>
              <p:spPr>
                <a:xfrm>
                  <a:off x="1127520" y="2619000"/>
                  <a:ext cx="20768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Copyright sign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30"/>
                <p:cNvSpPr/>
                <p:nvPr/>
              </p:nvSpPr>
              <p:spPr>
                <a:xfrm>
                  <a:off x="1072440" y="2619000"/>
                  <a:ext cx="218772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33"/>
              <p:cNvGrpSpPr/>
              <p:nvPr/>
            </p:nvGrpSpPr>
            <p:grpSpPr>
              <a:xfrm>
                <a:off x="3260520" y="2619000"/>
                <a:ext cx="1682640" cy="482040"/>
                <a:chOff x="3260520" y="2619000"/>
                <a:chExt cx="1682640" cy="482040"/>
              </a:xfrm>
            </p:grpSpPr>
            <p:sp>
              <p:nvSpPr>
                <p:cNvPr id="279" name="Rectangle 7"/>
                <p:cNvSpPr/>
                <p:nvPr/>
              </p:nvSpPr>
              <p:spPr>
                <a:xfrm>
                  <a:off x="3315600" y="2619000"/>
                  <a:ext cx="157212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amp;copy;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32"/>
                <p:cNvSpPr/>
                <p:nvPr/>
              </p:nvSpPr>
              <p:spPr>
                <a:xfrm>
                  <a:off x="3260520" y="2619000"/>
                  <a:ext cx="1682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35"/>
              <p:cNvGrpSpPr/>
              <p:nvPr/>
            </p:nvGrpSpPr>
            <p:grpSpPr>
              <a:xfrm>
                <a:off x="4943880" y="2619000"/>
                <a:ext cx="3366360" cy="482040"/>
                <a:chOff x="4943880" y="2619000"/>
                <a:chExt cx="3366360" cy="482040"/>
              </a:xfrm>
            </p:grpSpPr>
            <p:sp>
              <p:nvSpPr>
                <p:cNvPr id="282" name="Rectangle 8"/>
                <p:cNvSpPr/>
                <p:nvPr/>
              </p:nvSpPr>
              <p:spPr>
                <a:xfrm>
                  <a:off x="4998960" y="2619000"/>
                  <a:ext cx="325548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Copyright © 2000 ČZU v Praze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34"/>
                <p:cNvSpPr/>
                <p:nvPr/>
              </p:nvSpPr>
              <p:spPr>
                <a:xfrm>
                  <a:off x="4943880" y="2619000"/>
                  <a:ext cx="336636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37"/>
              <p:cNvGrpSpPr/>
              <p:nvPr/>
            </p:nvGrpSpPr>
            <p:grpSpPr>
              <a:xfrm>
                <a:off x="1072440" y="3101040"/>
                <a:ext cx="2187720" cy="482040"/>
                <a:chOff x="1072440" y="3101040"/>
                <a:chExt cx="2187720" cy="482040"/>
              </a:xfrm>
            </p:grpSpPr>
            <p:sp>
              <p:nvSpPr>
                <p:cNvPr id="285" name="Rectangle 9"/>
                <p:cNvSpPr/>
                <p:nvPr/>
              </p:nvSpPr>
              <p:spPr>
                <a:xfrm>
                  <a:off x="1127520" y="3101040"/>
                  <a:ext cx="20768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Registrated trademark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36"/>
                <p:cNvSpPr/>
                <p:nvPr/>
              </p:nvSpPr>
              <p:spPr>
                <a:xfrm>
                  <a:off x="1072440" y="3101040"/>
                  <a:ext cx="218772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39"/>
              <p:cNvGrpSpPr/>
              <p:nvPr/>
            </p:nvGrpSpPr>
            <p:grpSpPr>
              <a:xfrm>
                <a:off x="3260520" y="3101040"/>
                <a:ext cx="1682640" cy="482040"/>
                <a:chOff x="3260520" y="3101040"/>
                <a:chExt cx="1682640" cy="482040"/>
              </a:xfrm>
            </p:grpSpPr>
            <p:sp>
              <p:nvSpPr>
                <p:cNvPr id="288" name="Rectangle 10"/>
                <p:cNvSpPr/>
                <p:nvPr/>
              </p:nvSpPr>
              <p:spPr>
                <a:xfrm>
                  <a:off x="3315600" y="3101040"/>
                  <a:ext cx="157212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amp;reg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38"/>
                <p:cNvSpPr/>
                <p:nvPr/>
              </p:nvSpPr>
              <p:spPr>
                <a:xfrm>
                  <a:off x="3260520" y="3101040"/>
                  <a:ext cx="1682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41"/>
              <p:cNvGrpSpPr/>
              <p:nvPr/>
            </p:nvGrpSpPr>
            <p:grpSpPr>
              <a:xfrm>
                <a:off x="4943880" y="3101040"/>
                <a:ext cx="3366360" cy="482040"/>
                <a:chOff x="4943880" y="3101040"/>
                <a:chExt cx="3366360" cy="482040"/>
              </a:xfrm>
            </p:grpSpPr>
            <p:sp>
              <p:nvSpPr>
                <p:cNvPr id="291" name="Rectangle 11"/>
                <p:cNvSpPr/>
                <p:nvPr/>
              </p:nvSpPr>
              <p:spPr>
                <a:xfrm>
                  <a:off x="4998960" y="3101040"/>
                  <a:ext cx="325548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MagiCo®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40"/>
                <p:cNvSpPr/>
                <p:nvPr/>
              </p:nvSpPr>
              <p:spPr>
                <a:xfrm>
                  <a:off x="4943880" y="3101040"/>
                  <a:ext cx="336636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43"/>
              <p:cNvGrpSpPr/>
              <p:nvPr/>
            </p:nvGrpSpPr>
            <p:grpSpPr>
              <a:xfrm>
                <a:off x="1072440" y="3583440"/>
                <a:ext cx="2187720" cy="482040"/>
                <a:chOff x="1072440" y="3583440"/>
                <a:chExt cx="2187720" cy="482040"/>
              </a:xfrm>
            </p:grpSpPr>
            <p:sp>
              <p:nvSpPr>
                <p:cNvPr id="294" name="Rectangle 12"/>
                <p:cNvSpPr/>
                <p:nvPr/>
              </p:nvSpPr>
              <p:spPr>
                <a:xfrm>
                  <a:off x="1127520" y="3583440"/>
                  <a:ext cx="20768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Trademark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42"/>
                <p:cNvSpPr/>
                <p:nvPr/>
              </p:nvSpPr>
              <p:spPr>
                <a:xfrm>
                  <a:off x="1072440" y="3583440"/>
                  <a:ext cx="218772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45"/>
              <p:cNvGrpSpPr/>
              <p:nvPr/>
            </p:nvGrpSpPr>
            <p:grpSpPr>
              <a:xfrm>
                <a:off x="3260520" y="3583440"/>
                <a:ext cx="1682640" cy="482040"/>
                <a:chOff x="3260520" y="3583440"/>
                <a:chExt cx="1682640" cy="482040"/>
              </a:xfrm>
            </p:grpSpPr>
            <p:sp>
              <p:nvSpPr>
                <p:cNvPr id="297" name="Rectangle 13"/>
                <p:cNvSpPr/>
                <p:nvPr/>
              </p:nvSpPr>
              <p:spPr>
                <a:xfrm>
                  <a:off x="3315600" y="3583440"/>
                  <a:ext cx="157212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amp;trade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44"/>
                <p:cNvSpPr/>
                <p:nvPr/>
              </p:nvSpPr>
              <p:spPr>
                <a:xfrm>
                  <a:off x="3260520" y="3583440"/>
                  <a:ext cx="1682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47"/>
              <p:cNvGrpSpPr/>
              <p:nvPr/>
            </p:nvGrpSpPr>
            <p:grpSpPr>
              <a:xfrm>
                <a:off x="4943880" y="3583440"/>
                <a:ext cx="3366360" cy="482040"/>
                <a:chOff x="4943880" y="3583440"/>
                <a:chExt cx="3366360" cy="482040"/>
              </a:xfrm>
            </p:grpSpPr>
            <p:sp>
              <p:nvSpPr>
                <p:cNvPr id="300" name="Rectangle 14"/>
                <p:cNvSpPr/>
                <p:nvPr/>
              </p:nvSpPr>
              <p:spPr>
                <a:xfrm>
                  <a:off x="4998960" y="3583440"/>
                  <a:ext cx="325548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Webfarer</a:t>
                  </a:r>
                  <a:r>
                    <a:rPr b="0" lang="en-US" sz="1200" spc="-1" strike="noStrike" baseline="30000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(tm)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46"/>
                <p:cNvSpPr/>
                <p:nvPr/>
              </p:nvSpPr>
              <p:spPr>
                <a:xfrm>
                  <a:off x="4943880" y="3583440"/>
                  <a:ext cx="336636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49"/>
              <p:cNvGrpSpPr/>
              <p:nvPr/>
            </p:nvGrpSpPr>
            <p:grpSpPr>
              <a:xfrm>
                <a:off x="1072440" y="4065480"/>
                <a:ext cx="2187720" cy="482400"/>
                <a:chOff x="1072440" y="4065480"/>
                <a:chExt cx="2187720" cy="482400"/>
              </a:xfrm>
            </p:grpSpPr>
            <p:sp>
              <p:nvSpPr>
                <p:cNvPr id="303" name="Rectangle 15"/>
                <p:cNvSpPr/>
                <p:nvPr/>
              </p:nvSpPr>
              <p:spPr>
                <a:xfrm>
                  <a:off x="1127520" y="4065480"/>
                  <a:ext cx="2076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Less than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48"/>
                <p:cNvSpPr/>
                <p:nvPr/>
              </p:nvSpPr>
              <p:spPr>
                <a:xfrm>
                  <a:off x="1072440" y="4065480"/>
                  <a:ext cx="218772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51"/>
              <p:cNvGrpSpPr/>
              <p:nvPr/>
            </p:nvGrpSpPr>
            <p:grpSpPr>
              <a:xfrm>
                <a:off x="3260520" y="4065480"/>
                <a:ext cx="1682640" cy="482400"/>
                <a:chOff x="3260520" y="4065480"/>
                <a:chExt cx="1682640" cy="482400"/>
              </a:xfrm>
            </p:grpSpPr>
            <p:sp>
              <p:nvSpPr>
                <p:cNvPr id="306" name="Rectangle 16"/>
                <p:cNvSpPr/>
                <p:nvPr/>
              </p:nvSpPr>
              <p:spPr>
                <a:xfrm>
                  <a:off x="3315600" y="4065480"/>
                  <a:ext cx="157212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amp;lt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50"/>
                <p:cNvSpPr/>
                <p:nvPr/>
              </p:nvSpPr>
              <p:spPr>
                <a:xfrm>
                  <a:off x="3260520" y="4065480"/>
                  <a:ext cx="168264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53"/>
              <p:cNvGrpSpPr/>
              <p:nvPr/>
            </p:nvGrpSpPr>
            <p:grpSpPr>
              <a:xfrm>
                <a:off x="4943880" y="4065480"/>
                <a:ext cx="3366360" cy="482400"/>
                <a:chOff x="4943880" y="4065480"/>
                <a:chExt cx="3366360" cy="482400"/>
              </a:xfrm>
            </p:grpSpPr>
            <p:sp>
              <p:nvSpPr>
                <p:cNvPr id="309" name="Rectangle 17"/>
                <p:cNvSpPr/>
                <p:nvPr/>
              </p:nvSpPr>
              <p:spPr>
                <a:xfrm>
                  <a:off x="4998960" y="4065480"/>
                  <a:ext cx="325548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&lt; (jinak se využívá pro značky HTML) 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52"/>
                <p:cNvSpPr/>
                <p:nvPr/>
              </p:nvSpPr>
              <p:spPr>
                <a:xfrm>
                  <a:off x="4943880" y="4065480"/>
                  <a:ext cx="33663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55"/>
              <p:cNvGrpSpPr/>
              <p:nvPr/>
            </p:nvGrpSpPr>
            <p:grpSpPr>
              <a:xfrm>
                <a:off x="1072440" y="4548240"/>
                <a:ext cx="2187720" cy="482040"/>
                <a:chOff x="1072440" y="4548240"/>
                <a:chExt cx="2187720" cy="482040"/>
              </a:xfrm>
            </p:grpSpPr>
            <p:sp>
              <p:nvSpPr>
                <p:cNvPr id="312" name="Rectangle 18"/>
                <p:cNvSpPr/>
                <p:nvPr/>
              </p:nvSpPr>
              <p:spPr>
                <a:xfrm>
                  <a:off x="1127520" y="4548240"/>
                  <a:ext cx="20768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00264c"/>
                      </a:solidFill>
                      <a:latin typeface="Times New Roman"/>
                    </a:rPr>
                    <a:t>nonbreaking space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54"/>
                <p:cNvSpPr/>
                <p:nvPr/>
              </p:nvSpPr>
              <p:spPr>
                <a:xfrm>
                  <a:off x="1072440" y="4548240"/>
                  <a:ext cx="218772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57"/>
              <p:cNvGrpSpPr/>
              <p:nvPr/>
            </p:nvGrpSpPr>
            <p:grpSpPr>
              <a:xfrm>
                <a:off x="3260520" y="4548240"/>
                <a:ext cx="1682640" cy="482040"/>
                <a:chOff x="3260520" y="4548240"/>
                <a:chExt cx="1682640" cy="482040"/>
              </a:xfrm>
            </p:grpSpPr>
            <p:sp>
              <p:nvSpPr>
                <p:cNvPr id="315" name="Rectangle 19"/>
                <p:cNvSpPr/>
                <p:nvPr/>
              </p:nvSpPr>
              <p:spPr>
                <a:xfrm>
                  <a:off x="3315600" y="4548240"/>
                  <a:ext cx="157212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2400" spc="-1" strike="noStrike">
                      <a:solidFill>
                        <a:srgbClr val="00264c"/>
                      </a:solidFill>
                      <a:latin typeface="Times New Roman"/>
                    </a:rPr>
                    <a:t>&amp;nbsp;</a:t>
                  </a: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56"/>
                <p:cNvSpPr/>
                <p:nvPr/>
              </p:nvSpPr>
              <p:spPr>
                <a:xfrm>
                  <a:off x="3260520" y="4548240"/>
                  <a:ext cx="1682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59"/>
              <p:cNvGrpSpPr/>
              <p:nvPr/>
            </p:nvGrpSpPr>
            <p:grpSpPr>
              <a:xfrm>
                <a:off x="4943880" y="4548240"/>
                <a:ext cx="3366360" cy="482040"/>
                <a:chOff x="4943880" y="4548240"/>
                <a:chExt cx="3366360" cy="482040"/>
              </a:xfrm>
            </p:grpSpPr>
            <p:sp>
              <p:nvSpPr>
                <p:cNvPr id="318" name="Rectangle 20"/>
                <p:cNvSpPr/>
                <p:nvPr/>
              </p:nvSpPr>
              <p:spPr>
                <a:xfrm>
                  <a:off x="4998960" y="4548240"/>
                  <a:ext cx="325548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264c"/>
                      </a:solidFill>
                      <a:latin typeface="Times New Roman"/>
                    </a:rPr>
                    <a:t>nezlomitelná mezera </a:t>
                  </a: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58"/>
                <p:cNvSpPr/>
                <p:nvPr/>
              </p:nvSpPr>
              <p:spPr>
                <a:xfrm>
                  <a:off x="4943880" y="4548240"/>
                  <a:ext cx="336636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61"/>
              <p:cNvGrpSpPr/>
              <p:nvPr/>
            </p:nvGrpSpPr>
            <p:grpSpPr>
              <a:xfrm>
                <a:off x="1072440" y="5030280"/>
                <a:ext cx="2187720" cy="482040"/>
                <a:chOff x="1072440" y="5030280"/>
                <a:chExt cx="2187720" cy="482040"/>
              </a:xfrm>
            </p:grpSpPr>
            <p:sp>
              <p:nvSpPr>
                <p:cNvPr id="321" name="Rectangle 21"/>
                <p:cNvSpPr/>
                <p:nvPr/>
              </p:nvSpPr>
              <p:spPr>
                <a:xfrm>
                  <a:off x="1127520" y="5030280"/>
                  <a:ext cx="20768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Ampersand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Rectangle 60"/>
                <p:cNvSpPr/>
                <p:nvPr/>
              </p:nvSpPr>
              <p:spPr>
                <a:xfrm>
                  <a:off x="1072440" y="5030280"/>
                  <a:ext cx="218772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63"/>
              <p:cNvGrpSpPr/>
              <p:nvPr/>
            </p:nvGrpSpPr>
            <p:grpSpPr>
              <a:xfrm>
                <a:off x="3260520" y="5030280"/>
                <a:ext cx="1682640" cy="482040"/>
                <a:chOff x="3260520" y="5030280"/>
                <a:chExt cx="1682640" cy="482040"/>
              </a:xfrm>
            </p:grpSpPr>
            <p:sp>
              <p:nvSpPr>
                <p:cNvPr id="324" name="Rectangle 22"/>
                <p:cNvSpPr/>
                <p:nvPr/>
              </p:nvSpPr>
              <p:spPr>
                <a:xfrm>
                  <a:off x="3315600" y="5030280"/>
                  <a:ext cx="157212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264c"/>
                      </a:solidFill>
                      <a:latin typeface="Verdana"/>
                      <a:ea typeface="Times New Roman"/>
                    </a:rPr>
                    <a:t>&amp;amp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62"/>
                <p:cNvSpPr/>
                <p:nvPr/>
              </p:nvSpPr>
              <p:spPr>
                <a:xfrm>
                  <a:off x="3260520" y="5030280"/>
                  <a:ext cx="1682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65"/>
              <p:cNvGrpSpPr/>
              <p:nvPr/>
            </p:nvGrpSpPr>
            <p:grpSpPr>
              <a:xfrm>
                <a:off x="4943880" y="5030280"/>
                <a:ext cx="3366360" cy="482040"/>
                <a:chOff x="4943880" y="5030280"/>
                <a:chExt cx="3366360" cy="482040"/>
              </a:xfrm>
            </p:grpSpPr>
            <p:sp>
              <p:nvSpPr>
                <p:cNvPr id="327" name="Rectangle 23"/>
                <p:cNvSpPr/>
                <p:nvPr/>
              </p:nvSpPr>
              <p:spPr>
                <a:xfrm>
                  <a:off x="4998960" y="5030280"/>
                  <a:ext cx="325548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&amp;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Rectangle 64"/>
                <p:cNvSpPr/>
                <p:nvPr/>
              </p:nvSpPr>
              <p:spPr>
                <a:xfrm>
                  <a:off x="4943880" y="5030280"/>
                  <a:ext cx="336636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9" name="Rectangle 67"/>
            <p:cNvSpPr/>
            <p:nvPr/>
          </p:nvSpPr>
          <p:spPr>
            <a:xfrm>
              <a:off x="1066680" y="2133720"/>
              <a:ext cx="7250040" cy="3382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5T13:02:45Z</dcterms:created>
  <dc:creator/>
  <dc:description/>
  <dc:language>en-US</dc:language>
  <cp:lastModifiedBy>Zdenek Havlicek </cp:lastModifiedBy>
  <cp:lastPrinted>2000-10-16T05:45:43Z</cp:lastPrinted>
  <dcterms:modified xsi:type="dcterms:W3CDTF">2011-09-16T16:41:26Z</dcterms:modified>
  <cp:revision>43</cp:revision>
  <dc:subject/>
  <dc:title>HTML  úvod</dc:title>
</cp:coreProperties>
</file>